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9ED3-D37D-41C4-AD80-2F668B447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5235-ECC7-46F6-ADF4-BB16F902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D5AC5B-ADC7-4D12-8735-8CC2CEB1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759869-2E5B-44F3-90A3-87B416D5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FD588E-DE05-42D7-B13E-CE85F1A8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7FC53B-FA9E-4057-A469-14335927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631FB3-B272-4BEA-B795-1D8D8BB2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952DB7-5A42-4AA9-B176-F84F8FA1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7D889C-DE4E-4C27-9A15-1EF30170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62A9DA-98AC-4DE8-ADF9-4515BBBA4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3B19C5-6489-4B3F-9B06-4D8A37CE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351304-F408-46FD-A370-3EECDFFE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C7C8-E63F-4FA6-A67A-A945B8EE7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44295A-01F9-4B46-AD15-C48224D6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1638D6-C740-4BA4-9502-1ECF5CAB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00C106-123E-4599-A8FA-67362E64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70A98C-B2FE-4643-BA3A-24F26230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E5FB99-F7CC-4FF6-A291-588091FA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C996F5-AF16-4AAC-A774-BF3FCCC5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9C7DB8-5851-4AA9-87FD-B401BE3F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398F46-E2EC-4435-828D-0B431E51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372DA4-5237-4465-BB44-9421C4A1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2235CB-5B5A-49B5-A252-A23C04CB4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1142-CDB2-4056-AC05-60C97752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D39499-5F8C-4D3B-9B46-FA587CE1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9E92A-9B49-40A0-B6A4-0707D350B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C2CE7-2B68-442B-AD7C-C30757CE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43A40-82BA-4F6D-BDA8-46A66067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2AC05-DA6F-4821-9AEF-569B9137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46F67-FE7B-48D2-8107-724A4917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F0CC8-FC76-477F-AE4D-2B117C2E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471B6-A292-4C82-B87E-ACD86674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9E671-E560-419D-A476-E18A08FB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9F1EA-489A-4EE9-8627-7AB7C2F2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6948-21A5-4A9B-9152-8481C339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1A72C-001F-427E-A4BC-D0C9E855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F931F-0FB7-4E49-994B-13BB4083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A958D-AFCF-43A5-8A34-1C0C7AC64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316932-E0A5-4911-8EDA-7FC42952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FA1B06-C6AD-4684-B9B8-1D1196C9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6D9609-B879-4BD2-B86A-189C54E3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DDD1E9-2389-48B9-8F93-9C66F14D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19B7F4-2F1B-42B5-8C57-EBB4FBFD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F8E726-CF1C-4C34-8EA4-8AABCA9A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A84F41-6461-4715-8058-F6A06322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994E-B982-467C-80D2-CC4DEBDE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A2731D-B8DF-49DB-A556-08C7A720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8A8720-709F-4F50-A453-0A49C3F3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24EB7A-BCF6-4530-A0B0-49A9ABC7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5094CA-A215-4A83-A8DA-DB450FC8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F64685-D858-4BF9-966F-0C4C007BE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8EF3-5A13-471F-BF70-62BA6148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29DD-4A68-4D8F-9347-320947DF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FCA3-F9F3-4479-A836-532F0854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CD58-4DF8-4079-8A22-BDA536CE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EA63-98CA-4A5F-A3BA-512CC8FC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3D88-2520-4434-B989-83A78C48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7771-C948-4490-8763-7588D8E0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54EC-CAFE-4872-8F28-6AF8A3A0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0795-C940-4389-A10D-8E7E3C34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C7B7-4285-443D-889D-A823ED1A6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D60A-88E6-44B0-8C22-75D1470A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CDC9B-CFE7-4215-BEF3-705F264C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45A21-9069-44EA-8219-48C745A1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DA18E-E2F9-46BE-964A-B4199C45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67207-C80C-469D-914B-50A42173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03641-5843-4599-872F-39B6131A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5F5F-918F-4D5C-9C4A-EAF92FD6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D510B-6B9C-4600-B91B-48C40FBE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479C6-1AAD-4397-B679-AE9691DE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38812-1F3D-42EB-965B-8AAC5771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9E6A8-5845-4D78-9D22-8F385C4B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7AA2B-6FF1-4FCB-996E-3655463B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1DFB2-53A7-4319-8F7B-2141EFD53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E5716-C4FB-406E-B681-CA92519D3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EF211-85CF-4F37-98DF-8DAAF668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05816-E02E-4072-B907-2CB74BAC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2FB0A-CF2F-4ABB-B407-F72F5255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C3E3-73B3-43B4-9590-D749A78A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882AA-A3D9-4004-AC18-11E9A7C6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2A002-E087-4F24-85E3-4B4B342B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10E16-24ED-45B6-93D6-BA331588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9A76B-073A-47C7-B657-BCABE676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DFAA1-3F8F-4A32-86F1-BB1B7574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9D658-6FCC-48AC-8E84-2521720B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82BAA-027F-4101-9872-5E6BE5FB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32579-840D-4807-A0B1-317959FDA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FF76F-F991-44FB-83BA-01A9AC5C7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274DD-0E40-4C29-9175-0870B5B42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37A5-CD73-4B28-989B-F2D0DD41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145A2-097B-4757-A57A-8CAFCDAD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4DBA6-A0F0-41EB-831F-6CDC5B8D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A8110-CBDD-4B58-8621-E8FD8F38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95F46-6B6F-4DC1-9BA6-AC0A8F34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63D09-6416-4DE5-A508-843F0A58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F43A2-14C8-49DC-B394-A447141D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CD161-6251-4E4A-A3D0-5AFB46FE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23C39-F2AC-43BD-9E8C-AAC04BA2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706D8-90C5-49C4-9662-B9ED7AD4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C47E1-6EE1-41FB-91D6-BE685F1EB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5CE2-9F82-4F18-87AA-E4FF4F66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04C49-8396-4B57-A26B-FE0D2FF80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EF197-A9E9-4FD4-BDA9-C654C435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B09B0-49DA-4A4A-A834-30102774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1A880-6EB2-43F0-ABDF-46EBEB28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0C29D-8027-48E5-9162-D675FCD5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E78C5-4009-4009-BB03-278D6493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7CEA0-CEE2-442B-97FF-D2F503B1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5873D-E321-42C0-8E9A-F5A9EC13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2D422-E9F5-4E33-ABF8-CC59F650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C95D6-FD78-4C89-8461-E4C2AD2E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41C0-BFCF-4B58-9AA3-64AC4143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96DDE-00E0-431F-B8C1-99D89CE2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47702-0175-4809-A7E3-7D16D28CA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A50D5-9EDA-4767-8F0A-E8CF4EC5A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5BF28-439A-4C5A-B1A9-9BC6E9CF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F3F48-0A1E-43B0-A2FE-18A774CD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38E66-8825-494D-9928-2F818CE8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12670-4824-4068-BB28-742E595B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9B0A3-333F-453B-9F58-F534E14A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98CAB-BB63-42D8-A234-28D0B576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114E7-6004-4473-AEA6-F81504F1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D96D-AF13-4C7A-A5D9-8FCF0DEC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23759-44EE-44B5-BD0D-EB96121E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DB9CD-B12A-4CB7-A65E-3729798A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9A339-494C-43A4-B9C1-EDA45B04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405E5-F999-450E-85C0-613EC0CEA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E76EC-4295-472F-BC63-C40A7952A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3C95F-F117-4D33-8F24-1BAA00A6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57BA4-80EE-4A4D-9BFF-551CC6DA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A5ACB-00DF-4556-9C23-D7B04626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29EB9-C74A-435D-A81D-6A786722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91A45-95CA-4032-BB73-FED897F6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CD59-A957-4AAC-82D6-C5DF53AA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1D41A-9AFA-4611-94D0-83EE7F42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EB25B-89B6-43F5-8F6F-7A8923B9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0657A-A546-41DA-9584-986BA432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5B254-D0B7-4088-9F3A-A09D0C13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B72D3-61BB-4DD3-AA65-C7AC61F6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EE799-1263-4855-9F70-58E81437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BA32F-2044-4227-84C9-C6BB68A60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EEAF7F-A075-4026-9023-176EF99F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3CEC5C-5B26-4E4A-B585-B64F3CA4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29EE7C-7541-4F8D-8238-8E9F8D3A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FFBD-9747-4093-8CE1-893F0E4347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3410-89E5-4A81-BB71-C925716BA7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2E91-98B7-4019-B923-945D2C8479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76D9-C14A-47C3-BEC3-EF40FE4855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8BB6-3A25-4FBB-86F3-37B8104A0B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63C3-5F0D-447E-813C-059CCAE778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7653-1B4A-473C-9431-DFB5CB38DD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C523-5F3A-499C-A37F-231568A002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DF29-A8C5-45DC-8682-7976179944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85A8-10A9-4C20-A3E5-7A2D9C5E30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A33F-6097-4673-86A2-D91463E7F52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10DB-CD35-4981-A1AC-8B90567FDF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b86"/>
                </a:solidFill>
                <a:latin typeface="Georgia"/>
                <a:ea typeface="Arial"/>
              </a:rPr>
              <a:t>THE SUM OF LISA AND GINGER’S AGES IS 15.  THE PRODUCT OF THE AGES IS 56.  IF LISA IS THE OLDER GIRL, HOW MUCH OLDER THAN GINGER IS SHE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Friday, September 4th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ouble Sided Equ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6d + 8 = 4d + 16</a:t>
            </a:r>
            <a:endParaRPr b="0" lang="en-US" sz="5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3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9e – 15 = 12e + 3</a:t>
            </a:r>
            <a:endParaRPr b="0" lang="en-US" sz="5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0" name="Ink 4"/>
          <p:cNvSpPr/>
          <p:nvPr/>
        </p:nvSpPr>
        <p:spPr>
          <a:xfrm>
            <a:off x="384120" y="2143080"/>
            <a:ext cx="312840" cy="1598760"/>
          </a:xfrm>
          <a:custGeom>
            <a:avLst/>
            <a:gdLst/>
            <a:ahLst/>
            <a:rect l="l" t="t" r="r" b="b"/>
            <a:pathLst>
              <a:path w="869" h="4441">
                <a:moveTo>
                  <a:pt x="1538" y="5953"/>
                </a:moveTo>
                <a:cubicBezTo>
                  <a:pt x="1513" y="6010"/>
                  <a:pt x="1489" y="6098"/>
                  <a:pt x="1463" y="6152"/>
                </a:cubicBezTo>
                <a:cubicBezTo>
                  <a:pt x="1430" y="6220"/>
                  <a:pt x="1418" y="6279"/>
                  <a:pt x="1389" y="6350"/>
                </a:cubicBezTo>
                <a:cubicBezTo>
                  <a:pt x="1337" y="6474"/>
                  <a:pt x="1282" y="6592"/>
                  <a:pt x="1240" y="6722"/>
                </a:cubicBezTo>
                <a:cubicBezTo>
                  <a:pt x="1201" y="6845"/>
                  <a:pt x="1188" y="6970"/>
                  <a:pt x="1166" y="7094"/>
                </a:cubicBezTo>
                <a:cubicBezTo>
                  <a:pt x="1141" y="7235"/>
                  <a:pt x="1139" y="7377"/>
                  <a:pt x="1116" y="7516"/>
                </a:cubicBezTo>
                <a:cubicBezTo>
                  <a:pt x="1091" y="7666"/>
                  <a:pt x="1108" y="7812"/>
                  <a:pt x="1091" y="7962"/>
                </a:cubicBezTo>
                <a:cubicBezTo>
                  <a:pt x="1074" y="8112"/>
                  <a:pt x="1071" y="8281"/>
                  <a:pt x="1091" y="8434"/>
                </a:cubicBezTo>
                <a:cubicBezTo>
                  <a:pt x="1111" y="8582"/>
                  <a:pt x="1121" y="8732"/>
                  <a:pt x="1141" y="8880"/>
                </a:cubicBezTo>
                <a:cubicBezTo>
                  <a:pt x="1165" y="9052"/>
                  <a:pt x="1176" y="9232"/>
                  <a:pt x="1215" y="9401"/>
                </a:cubicBezTo>
                <a:cubicBezTo>
                  <a:pt x="1244" y="9529"/>
                  <a:pt x="1299" y="9635"/>
                  <a:pt x="1364" y="9748"/>
                </a:cubicBezTo>
                <a:cubicBezTo>
                  <a:pt x="1424" y="9852"/>
                  <a:pt x="1497" y="9932"/>
                  <a:pt x="1563" y="10021"/>
                </a:cubicBezTo>
                <a:cubicBezTo>
                  <a:pt x="1620" y="10097"/>
                  <a:pt x="1670" y="10146"/>
                  <a:pt x="1736" y="10220"/>
                </a:cubicBezTo>
                <a:cubicBezTo>
                  <a:pt x="1796" y="10288"/>
                  <a:pt x="1829" y="10328"/>
                  <a:pt x="1910" y="10368"/>
                </a:cubicBezTo>
                <a:cubicBezTo>
                  <a:pt x="1933" y="10391"/>
                  <a:pt x="1941" y="10402"/>
                  <a:pt x="1935" y="1036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Ink 5"/>
          <p:cNvSpPr/>
          <p:nvPr/>
        </p:nvSpPr>
        <p:spPr>
          <a:xfrm>
            <a:off x="696960" y="3554280"/>
            <a:ext cx="2571840" cy="723960"/>
          </a:xfrm>
          <a:custGeom>
            <a:avLst/>
            <a:gdLst/>
            <a:ahLst/>
            <a:rect l="l" t="t" r="r" b="b"/>
            <a:pathLst>
              <a:path w="7145" h="2010">
                <a:moveTo>
                  <a:pt x="1935" y="10145"/>
                </a:moveTo>
                <a:cubicBezTo>
                  <a:pt x="1990" y="10190"/>
                  <a:pt x="2051" y="10224"/>
                  <a:pt x="2108" y="10269"/>
                </a:cubicBezTo>
                <a:cubicBezTo>
                  <a:pt x="2150" y="10302"/>
                  <a:pt x="2193" y="10333"/>
                  <a:pt x="2232" y="10368"/>
                </a:cubicBezTo>
                <a:cubicBezTo>
                  <a:pt x="2240" y="10376"/>
                  <a:pt x="2249" y="10385"/>
                  <a:pt x="2257" y="10393"/>
                </a:cubicBezTo>
                <a:cubicBezTo>
                  <a:pt x="2208" y="10443"/>
                  <a:pt x="2158" y="10471"/>
                  <a:pt x="2108" y="10517"/>
                </a:cubicBezTo>
                <a:cubicBezTo>
                  <a:pt x="2087" y="10536"/>
                  <a:pt x="2017" y="10614"/>
                  <a:pt x="2009" y="10641"/>
                </a:cubicBezTo>
                <a:cubicBezTo>
                  <a:pt x="2009" y="10683"/>
                  <a:pt x="2017" y="10699"/>
                  <a:pt x="1984" y="10691"/>
                </a:cubicBezTo>
              </a:path>
              <a:path w="7145" h="2010">
                <a:moveTo>
                  <a:pt x="2877" y="10046"/>
                </a:moveTo>
                <a:cubicBezTo>
                  <a:pt x="2870" y="10172"/>
                  <a:pt x="2859" y="10234"/>
                  <a:pt x="2803" y="10344"/>
                </a:cubicBezTo>
                <a:cubicBezTo>
                  <a:pt x="2769" y="10412"/>
                  <a:pt x="2733" y="10466"/>
                  <a:pt x="2729" y="10542"/>
                </a:cubicBezTo>
                <a:cubicBezTo>
                  <a:pt x="2725" y="10615"/>
                  <a:pt x="2722" y="10681"/>
                  <a:pt x="2753" y="10740"/>
                </a:cubicBezTo>
                <a:cubicBezTo>
                  <a:pt x="2776" y="10784"/>
                  <a:pt x="2824" y="10854"/>
                  <a:pt x="2877" y="10864"/>
                </a:cubicBezTo>
                <a:cubicBezTo>
                  <a:pt x="2953" y="10879"/>
                  <a:pt x="3020" y="10865"/>
                  <a:pt x="3076" y="10815"/>
                </a:cubicBezTo>
                <a:cubicBezTo>
                  <a:pt x="3119" y="10777"/>
                  <a:pt x="3164" y="10730"/>
                  <a:pt x="3150" y="10666"/>
                </a:cubicBezTo>
                <a:cubicBezTo>
                  <a:pt x="3140" y="10620"/>
                  <a:pt x="3104" y="10577"/>
                  <a:pt x="3076" y="10542"/>
                </a:cubicBezTo>
                <a:cubicBezTo>
                  <a:pt x="3035" y="10552"/>
                  <a:pt x="2941" y="10596"/>
                  <a:pt x="2927" y="10641"/>
                </a:cubicBezTo>
                <a:cubicBezTo>
                  <a:pt x="2927" y="10703"/>
                  <a:pt x="2917" y="10718"/>
                  <a:pt x="2952" y="10740"/>
                </a:cubicBezTo>
              </a:path>
              <a:path w="7145" h="2010">
                <a:moveTo>
                  <a:pt x="3671" y="10517"/>
                </a:moveTo>
                <a:cubicBezTo>
                  <a:pt x="3625" y="10471"/>
                  <a:pt x="3613" y="10447"/>
                  <a:pt x="3547" y="10443"/>
                </a:cubicBezTo>
                <a:cubicBezTo>
                  <a:pt x="3474" y="10439"/>
                  <a:pt x="3428" y="10442"/>
                  <a:pt x="3373" y="10492"/>
                </a:cubicBezTo>
                <a:cubicBezTo>
                  <a:pt x="3327" y="10534"/>
                  <a:pt x="3303" y="10554"/>
                  <a:pt x="3299" y="10616"/>
                </a:cubicBezTo>
                <a:cubicBezTo>
                  <a:pt x="3294" y="10708"/>
                  <a:pt x="3375" y="10793"/>
                  <a:pt x="3473" y="10765"/>
                </a:cubicBezTo>
                <a:cubicBezTo>
                  <a:pt x="3506" y="10755"/>
                  <a:pt x="3576" y="10699"/>
                  <a:pt x="3597" y="10666"/>
                </a:cubicBezTo>
                <a:cubicBezTo>
                  <a:pt x="3638" y="10601"/>
                  <a:pt x="3653" y="10537"/>
                  <a:pt x="3671" y="10468"/>
                </a:cubicBezTo>
                <a:cubicBezTo>
                  <a:pt x="3691" y="10392"/>
                  <a:pt x="3742" y="10342"/>
                  <a:pt x="3746" y="10269"/>
                </a:cubicBezTo>
                <a:cubicBezTo>
                  <a:pt x="3749" y="10214"/>
                  <a:pt x="3762" y="10200"/>
                  <a:pt x="3770" y="10145"/>
                </a:cubicBezTo>
                <a:cubicBezTo>
                  <a:pt x="3722" y="10207"/>
                  <a:pt x="3721" y="10242"/>
                  <a:pt x="3721" y="10319"/>
                </a:cubicBezTo>
                <a:cubicBezTo>
                  <a:pt x="3721" y="10400"/>
                  <a:pt x="3691" y="10427"/>
                  <a:pt x="3721" y="10517"/>
                </a:cubicBezTo>
                <a:cubicBezTo>
                  <a:pt x="3742" y="10581"/>
                  <a:pt x="3741" y="10690"/>
                  <a:pt x="3795" y="10740"/>
                </a:cubicBezTo>
                <a:cubicBezTo>
                  <a:pt x="3812" y="10748"/>
                  <a:pt x="3828" y="10757"/>
                  <a:pt x="3845" y="10765"/>
                </a:cubicBezTo>
              </a:path>
              <a:path w="7145" h="2010">
                <a:moveTo>
                  <a:pt x="4242" y="10195"/>
                </a:moveTo>
                <a:cubicBezTo>
                  <a:pt x="4233" y="10265"/>
                  <a:pt x="4217" y="10320"/>
                  <a:pt x="4217" y="10393"/>
                </a:cubicBezTo>
                <a:cubicBezTo>
                  <a:pt x="4217" y="10491"/>
                  <a:pt x="4190" y="10656"/>
                  <a:pt x="4242" y="10740"/>
                </a:cubicBezTo>
              </a:path>
              <a:path w="7145" h="2010">
                <a:moveTo>
                  <a:pt x="4068" y="10368"/>
                </a:moveTo>
                <a:cubicBezTo>
                  <a:pt x="4168" y="10393"/>
                  <a:pt x="4263" y="10409"/>
                  <a:pt x="4366" y="10418"/>
                </a:cubicBezTo>
              </a:path>
              <a:path w="7145" h="2010">
                <a:moveTo>
                  <a:pt x="5035" y="10220"/>
                </a:moveTo>
                <a:cubicBezTo>
                  <a:pt x="4954" y="10138"/>
                  <a:pt x="4930" y="10145"/>
                  <a:pt x="4812" y="10145"/>
                </a:cubicBezTo>
                <a:cubicBezTo>
                  <a:pt x="4751" y="10145"/>
                  <a:pt x="4753" y="10155"/>
                  <a:pt x="4713" y="10195"/>
                </a:cubicBezTo>
                <a:cubicBezTo>
                  <a:pt x="4743" y="10244"/>
                  <a:pt x="4748" y="10292"/>
                  <a:pt x="4787" y="10344"/>
                </a:cubicBezTo>
                <a:cubicBezTo>
                  <a:pt x="4835" y="10407"/>
                  <a:pt x="4897" y="10446"/>
                  <a:pt x="4936" y="10517"/>
                </a:cubicBezTo>
                <a:cubicBezTo>
                  <a:pt x="4987" y="10608"/>
                  <a:pt x="5004" y="10682"/>
                  <a:pt x="4936" y="10765"/>
                </a:cubicBezTo>
                <a:cubicBezTo>
                  <a:pt x="4893" y="10817"/>
                  <a:pt x="4831" y="10789"/>
                  <a:pt x="4787" y="10765"/>
                </a:cubicBezTo>
                <a:cubicBezTo>
                  <a:pt x="4737" y="10738"/>
                  <a:pt x="4672" y="10710"/>
                  <a:pt x="4688" y="10641"/>
                </a:cubicBezTo>
                <a:cubicBezTo>
                  <a:pt x="4703" y="10577"/>
                  <a:pt x="4754" y="10542"/>
                  <a:pt x="4787" y="10492"/>
                </a:cubicBezTo>
                <a:cubicBezTo>
                  <a:pt x="4829" y="10427"/>
                  <a:pt x="4895" y="10382"/>
                  <a:pt x="4936" y="10319"/>
                </a:cubicBezTo>
                <a:cubicBezTo>
                  <a:pt x="4966" y="10273"/>
                  <a:pt x="4960" y="10238"/>
                  <a:pt x="4986" y="10195"/>
                </a:cubicBezTo>
              </a:path>
              <a:path w="7145" h="2010">
                <a:moveTo>
                  <a:pt x="5358" y="10468"/>
                </a:moveTo>
                <a:cubicBezTo>
                  <a:pt x="5481" y="10496"/>
                  <a:pt x="5555" y="10517"/>
                  <a:pt x="5680" y="10517"/>
                </a:cubicBezTo>
              </a:path>
              <a:path w="7145" h="2010">
                <a:moveTo>
                  <a:pt x="5308" y="10542"/>
                </a:moveTo>
                <a:cubicBezTo>
                  <a:pt x="5385" y="10552"/>
                  <a:pt x="5451" y="10588"/>
                  <a:pt x="5531" y="10592"/>
                </a:cubicBezTo>
                <a:cubicBezTo>
                  <a:pt x="5548" y="10592"/>
                  <a:pt x="5564" y="10592"/>
                  <a:pt x="5581" y="10592"/>
                </a:cubicBezTo>
              </a:path>
              <a:path w="7145" h="2010">
                <a:moveTo>
                  <a:pt x="6201" y="10244"/>
                </a:moveTo>
                <a:cubicBezTo>
                  <a:pt x="6196" y="10250"/>
                  <a:pt x="6049" y="10408"/>
                  <a:pt x="6052" y="10443"/>
                </a:cubicBezTo>
                <a:cubicBezTo>
                  <a:pt x="6056" y="10491"/>
                  <a:pt x="6193" y="10535"/>
                  <a:pt x="6226" y="10542"/>
                </a:cubicBezTo>
                <a:cubicBezTo>
                  <a:pt x="6300" y="10558"/>
                  <a:pt x="6381" y="10572"/>
                  <a:pt x="6449" y="10616"/>
                </a:cubicBezTo>
                <a:cubicBezTo>
                  <a:pt x="6505" y="10652"/>
                  <a:pt x="6557" y="10613"/>
                  <a:pt x="6623" y="10592"/>
                </a:cubicBezTo>
              </a:path>
              <a:path w="7145" h="2010">
                <a:moveTo>
                  <a:pt x="6573" y="9872"/>
                </a:moveTo>
                <a:cubicBezTo>
                  <a:pt x="6544" y="9950"/>
                  <a:pt x="6540" y="10015"/>
                  <a:pt x="6524" y="10096"/>
                </a:cubicBezTo>
                <a:cubicBezTo>
                  <a:pt x="6504" y="10201"/>
                  <a:pt x="6499" y="10285"/>
                  <a:pt x="6499" y="10393"/>
                </a:cubicBezTo>
                <a:cubicBezTo>
                  <a:pt x="6499" y="10516"/>
                  <a:pt x="6474" y="10619"/>
                  <a:pt x="6474" y="10740"/>
                </a:cubicBezTo>
                <a:cubicBezTo>
                  <a:pt x="6474" y="10790"/>
                  <a:pt x="6474" y="10839"/>
                  <a:pt x="6474" y="10889"/>
                </a:cubicBezTo>
              </a:path>
              <a:path w="7145" h="2010">
                <a:moveTo>
                  <a:pt x="7094" y="10542"/>
                </a:moveTo>
                <a:cubicBezTo>
                  <a:pt x="7034" y="10445"/>
                  <a:pt x="7021" y="10432"/>
                  <a:pt x="6921" y="10443"/>
                </a:cubicBezTo>
                <a:cubicBezTo>
                  <a:pt x="6825" y="10454"/>
                  <a:pt x="6854" y="10501"/>
                  <a:pt x="6821" y="10567"/>
                </a:cubicBezTo>
                <a:cubicBezTo>
                  <a:pt x="6784" y="10641"/>
                  <a:pt x="6808" y="10674"/>
                  <a:pt x="6821" y="10740"/>
                </a:cubicBezTo>
                <a:cubicBezTo>
                  <a:pt x="6840" y="10835"/>
                  <a:pt x="6895" y="10895"/>
                  <a:pt x="6995" y="10864"/>
                </a:cubicBezTo>
                <a:cubicBezTo>
                  <a:pt x="7077" y="10839"/>
                  <a:pt x="7113" y="10794"/>
                  <a:pt x="7144" y="10716"/>
                </a:cubicBezTo>
                <a:cubicBezTo>
                  <a:pt x="7184" y="10614"/>
                  <a:pt x="7169" y="10501"/>
                  <a:pt x="7169" y="10393"/>
                </a:cubicBezTo>
                <a:cubicBezTo>
                  <a:pt x="7169" y="10294"/>
                  <a:pt x="7159" y="10212"/>
                  <a:pt x="7144" y="10120"/>
                </a:cubicBezTo>
                <a:cubicBezTo>
                  <a:pt x="7144" y="10104"/>
                  <a:pt x="7144" y="10087"/>
                  <a:pt x="7144" y="10071"/>
                </a:cubicBezTo>
                <a:cubicBezTo>
                  <a:pt x="7116" y="10118"/>
                  <a:pt x="7101" y="10210"/>
                  <a:pt x="7094" y="10269"/>
                </a:cubicBezTo>
                <a:cubicBezTo>
                  <a:pt x="7084" y="10357"/>
                  <a:pt x="7132" y="10431"/>
                  <a:pt x="7144" y="10517"/>
                </a:cubicBezTo>
                <a:cubicBezTo>
                  <a:pt x="7155" y="10595"/>
                  <a:pt x="7163" y="10679"/>
                  <a:pt x="7218" y="10740"/>
                </a:cubicBezTo>
                <a:cubicBezTo>
                  <a:pt x="7243" y="10765"/>
                  <a:pt x="7268" y="10790"/>
                  <a:pt x="7293" y="10815"/>
                </a:cubicBezTo>
              </a:path>
              <a:path w="7145" h="2010">
                <a:moveTo>
                  <a:pt x="7764" y="10195"/>
                </a:moveTo>
                <a:cubicBezTo>
                  <a:pt x="7740" y="10283"/>
                  <a:pt x="7739" y="10351"/>
                  <a:pt x="7739" y="10443"/>
                </a:cubicBezTo>
                <a:cubicBezTo>
                  <a:pt x="7739" y="10565"/>
                  <a:pt x="7738" y="10676"/>
                  <a:pt x="7764" y="10790"/>
                </a:cubicBezTo>
                <a:cubicBezTo>
                  <a:pt x="7764" y="10798"/>
                  <a:pt x="7764" y="10807"/>
                  <a:pt x="7764" y="10815"/>
                </a:cubicBezTo>
              </a:path>
              <a:path w="7145" h="2010">
                <a:moveTo>
                  <a:pt x="7565" y="10443"/>
                </a:moveTo>
                <a:cubicBezTo>
                  <a:pt x="7680" y="10476"/>
                  <a:pt x="7771" y="10499"/>
                  <a:pt x="7888" y="10517"/>
                </a:cubicBezTo>
                <a:cubicBezTo>
                  <a:pt x="7929" y="10525"/>
                  <a:pt x="7971" y="10534"/>
                  <a:pt x="8012" y="10542"/>
                </a:cubicBezTo>
              </a:path>
              <a:path w="7145" h="2010">
                <a:moveTo>
                  <a:pt x="8186" y="10096"/>
                </a:moveTo>
                <a:cubicBezTo>
                  <a:pt x="8186" y="10178"/>
                  <a:pt x="8164" y="10238"/>
                  <a:pt x="8161" y="10319"/>
                </a:cubicBezTo>
                <a:cubicBezTo>
                  <a:pt x="8157" y="10425"/>
                  <a:pt x="8175" y="10515"/>
                  <a:pt x="8186" y="10616"/>
                </a:cubicBezTo>
                <a:cubicBezTo>
                  <a:pt x="8189" y="10644"/>
                  <a:pt x="8163" y="10863"/>
                  <a:pt x="8210" y="10864"/>
                </a:cubicBezTo>
                <a:cubicBezTo>
                  <a:pt x="8210" y="10856"/>
                  <a:pt x="8210" y="10848"/>
                  <a:pt x="8210" y="10840"/>
                </a:cubicBezTo>
              </a:path>
              <a:path w="7145" h="2010">
                <a:moveTo>
                  <a:pt x="8582" y="10096"/>
                </a:moveTo>
                <a:cubicBezTo>
                  <a:pt x="8564" y="10185"/>
                  <a:pt x="8557" y="10285"/>
                  <a:pt x="8533" y="10368"/>
                </a:cubicBezTo>
                <a:cubicBezTo>
                  <a:pt x="8502" y="10478"/>
                  <a:pt x="8520" y="10551"/>
                  <a:pt x="8558" y="10666"/>
                </a:cubicBezTo>
                <a:cubicBezTo>
                  <a:pt x="8577" y="10725"/>
                  <a:pt x="8662" y="10805"/>
                  <a:pt x="8706" y="10840"/>
                </a:cubicBezTo>
                <a:cubicBezTo>
                  <a:pt x="8781" y="10899"/>
                  <a:pt x="8851" y="10891"/>
                  <a:pt x="8930" y="10864"/>
                </a:cubicBezTo>
                <a:cubicBezTo>
                  <a:pt x="8992" y="10843"/>
                  <a:pt x="9060" y="10810"/>
                  <a:pt x="9079" y="10740"/>
                </a:cubicBezTo>
                <a:cubicBezTo>
                  <a:pt x="9113" y="10614"/>
                  <a:pt x="9034" y="10560"/>
                  <a:pt x="8930" y="10542"/>
                </a:cubicBezTo>
                <a:cubicBezTo>
                  <a:pt x="8866" y="10531"/>
                  <a:pt x="8747" y="10597"/>
                  <a:pt x="8706" y="10641"/>
                </a:cubicBezTo>
                <a:cubicBezTo>
                  <a:pt x="8643" y="10708"/>
                  <a:pt x="8660" y="10835"/>
                  <a:pt x="8607" y="10914"/>
                </a:cubicBezTo>
              </a:path>
              <a:path w="7145" h="2010">
                <a:moveTo>
                  <a:pt x="5978" y="11336"/>
                </a:moveTo>
                <a:cubicBezTo>
                  <a:pt x="6050" y="11336"/>
                  <a:pt x="6087" y="11357"/>
                  <a:pt x="6152" y="11361"/>
                </a:cubicBezTo>
                <a:cubicBezTo>
                  <a:pt x="6168" y="11361"/>
                  <a:pt x="6185" y="11361"/>
                  <a:pt x="6201" y="11361"/>
                </a:cubicBezTo>
              </a:path>
              <a:path w="7145" h="2010">
                <a:moveTo>
                  <a:pt x="6449" y="11336"/>
                </a:moveTo>
                <a:cubicBezTo>
                  <a:pt x="6449" y="11386"/>
                  <a:pt x="6449" y="11435"/>
                  <a:pt x="6449" y="11485"/>
                </a:cubicBezTo>
              </a:path>
              <a:path w="7145" h="2010">
                <a:moveTo>
                  <a:pt x="6474" y="11584"/>
                </a:moveTo>
                <a:cubicBezTo>
                  <a:pt x="6536" y="11622"/>
                  <a:pt x="6548" y="11609"/>
                  <a:pt x="6598" y="11559"/>
                </a:cubicBezTo>
                <a:cubicBezTo>
                  <a:pt x="6606" y="11551"/>
                  <a:pt x="6615" y="11542"/>
                  <a:pt x="6623" y="11534"/>
                </a:cubicBezTo>
              </a:path>
              <a:path w="7145" h="2010">
                <a:moveTo>
                  <a:pt x="6672" y="11336"/>
                </a:moveTo>
                <a:cubicBezTo>
                  <a:pt x="6641" y="11420"/>
                  <a:pt x="6626" y="11520"/>
                  <a:pt x="6623" y="11609"/>
                </a:cubicBezTo>
                <a:cubicBezTo>
                  <a:pt x="6619" y="11703"/>
                  <a:pt x="6598" y="11783"/>
                  <a:pt x="6598" y="11881"/>
                </a:cubicBezTo>
              </a:path>
              <a:path w="7145" h="2010">
                <a:moveTo>
                  <a:pt x="6945" y="11658"/>
                </a:moveTo>
                <a:cubicBezTo>
                  <a:pt x="6901" y="11681"/>
                  <a:pt x="6820" y="11707"/>
                  <a:pt x="6796" y="11757"/>
                </a:cubicBezTo>
                <a:cubicBezTo>
                  <a:pt x="6778" y="11796"/>
                  <a:pt x="6757" y="11843"/>
                  <a:pt x="6747" y="11881"/>
                </a:cubicBezTo>
              </a:path>
              <a:path w="7145" h="2010">
                <a:moveTo>
                  <a:pt x="6871" y="11857"/>
                </a:moveTo>
                <a:cubicBezTo>
                  <a:pt x="6893" y="11756"/>
                  <a:pt x="6916" y="11661"/>
                  <a:pt x="6921" y="11559"/>
                </a:cubicBezTo>
                <a:cubicBezTo>
                  <a:pt x="6924" y="11498"/>
                  <a:pt x="6945" y="11324"/>
                  <a:pt x="6945" y="11385"/>
                </a:cubicBezTo>
                <a:cubicBezTo>
                  <a:pt x="6945" y="11472"/>
                  <a:pt x="6933" y="11552"/>
                  <a:pt x="6921" y="11633"/>
                </a:cubicBezTo>
                <a:cubicBezTo>
                  <a:pt x="6910" y="11712"/>
                  <a:pt x="6921" y="11801"/>
                  <a:pt x="6921" y="1188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Ink 6"/>
          <p:cNvSpPr/>
          <p:nvPr/>
        </p:nvSpPr>
        <p:spPr>
          <a:xfrm>
            <a:off x="3776760" y="3330720"/>
            <a:ext cx="3706560" cy="839520"/>
          </a:xfrm>
          <a:custGeom>
            <a:avLst/>
            <a:gdLst/>
            <a:ahLst/>
            <a:rect l="l" t="t" r="r" b="b"/>
            <a:pathLst>
              <a:path w="10295" h="2333">
                <a:moveTo>
                  <a:pt x="10492" y="9252"/>
                </a:moveTo>
                <a:cubicBezTo>
                  <a:pt x="10572" y="9331"/>
                  <a:pt x="10649" y="9409"/>
                  <a:pt x="10740" y="9475"/>
                </a:cubicBezTo>
                <a:cubicBezTo>
                  <a:pt x="10852" y="9556"/>
                  <a:pt x="10942" y="9621"/>
                  <a:pt x="11063" y="9674"/>
                </a:cubicBezTo>
                <a:cubicBezTo>
                  <a:pt x="11269" y="9764"/>
                  <a:pt x="11445" y="9865"/>
                  <a:pt x="11658" y="9947"/>
                </a:cubicBezTo>
                <a:cubicBezTo>
                  <a:pt x="11818" y="10009"/>
                  <a:pt x="11967" y="10117"/>
                  <a:pt x="12129" y="10170"/>
                </a:cubicBezTo>
                <a:cubicBezTo>
                  <a:pt x="12268" y="10215"/>
                  <a:pt x="12393" y="10262"/>
                  <a:pt x="12526" y="10319"/>
                </a:cubicBezTo>
                <a:cubicBezTo>
                  <a:pt x="12601" y="10352"/>
                  <a:pt x="12672" y="10363"/>
                  <a:pt x="12725" y="10368"/>
                </a:cubicBezTo>
              </a:path>
              <a:path w="10295" h="2333">
                <a:moveTo>
                  <a:pt x="12601" y="10021"/>
                </a:moveTo>
                <a:cubicBezTo>
                  <a:pt x="12668" y="10105"/>
                  <a:pt x="12758" y="10165"/>
                  <a:pt x="12824" y="10244"/>
                </a:cubicBezTo>
                <a:cubicBezTo>
                  <a:pt x="12865" y="10293"/>
                  <a:pt x="12860" y="10386"/>
                  <a:pt x="12824" y="10443"/>
                </a:cubicBezTo>
                <a:cubicBezTo>
                  <a:pt x="12778" y="10516"/>
                  <a:pt x="12677" y="10523"/>
                  <a:pt x="12626" y="10592"/>
                </a:cubicBezTo>
                <a:cubicBezTo>
                  <a:pt x="12587" y="10644"/>
                  <a:pt x="12560" y="10680"/>
                  <a:pt x="12551" y="10740"/>
                </a:cubicBezTo>
              </a:path>
              <a:path w="10295" h="2333">
                <a:moveTo>
                  <a:pt x="13915" y="10418"/>
                </a:moveTo>
                <a:cubicBezTo>
                  <a:pt x="13915" y="10320"/>
                  <a:pt x="13922" y="10212"/>
                  <a:pt x="13891" y="10120"/>
                </a:cubicBezTo>
                <a:cubicBezTo>
                  <a:pt x="13869" y="10054"/>
                  <a:pt x="13803" y="10025"/>
                  <a:pt x="13742" y="10021"/>
                </a:cubicBezTo>
                <a:cubicBezTo>
                  <a:pt x="13654" y="10016"/>
                  <a:pt x="13595" y="10064"/>
                  <a:pt x="13543" y="10120"/>
                </a:cubicBezTo>
                <a:cubicBezTo>
                  <a:pt x="13499" y="10167"/>
                  <a:pt x="13407" y="10225"/>
                  <a:pt x="13395" y="10294"/>
                </a:cubicBezTo>
                <a:cubicBezTo>
                  <a:pt x="13382" y="10369"/>
                  <a:pt x="13402" y="10494"/>
                  <a:pt x="13469" y="10542"/>
                </a:cubicBezTo>
                <a:cubicBezTo>
                  <a:pt x="13543" y="10595"/>
                  <a:pt x="13646" y="10558"/>
                  <a:pt x="13717" y="10517"/>
                </a:cubicBezTo>
                <a:cubicBezTo>
                  <a:pt x="13786" y="10478"/>
                  <a:pt x="13884" y="10366"/>
                  <a:pt x="13915" y="10294"/>
                </a:cubicBezTo>
                <a:cubicBezTo>
                  <a:pt x="13923" y="10269"/>
                  <a:pt x="13932" y="10245"/>
                  <a:pt x="13940" y="10220"/>
                </a:cubicBezTo>
                <a:cubicBezTo>
                  <a:pt x="13940" y="10326"/>
                  <a:pt x="13925" y="10416"/>
                  <a:pt x="13915" y="10517"/>
                </a:cubicBezTo>
                <a:cubicBezTo>
                  <a:pt x="13901" y="10666"/>
                  <a:pt x="13906" y="10818"/>
                  <a:pt x="13891" y="10964"/>
                </a:cubicBezTo>
                <a:cubicBezTo>
                  <a:pt x="13888" y="10994"/>
                  <a:pt x="13894" y="11248"/>
                  <a:pt x="13915" y="11261"/>
                </a:cubicBezTo>
                <a:cubicBezTo>
                  <a:pt x="13938" y="11239"/>
                  <a:pt x="13946" y="11234"/>
                  <a:pt x="13940" y="11212"/>
                </a:cubicBezTo>
              </a:path>
              <a:path w="10295" h="2333">
                <a:moveTo>
                  <a:pt x="14114" y="10790"/>
                </a:moveTo>
                <a:cubicBezTo>
                  <a:pt x="14178" y="10781"/>
                  <a:pt x="14217" y="10765"/>
                  <a:pt x="14288" y="10765"/>
                </a:cubicBezTo>
                <a:cubicBezTo>
                  <a:pt x="14364" y="10765"/>
                  <a:pt x="14424" y="10772"/>
                  <a:pt x="14486" y="10740"/>
                </a:cubicBezTo>
                <a:cubicBezTo>
                  <a:pt x="14536" y="10714"/>
                  <a:pt x="14602" y="10685"/>
                  <a:pt x="14585" y="10616"/>
                </a:cubicBezTo>
                <a:cubicBezTo>
                  <a:pt x="14568" y="10544"/>
                  <a:pt x="14500" y="10499"/>
                  <a:pt x="14436" y="10492"/>
                </a:cubicBezTo>
                <a:cubicBezTo>
                  <a:pt x="14356" y="10483"/>
                  <a:pt x="14343" y="10531"/>
                  <a:pt x="14288" y="10567"/>
                </a:cubicBezTo>
                <a:cubicBezTo>
                  <a:pt x="14220" y="10611"/>
                  <a:pt x="14180" y="10642"/>
                  <a:pt x="14139" y="10716"/>
                </a:cubicBezTo>
                <a:cubicBezTo>
                  <a:pt x="14098" y="10790"/>
                  <a:pt x="14114" y="10881"/>
                  <a:pt x="14114" y="10964"/>
                </a:cubicBezTo>
                <a:cubicBezTo>
                  <a:pt x="14114" y="11031"/>
                  <a:pt x="14142" y="11088"/>
                  <a:pt x="14188" y="11137"/>
                </a:cubicBezTo>
                <a:cubicBezTo>
                  <a:pt x="14277" y="11233"/>
                  <a:pt x="14341" y="11215"/>
                  <a:pt x="14461" y="11187"/>
                </a:cubicBezTo>
              </a:path>
              <a:path w="10295" h="2333">
                <a:moveTo>
                  <a:pt x="14833" y="10864"/>
                </a:moveTo>
                <a:cubicBezTo>
                  <a:pt x="14924" y="10842"/>
                  <a:pt x="15013" y="10825"/>
                  <a:pt x="15106" y="10815"/>
                </a:cubicBezTo>
              </a:path>
              <a:path w="10295" h="2333">
                <a:moveTo>
                  <a:pt x="15553" y="10393"/>
                </a:moveTo>
                <a:cubicBezTo>
                  <a:pt x="15532" y="10479"/>
                  <a:pt x="15512" y="10579"/>
                  <a:pt x="15503" y="10666"/>
                </a:cubicBezTo>
                <a:cubicBezTo>
                  <a:pt x="15480" y="10900"/>
                  <a:pt x="15423" y="11521"/>
                  <a:pt x="15528" y="11311"/>
                </a:cubicBezTo>
                <a:cubicBezTo>
                  <a:pt x="15528" y="11303"/>
                  <a:pt x="15528" y="11294"/>
                  <a:pt x="15528" y="11286"/>
                </a:cubicBezTo>
              </a:path>
              <a:path w="10295" h="2333">
                <a:moveTo>
                  <a:pt x="15925" y="10418"/>
                </a:moveTo>
                <a:cubicBezTo>
                  <a:pt x="16059" y="10404"/>
                  <a:pt x="16193" y="10403"/>
                  <a:pt x="16321" y="10368"/>
                </a:cubicBezTo>
              </a:path>
              <a:path w="10295" h="2333">
                <a:moveTo>
                  <a:pt x="15974" y="10319"/>
                </a:moveTo>
                <a:cubicBezTo>
                  <a:pt x="15876" y="10450"/>
                  <a:pt x="15843" y="10464"/>
                  <a:pt x="15825" y="10592"/>
                </a:cubicBezTo>
                <a:cubicBezTo>
                  <a:pt x="15888" y="10653"/>
                  <a:pt x="15929" y="10641"/>
                  <a:pt x="16024" y="10641"/>
                </a:cubicBezTo>
                <a:cubicBezTo>
                  <a:pt x="16091" y="10641"/>
                  <a:pt x="16144" y="10677"/>
                  <a:pt x="16197" y="10716"/>
                </a:cubicBezTo>
                <a:cubicBezTo>
                  <a:pt x="16239" y="10747"/>
                  <a:pt x="16299" y="10818"/>
                  <a:pt x="16321" y="10864"/>
                </a:cubicBezTo>
                <a:cubicBezTo>
                  <a:pt x="16375" y="10978"/>
                  <a:pt x="16371" y="11042"/>
                  <a:pt x="16371" y="11162"/>
                </a:cubicBezTo>
                <a:cubicBezTo>
                  <a:pt x="16371" y="11254"/>
                  <a:pt x="16350" y="11294"/>
                  <a:pt x="16272" y="11336"/>
                </a:cubicBezTo>
                <a:cubicBezTo>
                  <a:pt x="16202" y="11374"/>
                  <a:pt x="16135" y="11413"/>
                  <a:pt x="16049" y="11385"/>
                </a:cubicBezTo>
                <a:cubicBezTo>
                  <a:pt x="16037" y="11381"/>
                  <a:pt x="15863" y="11325"/>
                  <a:pt x="15875" y="11286"/>
                </a:cubicBezTo>
                <a:cubicBezTo>
                  <a:pt x="15892" y="11261"/>
                  <a:pt x="15908" y="11237"/>
                  <a:pt x="15925" y="11212"/>
                </a:cubicBezTo>
              </a:path>
              <a:path w="10295" h="2333">
                <a:moveTo>
                  <a:pt x="16694" y="10815"/>
                </a:moveTo>
                <a:cubicBezTo>
                  <a:pt x="16808" y="10815"/>
                  <a:pt x="16906" y="10816"/>
                  <a:pt x="17016" y="10790"/>
                </a:cubicBezTo>
              </a:path>
              <a:path w="10295" h="2333">
                <a:moveTo>
                  <a:pt x="16793" y="11063"/>
                </a:moveTo>
                <a:cubicBezTo>
                  <a:pt x="16945" y="11108"/>
                  <a:pt x="16993" y="11124"/>
                  <a:pt x="17140" y="11088"/>
                </a:cubicBezTo>
              </a:path>
              <a:path w="10295" h="2333">
                <a:moveTo>
                  <a:pt x="17537" y="10244"/>
                </a:moveTo>
                <a:cubicBezTo>
                  <a:pt x="17537" y="10343"/>
                  <a:pt x="17516" y="10422"/>
                  <a:pt x="17512" y="10517"/>
                </a:cubicBezTo>
                <a:cubicBezTo>
                  <a:pt x="17508" y="10627"/>
                  <a:pt x="17491" y="10732"/>
                  <a:pt x="17487" y="10840"/>
                </a:cubicBezTo>
                <a:cubicBezTo>
                  <a:pt x="17484" y="10921"/>
                  <a:pt x="17445" y="11177"/>
                  <a:pt x="17462" y="11237"/>
                </a:cubicBezTo>
                <a:cubicBezTo>
                  <a:pt x="17470" y="11237"/>
                  <a:pt x="17479" y="11237"/>
                  <a:pt x="17487" y="11237"/>
                </a:cubicBezTo>
              </a:path>
              <a:path w="10295" h="2333">
                <a:moveTo>
                  <a:pt x="17835" y="10567"/>
                </a:moveTo>
                <a:cubicBezTo>
                  <a:pt x="17916" y="10477"/>
                  <a:pt x="17985" y="10374"/>
                  <a:pt x="18107" y="10344"/>
                </a:cubicBezTo>
                <a:cubicBezTo>
                  <a:pt x="18172" y="10328"/>
                  <a:pt x="18287" y="10336"/>
                  <a:pt x="18331" y="10393"/>
                </a:cubicBezTo>
                <a:cubicBezTo>
                  <a:pt x="18408" y="10493"/>
                  <a:pt x="18412" y="10601"/>
                  <a:pt x="18380" y="10716"/>
                </a:cubicBezTo>
                <a:cubicBezTo>
                  <a:pt x="18353" y="10813"/>
                  <a:pt x="18328" y="10925"/>
                  <a:pt x="18281" y="11013"/>
                </a:cubicBezTo>
                <a:cubicBezTo>
                  <a:pt x="18238" y="11093"/>
                  <a:pt x="18144" y="11273"/>
                  <a:pt x="18058" y="11336"/>
                </a:cubicBezTo>
                <a:cubicBezTo>
                  <a:pt x="18002" y="11377"/>
                  <a:pt x="17940" y="11405"/>
                  <a:pt x="17884" y="11361"/>
                </a:cubicBezTo>
                <a:cubicBezTo>
                  <a:pt x="17819" y="11310"/>
                  <a:pt x="17861" y="11199"/>
                  <a:pt x="17884" y="11137"/>
                </a:cubicBezTo>
                <a:cubicBezTo>
                  <a:pt x="17974" y="11146"/>
                  <a:pt x="18036" y="11158"/>
                  <a:pt x="18107" y="11212"/>
                </a:cubicBezTo>
                <a:cubicBezTo>
                  <a:pt x="18161" y="11253"/>
                  <a:pt x="18241" y="11345"/>
                  <a:pt x="18306" y="11361"/>
                </a:cubicBezTo>
              </a:path>
              <a:path w="10295" h="2333">
                <a:moveTo>
                  <a:pt x="18504" y="11088"/>
                </a:moveTo>
                <a:cubicBezTo>
                  <a:pt x="18638" y="11103"/>
                  <a:pt x="18738" y="11131"/>
                  <a:pt x="18852" y="11088"/>
                </a:cubicBezTo>
                <a:cubicBezTo>
                  <a:pt x="18920" y="11062"/>
                  <a:pt x="19005" y="11048"/>
                  <a:pt x="19025" y="10964"/>
                </a:cubicBezTo>
                <a:cubicBezTo>
                  <a:pt x="19043" y="10887"/>
                  <a:pt x="18990" y="10822"/>
                  <a:pt x="18926" y="10815"/>
                </a:cubicBezTo>
                <a:cubicBezTo>
                  <a:pt x="18817" y="10802"/>
                  <a:pt x="18739" y="10822"/>
                  <a:pt x="18678" y="10914"/>
                </a:cubicBezTo>
                <a:cubicBezTo>
                  <a:pt x="18641" y="10970"/>
                  <a:pt x="18610" y="11027"/>
                  <a:pt x="18579" y="11088"/>
                </a:cubicBezTo>
                <a:cubicBezTo>
                  <a:pt x="18545" y="11156"/>
                  <a:pt x="18544" y="11251"/>
                  <a:pt x="18604" y="11311"/>
                </a:cubicBezTo>
                <a:cubicBezTo>
                  <a:pt x="18652" y="11360"/>
                  <a:pt x="18740" y="11388"/>
                  <a:pt x="18802" y="11410"/>
                </a:cubicBezTo>
                <a:cubicBezTo>
                  <a:pt x="18886" y="11439"/>
                  <a:pt x="18910" y="11460"/>
                  <a:pt x="19000" y="11460"/>
                </a:cubicBezTo>
                <a:cubicBezTo>
                  <a:pt x="19060" y="11460"/>
                  <a:pt x="19080" y="11446"/>
                  <a:pt x="19124" y="11410"/>
                </a:cubicBezTo>
              </a:path>
              <a:path w="10295" h="2333">
                <a:moveTo>
                  <a:pt x="19645" y="10592"/>
                </a:moveTo>
                <a:cubicBezTo>
                  <a:pt x="19645" y="10753"/>
                  <a:pt x="19655" y="10907"/>
                  <a:pt x="19670" y="11063"/>
                </a:cubicBezTo>
                <a:cubicBezTo>
                  <a:pt x="19680" y="11169"/>
                  <a:pt x="19695" y="11252"/>
                  <a:pt x="19695" y="11361"/>
                </a:cubicBezTo>
                <a:cubicBezTo>
                  <a:pt x="19695" y="11369"/>
                  <a:pt x="19695" y="11377"/>
                  <a:pt x="19695" y="11385"/>
                </a:cubicBezTo>
              </a:path>
              <a:path w="10295" h="2333">
                <a:moveTo>
                  <a:pt x="19422" y="10939"/>
                </a:moveTo>
                <a:cubicBezTo>
                  <a:pt x="19517" y="10951"/>
                  <a:pt x="19624" y="10968"/>
                  <a:pt x="19720" y="10988"/>
                </a:cubicBezTo>
                <a:cubicBezTo>
                  <a:pt x="19823" y="11009"/>
                  <a:pt x="19815" y="11017"/>
                  <a:pt x="19918" y="10988"/>
                </a:cubicBezTo>
              </a:path>
              <a:path w="10295" h="2333">
                <a:moveTo>
                  <a:pt x="20191" y="10567"/>
                </a:moveTo>
                <a:cubicBezTo>
                  <a:pt x="20301" y="10537"/>
                  <a:pt x="20379" y="10532"/>
                  <a:pt x="20489" y="10542"/>
                </a:cubicBezTo>
                <a:cubicBezTo>
                  <a:pt x="20569" y="10549"/>
                  <a:pt x="20612" y="10575"/>
                  <a:pt x="20687" y="10592"/>
                </a:cubicBezTo>
                <a:cubicBezTo>
                  <a:pt x="20748" y="10606"/>
                  <a:pt x="20741" y="10595"/>
                  <a:pt x="20786" y="10641"/>
                </a:cubicBezTo>
                <a:cubicBezTo>
                  <a:pt x="20759" y="10745"/>
                  <a:pt x="20763" y="10773"/>
                  <a:pt x="20687" y="10840"/>
                </a:cubicBezTo>
                <a:cubicBezTo>
                  <a:pt x="20604" y="10913"/>
                  <a:pt x="20526" y="10966"/>
                  <a:pt x="20414" y="10988"/>
                </a:cubicBezTo>
                <a:cubicBezTo>
                  <a:pt x="20365" y="10988"/>
                  <a:pt x="20348" y="10988"/>
                  <a:pt x="20315" y="10988"/>
                </a:cubicBezTo>
                <a:cubicBezTo>
                  <a:pt x="20369" y="10996"/>
                  <a:pt x="20433" y="10997"/>
                  <a:pt x="20489" y="11013"/>
                </a:cubicBezTo>
                <a:cubicBezTo>
                  <a:pt x="20563" y="11034"/>
                  <a:pt x="20633" y="11087"/>
                  <a:pt x="20687" y="11137"/>
                </a:cubicBezTo>
                <a:cubicBezTo>
                  <a:pt x="20735" y="11181"/>
                  <a:pt x="20756" y="11273"/>
                  <a:pt x="20762" y="11336"/>
                </a:cubicBezTo>
                <a:cubicBezTo>
                  <a:pt x="20767" y="11383"/>
                  <a:pt x="20783" y="11534"/>
                  <a:pt x="20712" y="11559"/>
                </a:cubicBezTo>
                <a:cubicBezTo>
                  <a:pt x="20653" y="11580"/>
                  <a:pt x="20594" y="11579"/>
                  <a:pt x="20538" y="11559"/>
                </a:cubicBezTo>
                <a:cubicBezTo>
                  <a:pt x="20472" y="11535"/>
                  <a:pt x="20430" y="11511"/>
                  <a:pt x="20365" y="11485"/>
                </a:cubicBezTo>
                <a:cubicBezTo>
                  <a:pt x="20300" y="11459"/>
                  <a:pt x="20233" y="11453"/>
                  <a:pt x="20166" y="1143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Ink 7"/>
          <p:cNvSpPr/>
          <p:nvPr/>
        </p:nvSpPr>
        <p:spPr>
          <a:xfrm>
            <a:off x="847800" y="3990960"/>
            <a:ext cx="2573280" cy="1733400"/>
          </a:xfrm>
          <a:custGeom>
            <a:avLst/>
            <a:gdLst/>
            <a:ahLst/>
            <a:rect l="l" t="t" r="r" b="b"/>
            <a:pathLst>
              <a:path w="7145" h="4813">
                <a:moveTo>
                  <a:pt x="2381" y="11584"/>
                </a:moveTo>
                <a:cubicBezTo>
                  <a:pt x="2373" y="11592"/>
                  <a:pt x="2364" y="11601"/>
                  <a:pt x="2356" y="11609"/>
                </a:cubicBezTo>
                <a:cubicBezTo>
                  <a:pt x="2404" y="11628"/>
                  <a:pt x="2463" y="11609"/>
                  <a:pt x="2530" y="11609"/>
                </a:cubicBezTo>
                <a:cubicBezTo>
                  <a:pt x="2619" y="11609"/>
                  <a:pt x="2641" y="11593"/>
                  <a:pt x="2654" y="11683"/>
                </a:cubicBezTo>
              </a:path>
              <a:path w="7145" h="4813">
                <a:moveTo>
                  <a:pt x="2877" y="11162"/>
                </a:moveTo>
                <a:cubicBezTo>
                  <a:pt x="2852" y="11232"/>
                  <a:pt x="2853" y="11285"/>
                  <a:pt x="2853" y="11361"/>
                </a:cubicBezTo>
                <a:cubicBezTo>
                  <a:pt x="2853" y="11427"/>
                  <a:pt x="2853" y="11493"/>
                  <a:pt x="2853" y="11559"/>
                </a:cubicBezTo>
                <a:cubicBezTo>
                  <a:pt x="2892" y="11553"/>
                  <a:pt x="2984" y="11534"/>
                  <a:pt x="3001" y="11485"/>
                </a:cubicBezTo>
                <a:cubicBezTo>
                  <a:pt x="3001" y="11468"/>
                  <a:pt x="3001" y="11452"/>
                  <a:pt x="3001" y="11435"/>
                </a:cubicBezTo>
              </a:path>
              <a:path w="7145" h="4813">
                <a:moveTo>
                  <a:pt x="3026" y="11112"/>
                </a:moveTo>
                <a:cubicBezTo>
                  <a:pt x="3018" y="11247"/>
                  <a:pt x="3001" y="11371"/>
                  <a:pt x="3001" y="11509"/>
                </a:cubicBezTo>
                <a:cubicBezTo>
                  <a:pt x="3001" y="11611"/>
                  <a:pt x="2992" y="11689"/>
                  <a:pt x="3001" y="11782"/>
                </a:cubicBezTo>
                <a:cubicBezTo>
                  <a:pt x="3005" y="11823"/>
                  <a:pt x="3001" y="11865"/>
                  <a:pt x="3001" y="11906"/>
                </a:cubicBezTo>
              </a:path>
              <a:path w="7145" h="4813">
                <a:moveTo>
                  <a:pt x="3423" y="11534"/>
                </a:moveTo>
                <a:cubicBezTo>
                  <a:pt x="3357" y="11553"/>
                  <a:pt x="3352" y="11581"/>
                  <a:pt x="3299" y="11633"/>
                </a:cubicBezTo>
                <a:cubicBezTo>
                  <a:pt x="3255" y="11676"/>
                  <a:pt x="3267" y="11751"/>
                  <a:pt x="3249" y="11807"/>
                </a:cubicBezTo>
                <a:cubicBezTo>
                  <a:pt x="3224" y="11884"/>
                  <a:pt x="3212" y="11936"/>
                  <a:pt x="3249" y="12005"/>
                </a:cubicBezTo>
                <a:cubicBezTo>
                  <a:pt x="3257" y="12022"/>
                  <a:pt x="3266" y="12038"/>
                  <a:pt x="3274" y="12055"/>
                </a:cubicBezTo>
                <a:cubicBezTo>
                  <a:pt x="3335" y="12020"/>
                  <a:pt x="3381" y="11981"/>
                  <a:pt x="3398" y="11906"/>
                </a:cubicBezTo>
                <a:cubicBezTo>
                  <a:pt x="3416" y="11827"/>
                  <a:pt x="3439" y="11739"/>
                  <a:pt x="3448" y="11658"/>
                </a:cubicBezTo>
                <a:cubicBezTo>
                  <a:pt x="3458" y="11565"/>
                  <a:pt x="3487" y="11477"/>
                  <a:pt x="3497" y="11385"/>
                </a:cubicBezTo>
                <a:cubicBezTo>
                  <a:pt x="3506" y="11308"/>
                  <a:pt x="3502" y="11212"/>
                  <a:pt x="3522" y="11137"/>
                </a:cubicBezTo>
                <a:cubicBezTo>
                  <a:pt x="3544" y="11094"/>
                  <a:pt x="3557" y="11073"/>
                  <a:pt x="3522" y="11112"/>
                </a:cubicBezTo>
                <a:cubicBezTo>
                  <a:pt x="3514" y="11217"/>
                  <a:pt x="3484" y="11306"/>
                  <a:pt x="3473" y="11410"/>
                </a:cubicBezTo>
                <a:cubicBezTo>
                  <a:pt x="3461" y="11518"/>
                  <a:pt x="3453" y="11691"/>
                  <a:pt x="3497" y="11782"/>
                </a:cubicBezTo>
              </a:path>
              <a:path w="7145" h="4813">
                <a:moveTo>
                  <a:pt x="2902" y="12427"/>
                </a:moveTo>
                <a:cubicBezTo>
                  <a:pt x="2864" y="12364"/>
                  <a:pt x="2882" y="12318"/>
                  <a:pt x="2927" y="12254"/>
                </a:cubicBezTo>
                <a:cubicBezTo>
                  <a:pt x="2970" y="12193"/>
                  <a:pt x="3002" y="12197"/>
                  <a:pt x="3051" y="12204"/>
                </a:cubicBezTo>
                <a:cubicBezTo>
                  <a:pt x="3166" y="12219"/>
                  <a:pt x="3170" y="12272"/>
                  <a:pt x="3175" y="12378"/>
                </a:cubicBezTo>
                <a:cubicBezTo>
                  <a:pt x="3179" y="12468"/>
                  <a:pt x="3167" y="12485"/>
                  <a:pt x="3125" y="12551"/>
                </a:cubicBezTo>
                <a:cubicBezTo>
                  <a:pt x="3090" y="12607"/>
                  <a:pt x="3073" y="12653"/>
                  <a:pt x="3026" y="12700"/>
                </a:cubicBezTo>
                <a:cubicBezTo>
                  <a:pt x="2989" y="12737"/>
                  <a:pt x="2921" y="12765"/>
                  <a:pt x="2877" y="12774"/>
                </a:cubicBezTo>
                <a:cubicBezTo>
                  <a:pt x="2822" y="12785"/>
                  <a:pt x="2812" y="12759"/>
                  <a:pt x="2778" y="12725"/>
                </a:cubicBezTo>
                <a:cubicBezTo>
                  <a:pt x="2824" y="12697"/>
                  <a:pt x="2892" y="12687"/>
                  <a:pt x="2952" y="12700"/>
                </a:cubicBezTo>
                <a:cubicBezTo>
                  <a:pt x="3047" y="12721"/>
                  <a:pt x="3051" y="12756"/>
                  <a:pt x="3101" y="12824"/>
                </a:cubicBezTo>
                <a:cubicBezTo>
                  <a:pt x="3144" y="12882"/>
                  <a:pt x="3171" y="12925"/>
                  <a:pt x="3175" y="12998"/>
                </a:cubicBezTo>
                <a:cubicBezTo>
                  <a:pt x="3175" y="13042"/>
                  <a:pt x="3172" y="13056"/>
                  <a:pt x="3200" y="13072"/>
                </a:cubicBezTo>
              </a:path>
              <a:path w="7145" h="4813">
                <a:moveTo>
                  <a:pt x="3597" y="12626"/>
                </a:moveTo>
                <a:cubicBezTo>
                  <a:pt x="3540" y="12569"/>
                  <a:pt x="3500" y="12557"/>
                  <a:pt x="3423" y="12601"/>
                </a:cubicBezTo>
                <a:cubicBezTo>
                  <a:pt x="3396" y="12617"/>
                  <a:pt x="3333" y="12737"/>
                  <a:pt x="3324" y="12774"/>
                </a:cubicBezTo>
                <a:cubicBezTo>
                  <a:pt x="3310" y="12833"/>
                  <a:pt x="3321" y="12902"/>
                  <a:pt x="3349" y="12948"/>
                </a:cubicBezTo>
                <a:cubicBezTo>
                  <a:pt x="3431" y="12900"/>
                  <a:pt x="3434" y="12887"/>
                  <a:pt x="3473" y="12799"/>
                </a:cubicBezTo>
                <a:cubicBezTo>
                  <a:pt x="3509" y="12718"/>
                  <a:pt x="3524" y="12657"/>
                  <a:pt x="3547" y="12576"/>
                </a:cubicBezTo>
                <a:cubicBezTo>
                  <a:pt x="3570" y="12495"/>
                  <a:pt x="3550" y="12407"/>
                  <a:pt x="3572" y="12328"/>
                </a:cubicBezTo>
                <a:cubicBezTo>
                  <a:pt x="3608" y="12198"/>
                  <a:pt x="3572" y="12410"/>
                  <a:pt x="3572" y="12452"/>
                </a:cubicBezTo>
                <a:cubicBezTo>
                  <a:pt x="3572" y="12569"/>
                  <a:pt x="3539" y="12753"/>
                  <a:pt x="3597" y="12849"/>
                </a:cubicBezTo>
              </a:path>
              <a:path w="7145" h="4813">
                <a:moveTo>
                  <a:pt x="3944" y="12477"/>
                </a:moveTo>
                <a:cubicBezTo>
                  <a:pt x="4014" y="12533"/>
                  <a:pt x="4100" y="12542"/>
                  <a:pt x="4192" y="12551"/>
                </a:cubicBezTo>
                <a:cubicBezTo>
                  <a:pt x="4256" y="12557"/>
                  <a:pt x="4325" y="12551"/>
                  <a:pt x="4390" y="12551"/>
                </a:cubicBezTo>
              </a:path>
              <a:path w="7145" h="4813">
                <a:moveTo>
                  <a:pt x="4192" y="12278"/>
                </a:moveTo>
                <a:cubicBezTo>
                  <a:pt x="4192" y="12383"/>
                  <a:pt x="4177" y="12479"/>
                  <a:pt x="4167" y="12576"/>
                </a:cubicBezTo>
                <a:cubicBezTo>
                  <a:pt x="4160" y="12645"/>
                  <a:pt x="4154" y="12700"/>
                  <a:pt x="4192" y="12725"/>
                </a:cubicBezTo>
              </a:path>
              <a:path w="7145" h="4813">
                <a:moveTo>
                  <a:pt x="4762" y="12452"/>
                </a:moveTo>
                <a:cubicBezTo>
                  <a:pt x="4808" y="12475"/>
                  <a:pt x="4857" y="12445"/>
                  <a:pt x="4911" y="12402"/>
                </a:cubicBezTo>
                <a:cubicBezTo>
                  <a:pt x="4981" y="12345"/>
                  <a:pt x="5067" y="12269"/>
                  <a:pt x="5085" y="12179"/>
                </a:cubicBezTo>
                <a:cubicBezTo>
                  <a:pt x="5104" y="12085"/>
                  <a:pt x="5079" y="12058"/>
                  <a:pt x="5011" y="12030"/>
                </a:cubicBezTo>
                <a:cubicBezTo>
                  <a:pt x="4934" y="11998"/>
                  <a:pt x="4862" y="12053"/>
                  <a:pt x="4787" y="12105"/>
                </a:cubicBezTo>
                <a:cubicBezTo>
                  <a:pt x="4731" y="12144"/>
                  <a:pt x="4728" y="12176"/>
                  <a:pt x="4762" y="12229"/>
                </a:cubicBezTo>
                <a:cubicBezTo>
                  <a:pt x="4828" y="12331"/>
                  <a:pt x="4837" y="12293"/>
                  <a:pt x="4911" y="12353"/>
                </a:cubicBezTo>
                <a:cubicBezTo>
                  <a:pt x="4968" y="12399"/>
                  <a:pt x="5021" y="12452"/>
                  <a:pt x="5035" y="12526"/>
                </a:cubicBezTo>
                <a:cubicBezTo>
                  <a:pt x="5043" y="12568"/>
                  <a:pt x="4992" y="12671"/>
                  <a:pt x="4961" y="12700"/>
                </a:cubicBezTo>
                <a:cubicBezTo>
                  <a:pt x="4912" y="12746"/>
                  <a:pt x="4802" y="12771"/>
                  <a:pt x="4738" y="12774"/>
                </a:cubicBezTo>
                <a:cubicBezTo>
                  <a:pt x="4697" y="12776"/>
                  <a:pt x="4578" y="12751"/>
                  <a:pt x="4564" y="12700"/>
                </a:cubicBezTo>
                <a:cubicBezTo>
                  <a:pt x="4544" y="12623"/>
                  <a:pt x="4564" y="12576"/>
                  <a:pt x="4614" y="12526"/>
                </a:cubicBezTo>
                <a:cubicBezTo>
                  <a:pt x="4633" y="12507"/>
                  <a:pt x="4712" y="12432"/>
                  <a:pt x="4738" y="12427"/>
                </a:cubicBezTo>
                <a:cubicBezTo>
                  <a:pt x="4763" y="12427"/>
                  <a:pt x="4787" y="12427"/>
                  <a:pt x="4812" y="12427"/>
                </a:cubicBezTo>
              </a:path>
              <a:path w="7145" h="4813">
                <a:moveTo>
                  <a:pt x="5432" y="12303"/>
                </a:moveTo>
                <a:cubicBezTo>
                  <a:pt x="5508" y="12332"/>
                  <a:pt x="5572" y="12328"/>
                  <a:pt x="5655" y="12328"/>
                </a:cubicBezTo>
                <a:cubicBezTo>
                  <a:pt x="5739" y="12328"/>
                  <a:pt x="5835" y="12312"/>
                  <a:pt x="5904" y="12353"/>
                </a:cubicBezTo>
              </a:path>
              <a:path w="7145" h="4813">
                <a:moveTo>
                  <a:pt x="5457" y="12502"/>
                </a:moveTo>
                <a:cubicBezTo>
                  <a:pt x="5527" y="12510"/>
                  <a:pt x="5582" y="12526"/>
                  <a:pt x="5655" y="12526"/>
                </a:cubicBezTo>
                <a:cubicBezTo>
                  <a:pt x="5754" y="12526"/>
                  <a:pt x="5836" y="12536"/>
                  <a:pt x="5928" y="12551"/>
                </a:cubicBezTo>
                <a:cubicBezTo>
                  <a:pt x="5945" y="12551"/>
                  <a:pt x="5961" y="12551"/>
                  <a:pt x="5978" y="12551"/>
                </a:cubicBezTo>
              </a:path>
              <a:path w="7145" h="4813">
                <a:moveTo>
                  <a:pt x="6300" y="12254"/>
                </a:moveTo>
                <a:cubicBezTo>
                  <a:pt x="6284" y="12361"/>
                  <a:pt x="6276" y="12446"/>
                  <a:pt x="6276" y="12551"/>
                </a:cubicBezTo>
                <a:cubicBezTo>
                  <a:pt x="6276" y="12634"/>
                  <a:pt x="6260" y="12730"/>
                  <a:pt x="6300" y="12799"/>
                </a:cubicBezTo>
              </a:path>
              <a:path w="7145" h="4813">
                <a:moveTo>
                  <a:pt x="6921" y="12080"/>
                </a:moveTo>
                <a:cubicBezTo>
                  <a:pt x="6883" y="12146"/>
                  <a:pt x="6833" y="12165"/>
                  <a:pt x="6796" y="12229"/>
                </a:cubicBezTo>
                <a:cubicBezTo>
                  <a:pt x="6760" y="12292"/>
                  <a:pt x="6768" y="12341"/>
                  <a:pt x="6722" y="12402"/>
                </a:cubicBezTo>
                <a:cubicBezTo>
                  <a:pt x="6680" y="12458"/>
                  <a:pt x="6637" y="12554"/>
                  <a:pt x="6623" y="12626"/>
                </a:cubicBezTo>
                <a:cubicBezTo>
                  <a:pt x="6609" y="12697"/>
                  <a:pt x="6665" y="12746"/>
                  <a:pt x="6697" y="12799"/>
                </a:cubicBezTo>
                <a:cubicBezTo>
                  <a:pt x="6750" y="12888"/>
                  <a:pt x="6823" y="12896"/>
                  <a:pt x="6921" y="12849"/>
                </a:cubicBezTo>
                <a:cubicBezTo>
                  <a:pt x="6977" y="12822"/>
                  <a:pt x="6992" y="12753"/>
                  <a:pt x="6995" y="12700"/>
                </a:cubicBezTo>
                <a:cubicBezTo>
                  <a:pt x="6998" y="12647"/>
                  <a:pt x="7015" y="12527"/>
                  <a:pt x="6945" y="12502"/>
                </a:cubicBezTo>
                <a:cubicBezTo>
                  <a:pt x="6903" y="12487"/>
                  <a:pt x="6866" y="12483"/>
                  <a:pt x="6821" y="12477"/>
                </a:cubicBezTo>
              </a:path>
              <a:path w="7145" h="4813">
                <a:moveTo>
                  <a:pt x="4068" y="13097"/>
                </a:moveTo>
                <a:cubicBezTo>
                  <a:pt x="4157" y="13097"/>
                  <a:pt x="4231" y="13084"/>
                  <a:pt x="4316" y="13072"/>
                </a:cubicBezTo>
                <a:cubicBezTo>
                  <a:pt x="4388" y="13062"/>
                  <a:pt x="4466" y="13072"/>
                  <a:pt x="4539" y="13072"/>
                </a:cubicBezTo>
              </a:path>
              <a:path w="7145" h="4813">
                <a:moveTo>
                  <a:pt x="4911" y="13271"/>
                </a:moveTo>
                <a:cubicBezTo>
                  <a:pt x="4975" y="13271"/>
                  <a:pt x="5021" y="13281"/>
                  <a:pt x="5060" y="13221"/>
                </a:cubicBezTo>
                <a:cubicBezTo>
                  <a:pt x="5092" y="13171"/>
                  <a:pt x="5168" y="13097"/>
                  <a:pt x="5184" y="13047"/>
                </a:cubicBezTo>
                <a:cubicBezTo>
                  <a:pt x="5201" y="12993"/>
                  <a:pt x="5223" y="12946"/>
                  <a:pt x="5184" y="12898"/>
                </a:cubicBezTo>
                <a:cubicBezTo>
                  <a:pt x="5137" y="12840"/>
                  <a:pt x="5058" y="12889"/>
                  <a:pt x="5011" y="12898"/>
                </a:cubicBezTo>
                <a:cubicBezTo>
                  <a:pt x="4940" y="12911"/>
                  <a:pt x="4867" y="12956"/>
                  <a:pt x="4887" y="13047"/>
                </a:cubicBezTo>
                <a:cubicBezTo>
                  <a:pt x="4900" y="13109"/>
                  <a:pt x="4955" y="13123"/>
                  <a:pt x="4986" y="13171"/>
                </a:cubicBezTo>
                <a:cubicBezTo>
                  <a:pt x="5043" y="13259"/>
                  <a:pt x="5093" y="13272"/>
                  <a:pt x="5110" y="13395"/>
                </a:cubicBezTo>
                <a:cubicBezTo>
                  <a:pt x="5118" y="13452"/>
                  <a:pt x="5093" y="13527"/>
                  <a:pt x="5060" y="13568"/>
                </a:cubicBezTo>
                <a:cubicBezTo>
                  <a:pt x="5029" y="13607"/>
                  <a:pt x="4977" y="13635"/>
                  <a:pt x="4936" y="13643"/>
                </a:cubicBezTo>
                <a:cubicBezTo>
                  <a:pt x="4867" y="13657"/>
                  <a:pt x="4812" y="13639"/>
                  <a:pt x="4762" y="13593"/>
                </a:cubicBezTo>
                <a:cubicBezTo>
                  <a:pt x="4724" y="13558"/>
                  <a:pt x="4742" y="13484"/>
                  <a:pt x="4762" y="13444"/>
                </a:cubicBezTo>
                <a:cubicBezTo>
                  <a:pt x="4790" y="13388"/>
                  <a:pt x="4866" y="13357"/>
                  <a:pt x="4911" y="13320"/>
                </a:cubicBezTo>
              </a:path>
              <a:path w="7145" h="4813">
                <a:moveTo>
                  <a:pt x="6350" y="13345"/>
                </a:moveTo>
                <a:cubicBezTo>
                  <a:pt x="6417" y="13399"/>
                  <a:pt x="6463" y="13395"/>
                  <a:pt x="6548" y="13395"/>
                </a:cubicBezTo>
                <a:cubicBezTo>
                  <a:pt x="6565" y="13395"/>
                  <a:pt x="6581" y="13395"/>
                  <a:pt x="6598" y="13395"/>
                </a:cubicBezTo>
              </a:path>
              <a:path w="7145" h="4813">
                <a:moveTo>
                  <a:pt x="6945" y="13444"/>
                </a:moveTo>
                <a:cubicBezTo>
                  <a:pt x="6998" y="13414"/>
                  <a:pt x="7073" y="13383"/>
                  <a:pt x="7119" y="13345"/>
                </a:cubicBezTo>
                <a:cubicBezTo>
                  <a:pt x="7208" y="13272"/>
                  <a:pt x="7273" y="13235"/>
                  <a:pt x="7342" y="13146"/>
                </a:cubicBezTo>
                <a:cubicBezTo>
                  <a:pt x="7370" y="13110"/>
                  <a:pt x="7409" y="13079"/>
                  <a:pt x="7441" y="13047"/>
                </a:cubicBezTo>
                <a:cubicBezTo>
                  <a:pt x="7384" y="13000"/>
                  <a:pt x="7321" y="12980"/>
                  <a:pt x="7243" y="12998"/>
                </a:cubicBezTo>
                <a:cubicBezTo>
                  <a:pt x="7163" y="13016"/>
                  <a:pt x="7091" y="13049"/>
                  <a:pt x="7020" y="13097"/>
                </a:cubicBezTo>
                <a:cubicBezTo>
                  <a:pt x="6953" y="13142"/>
                  <a:pt x="6957" y="13205"/>
                  <a:pt x="6995" y="13271"/>
                </a:cubicBezTo>
                <a:cubicBezTo>
                  <a:pt x="7027" y="13327"/>
                  <a:pt x="7106" y="13352"/>
                  <a:pt x="7144" y="13395"/>
                </a:cubicBezTo>
                <a:cubicBezTo>
                  <a:pt x="7190" y="13447"/>
                  <a:pt x="7249" y="13471"/>
                  <a:pt x="7293" y="13519"/>
                </a:cubicBezTo>
                <a:cubicBezTo>
                  <a:pt x="7333" y="13562"/>
                  <a:pt x="7364" y="13662"/>
                  <a:pt x="7367" y="13717"/>
                </a:cubicBezTo>
                <a:cubicBezTo>
                  <a:pt x="7371" y="13781"/>
                  <a:pt x="7335" y="13798"/>
                  <a:pt x="7293" y="13841"/>
                </a:cubicBezTo>
                <a:cubicBezTo>
                  <a:pt x="7250" y="13885"/>
                  <a:pt x="7155" y="13888"/>
                  <a:pt x="7094" y="13891"/>
                </a:cubicBezTo>
                <a:cubicBezTo>
                  <a:pt x="7047" y="13893"/>
                  <a:pt x="6896" y="13858"/>
                  <a:pt x="6871" y="13816"/>
                </a:cubicBezTo>
                <a:cubicBezTo>
                  <a:pt x="6829" y="13745"/>
                  <a:pt x="6831" y="13625"/>
                  <a:pt x="6896" y="13568"/>
                </a:cubicBezTo>
                <a:cubicBezTo>
                  <a:pt x="6965" y="13508"/>
                  <a:pt x="7006" y="13484"/>
                  <a:pt x="7094" y="13444"/>
                </a:cubicBezTo>
                <a:cubicBezTo>
                  <a:pt x="7127" y="13428"/>
                  <a:pt x="7160" y="13411"/>
                  <a:pt x="7193" y="13395"/>
                </a:cubicBezTo>
              </a:path>
              <a:path w="7145" h="4813">
                <a:moveTo>
                  <a:pt x="3026" y="14089"/>
                </a:moveTo>
                <a:cubicBezTo>
                  <a:pt x="3038" y="13997"/>
                  <a:pt x="3059" y="13973"/>
                  <a:pt x="3125" y="13915"/>
                </a:cubicBezTo>
                <a:cubicBezTo>
                  <a:pt x="3205" y="13845"/>
                  <a:pt x="3233" y="13810"/>
                  <a:pt x="3349" y="13791"/>
                </a:cubicBezTo>
                <a:cubicBezTo>
                  <a:pt x="3389" y="13784"/>
                  <a:pt x="3517" y="13811"/>
                  <a:pt x="3547" y="13841"/>
                </a:cubicBezTo>
                <a:cubicBezTo>
                  <a:pt x="3613" y="13907"/>
                  <a:pt x="3604" y="14014"/>
                  <a:pt x="3572" y="14089"/>
                </a:cubicBezTo>
                <a:cubicBezTo>
                  <a:pt x="3540" y="14165"/>
                  <a:pt x="3497" y="14246"/>
                  <a:pt x="3448" y="14312"/>
                </a:cubicBezTo>
                <a:cubicBezTo>
                  <a:pt x="3404" y="14371"/>
                  <a:pt x="3362" y="14419"/>
                  <a:pt x="3299" y="14461"/>
                </a:cubicBezTo>
                <a:cubicBezTo>
                  <a:pt x="3251" y="14485"/>
                  <a:pt x="3237" y="14493"/>
                  <a:pt x="3200" y="14486"/>
                </a:cubicBezTo>
                <a:cubicBezTo>
                  <a:pt x="3162" y="14424"/>
                  <a:pt x="3175" y="14394"/>
                  <a:pt x="3225" y="14337"/>
                </a:cubicBezTo>
                <a:cubicBezTo>
                  <a:pt x="3266" y="14290"/>
                  <a:pt x="3337" y="14272"/>
                  <a:pt x="3398" y="14288"/>
                </a:cubicBezTo>
                <a:cubicBezTo>
                  <a:pt x="3439" y="14299"/>
                  <a:pt x="3561" y="14334"/>
                  <a:pt x="3572" y="14387"/>
                </a:cubicBezTo>
                <a:cubicBezTo>
                  <a:pt x="3588" y="14463"/>
                  <a:pt x="3597" y="14528"/>
                  <a:pt x="3597" y="14610"/>
                </a:cubicBezTo>
                <a:cubicBezTo>
                  <a:pt x="3597" y="14618"/>
                  <a:pt x="3597" y="14627"/>
                  <a:pt x="3597" y="14635"/>
                </a:cubicBezTo>
              </a:path>
              <a:path w="7145" h="4813">
                <a:moveTo>
                  <a:pt x="4043" y="14213"/>
                </a:moveTo>
                <a:cubicBezTo>
                  <a:pt x="3966" y="14213"/>
                  <a:pt x="3911" y="14217"/>
                  <a:pt x="3845" y="14263"/>
                </a:cubicBezTo>
                <a:cubicBezTo>
                  <a:pt x="3787" y="14303"/>
                  <a:pt x="3794" y="14364"/>
                  <a:pt x="3770" y="14412"/>
                </a:cubicBezTo>
                <a:cubicBezTo>
                  <a:pt x="3742" y="14440"/>
                  <a:pt x="3734" y="14453"/>
                  <a:pt x="3746" y="14486"/>
                </a:cubicBezTo>
                <a:cubicBezTo>
                  <a:pt x="3798" y="14513"/>
                  <a:pt x="3820" y="14462"/>
                  <a:pt x="3870" y="14412"/>
                </a:cubicBezTo>
                <a:cubicBezTo>
                  <a:pt x="3948" y="14334"/>
                  <a:pt x="3939" y="14250"/>
                  <a:pt x="3994" y="14163"/>
                </a:cubicBezTo>
                <a:cubicBezTo>
                  <a:pt x="4054" y="14068"/>
                  <a:pt x="4111" y="14010"/>
                  <a:pt x="4142" y="13891"/>
                </a:cubicBezTo>
                <a:cubicBezTo>
                  <a:pt x="4142" y="13874"/>
                  <a:pt x="4142" y="13858"/>
                  <a:pt x="4142" y="13841"/>
                </a:cubicBezTo>
                <a:cubicBezTo>
                  <a:pt x="4135" y="13910"/>
                  <a:pt x="4135" y="13994"/>
                  <a:pt x="4118" y="14064"/>
                </a:cubicBezTo>
                <a:cubicBezTo>
                  <a:pt x="4099" y="14144"/>
                  <a:pt x="4093" y="14201"/>
                  <a:pt x="4093" y="14288"/>
                </a:cubicBezTo>
                <a:cubicBezTo>
                  <a:pt x="4093" y="14362"/>
                  <a:pt x="4083" y="14434"/>
                  <a:pt x="4093" y="14486"/>
                </a:cubicBezTo>
                <a:cubicBezTo>
                  <a:pt x="4093" y="14494"/>
                  <a:pt x="4093" y="14503"/>
                  <a:pt x="4093" y="14511"/>
                </a:cubicBezTo>
              </a:path>
              <a:path w="7145" h="4813">
                <a:moveTo>
                  <a:pt x="4440" y="14139"/>
                </a:moveTo>
                <a:cubicBezTo>
                  <a:pt x="4525" y="14170"/>
                  <a:pt x="4595" y="14163"/>
                  <a:pt x="4688" y="14163"/>
                </a:cubicBezTo>
                <a:cubicBezTo>
                  <a:pt x="4762" y="14163"/>
                  <a:pt x="4832" y="14125"/>
                  <a:pt x="4911" y="14114"/>
                </a:cubicBezTo>
                <a:cubicBezTo>
                  <a:pt x="4953" y="14114"/>
                  <a:pt x="4961" y="14114"/>
                  <a:pt x="4986" y="14114"/>
                </a:cubicBezTo>
              </a:path>
              <a:path w="7145" h="4813">
                <a:moveTo>
                  <a:pt x="4514" y="14387"/>
                </a:moveTo>
                <a:cubicBezTo>
                  <a:pt x="4564" y="14417"/>
                  <a:pt x="4649" y="14429"/>
                  <a:pt x="4713" y="14412"/>
                </a:cubicBezTo>
                <a:cubicBezTo>
                  <a:pt x="4790" y="14392"/>
                  <a:pt x="4854" y="14387"/>
                  <a:pt x="4936" y="14387"/>
                </a:cubicBezTo>
                <a:cubicBezTo>
                  <a:pt x="4986" y="14387"/>
                  <a:pt x="5002" y="14387"/>
                  <a:pt x="5035" y="14387"/>
                </a:cubicBezTo>
              </a:path>
              <a:path w="7145" h="4813">
                <a:moveTo>
                  <a:pt x="5655" y="14238"/>
                </a:moveTo>
                <a:cubicBezTo>
                  <a:pt x="5711" y="14201"/>
                  <a:pt x="5777" y="14186"/>
                  <a:pt x="5829" y="14139"/>
                </a:cubicBezTo>
                <a:cubicBezTo>
                  <a:pt x="5894" y="14081"/>
                  <a:pt x="5940" y="14068"/>
                  <a:pt x="6003" y="14015"/>
                </a:cubicBezTo>
                <a:cubicBezTo>
                  <a:pt x="6057" y="13970"/>
                  <a:pt x="6051" y="13943"/>
                  <a:pt x="6077" y="13891"/>
                </a:cubicBezTo>
                <a:cubicBezTo>
                  <a:pt x="6122" y="13803"/>
                  <a:pt x="6035" y="13773"/>
                  <a:pt x="5953" y="13767"/>
                </a:cubicBezTo>
                <a:cubicBezTo>
                  <a:pt x="5885" y="13762"/>
                  <a:pt x="5767" y="13785"/>
                  <a:pt x="5705" y="13816"/>
                </a:cubicBezTo>
                <a:cubicBezTo>
                  <a:pt x="5666" y="13835"/>
                  <a:pt x="5613" y="13886"/>
                  <a:pt x="5581" y="13915"/>
                </a:cubicBezTo>
                <a:cubicBezTo>
                  <a:pt x="5556" y="13940"/>
                  <a:pt x="5548" y="13948"/>
                  <a:pt x="5531" y="13965"/>
                </a:cubicBezTo>
                <a:cubicBezTo>
                  <a:pt x="5562" y="14019"/>
                  <a:pt x="5601" y="14078"/>
                  <a:pt x="5655" y="14114"/>
                </a:cubicBezTo>
                <a:cubicBezTo>
                  <a:pt x="5727" y="14162"/>
                  <a:pt x="5784" y="14161"/>
                  <a:pt x="5829" y="14238"/>
                </a:cubicBezTo>
                <a:cubicBezTo>
                  <a:pt x="5863" y="14297"/>
                  <a:pt x="5916" y="14331"/>
                  <a:pt x="5953" y="14387"/>
                </a:cubicBezTo>
                <a:cubicBezTo>
                  <a:pt x="5987" y="14437"/>
                  <a:pt x="6016" y="14554"/>
                  <a:pt x="6003" y="14610"/>
                </a:cubicBezTo>
                <a:cubicBezTo>
                  <a:pt x="5995" y="14646"/>
                  <a:pt x="5886" y="14727"/>
                  <a:pt x="5854" y="14734"/>
                </a:cubicBezTo>
                <a:cubicBezTo>
                  <a:pt x="5785" y="14750"/>
                  <a:pt x="5669" y="14741"/>
                  <a:pt x="5606" y="14709"/>
                </a:cubicBezTo>
                <a:cubicBezTo>
                  <a:pt x="5571" y="14691"/>
                  <a:pt x="5514" y="14622"/>
                  <a:pt x="5507" y="14585"/>
                </a:cubicBezTo>
                <a:cubicBezTo>
                  <a:pt x="5500" y="14543"/>
                  <a:pt x="5504" y="14394"/>
                  <a:pt x="5531" y="14362"/>
                </a:cubicBezTo>
                <a:cubicBezTo>
                  <a:pt x="5573" y="14313"/>
                  <a:pt x="5673" y="14239"/>
                  <a:pt x="5730" y="14213"/>
                </a:cubicBezTo>
                <a:cubicBezTo>
                  <a:pt x="5792" y="14184"/>
                  <a:pt x="5819" y="14172"/>
                  <a:pt x="5879" y="14163"/>
                </a:cubicBezTo>
              </a:path>
              <a:path w="7145" h="4813">
                <a:moveTo>
                  <a:pt x="3001" y="14660"/>
                </a:moveTo>
                <a:cubicBezTo>
                  <a:pt x="3082" y="14660"/>
                  <a:pt x="3158" y="14645"/>
                  <a:pt x="3225" y="14635"/>
                </a:cubicBezTo>
                <a:cubicBezTo>
                  <a:pt x="3318" y="14621"/>
                  <a:pt x="3407" y="14631"/>
                  <a:pt x="3497" y="14610"/>
                </a:cubicBezTo>
                <a:cubicBezTo>
                  <a:pt x="3610" y="14584"/>
                  <a:pt x="3730" y="14551"/>
                  <a:pt x="3845" y="14536"/>
                </a:cubicBezTo>
                <a:cubicBezTo>
                  <a:pt x="3908" y="14528"/>
                  <a:pt x="3957" y="14519"/>
                  <a:pt x="4018" y="14511"/>
                </a:cubicBezTo>
              </a:path>
              <a:path w="7145" h="4813">
                <a:moveTo>
                  <a:pt x="3373" y="14883"/>
                </a:moveTo>
                <a:cubicBezTo>
                  <a:pt x="3350" y="14978"/>
                  <a:pt x="3357" y="15025"/>
                  <a:pt x="3373" y="15106"/>
                </a:cubicBezTo>
                <a:cubicBezTo>
                  <a:pt x="3373" y="15151"/>
                  <a:pt x="3369" y="15164"/>
                  <a:pt x="3398" y="15180"/>
                </a:cubicBezTo>
                <a:cubicBezTo>
                  <a:pt x="3453" y="15126"/>
                  <a:pt x="3448" y="15113"/>
                  <a:pt x="3497" y="15081"/>
                </a:cubicBezTo>
                <a:cubicBezTo>
                  <a:pt x="3562" y="15039"/>
                  <a:pt x="3605" y="15039"/>
                  <a:pt x="3646" y="15106"/>
                </a:cubicBezTo>
                <a:cubicBezTo>
                  <a:pt x="3690" y="15176"/>
                  <a:pt x="3674" y="15255"/>
                  <a:pt x="3646" y="15329"/>
                </a:cubicBezTo>
                <a:cubicBezTo>
                  <a:pt x="3615" y="15409"/>
                  <a:pt x="3566" y="15500"/>
                  <a:pt x="3497" y="15553"/>
                </a:cubicBezTo>
                <a:cubicBezTo>
                  <a:pt x="3425" y="15609"/>
                  <a:pt x="3334" y="15602"/>
                  <a:pt x="3249" y="15602"/>
                </a:cubicBezTo>
                <a:cubicBezTo>
                  <a:pt x="3233" y="15602"/>
                  <a:pt x="3216" y="15602"/>
                  <a:pt x="3200" y="15602"/>
                </a:cubicBezTo>
                <a:cubicBezTo>
                  <a:pt x="3200" y="15503"/>
                  <a:pt x="3199" y="15509"/>
                  <a:pt x="3274" y="15453"/>
                </a:cubicBezTo>
                <a:cubicBezTo>
                  <a:pt x="3318" y="15420"/>
                  <a:pt x="3416" y="15416"/>
                  <a:pt x="3473" y="15429"/>
                </a:cubicBezTo>
                <a:cubicBezTo>
                  <a:pt x="3548" y="15446"/>
                  <a:pt x="3593" y="15510"/>
                  <a:pt x="3646" y="15553"/>
                </a:cubicBezTo>
                <a:cubicBezTo>
                  <a:pt x="3699" y="15597"/>
                  <a:pt x="3726" y="15650"/>
                  <a:pt x="3746" y="15701"/>
                </a:cubicBezTo>
                <a:cubicBezTo>
                  <a:pt x="3775" y="15773"/>
                  <a:pt x="3807" y="15834"/>
                  <a:pt x="3845" y="15900"/>
                </a:cubicBezTo>
              </a:path>
              <a:path w="7145" h="4813">
                <a:moveTo>
                  <a:pt x="5234" y="14858"/>
                </a:moveTo>
                <a:cubicBezTo>
                  <a:pt x="5369" y="14858"/>
                  <a:pt x="5497" y="14838"/>
                  <a:pt x="5631" y="14833"/>
                </a:cubicBezTo>
                <a:cubicBezTo>
                  <a:pt x="5747" y="14829"/>
                  <a:pt x="5888" y="14825"/>
                  <a:pt x="6003" y="14808"/>
                </a:cubicBezTo>
                <a:cubicBezTo>
                  <a:pt x="6125" y="14790"/>
                  <a:pt x="6205" y="14795"/>
                  <a:pt x="6325" y="14808"/>
                </a:cubicBezTo>
                <a:cubicBezTo>
                  <a:pt x="6426" y="14819"/>
                  <a:pt x="6476" y="14822"/>
                  <a:pt x="6573" y="14858"/>
                </a:cubicBezTo>
              </a:path>
              <a:path w="7145" h="4813">
                <a:moveTo>
                  <a:pt x="5631" y="15304"/>
                </a:moveTo>
                <a:cubicBezTo>
                  <a:pt x="5748" y="15253"/>
                  <a:pt x="5826" y="15230"/>
                  <a:pt x="5953" y="15230"/>
                </a:cubicBezTo>
                <a:cubicBezTo>
                  <a:pt x="5997" y="15230"/>
                  <a:pt x="6108" y="15252"/>
                  <a:pt x="6127" y="15304"/>
                </a:cubicBezTo>
                <a:cubicBezTo>
                  <a:pt x="6151" y="15370"/>
                  <a:pt x="6118" y="15411"/>
                  <a:pt x="6077" y="15453"/>
                </a:cubicBezTo>
                <a:cubicBezTo>
                  <a:pt x="5985" y="15546"/>
                  <a:pt x="5992" y="15521"/>
                  <a:pt x="5879" y="15577"/>
                </a:cubicBezTo>
                <a:cubicBezTo>
                  <a:pt x="5822" y="15605"/>
                  <a:pt x="5775" y="15602"/>
                  <a:pt x="5705" y="15602"/>
                </a:cubicBezTo>
                <a:cubicBezTo>
                  <a:pt x="5645" y="15602"/>
                  <a:pt x="5646" y="15592"/>
                  <a:pt x="5606" y="15553"/>
                </a:cubicBezTo>
                <a:cubicBezTo>
                  <a:pt x="5652" y="15459"/>
                  <a:pt x="5651" y="15453"/>
                  <a:pt x="5755" y="15453"/>
                </a:cubicBezTo>
                <a:cubicBezTo>
                  <a:pt x="5831" y="15453"/>
                  <a:pt x="5892" y="15445"/>
                  <a:pt x="5953" y="15478"/>
                </a:cubicBezTo>
                <a:cubicBezTo>
                  <a:pt x="6020" y="15514"/>
                  <a:pt x="6029" y="15548"/>
                  <a:pt x="6077" y="15602"/>
                </a:cubicBezTo>
                <a:cubicBezTo>
                  <a:pt x="6127" y="15658"/>
                  <a:pt x="6098" y="15757"/>
                  <a:pt x="6127" y="15825"/>
                </a:cubicBezTo>
                <a:cubicBezTo>
                  <a:pt x="6135" y="15833"/>
                  <a:pt x="6144" y="15842"/>
                  <a:pt x="6152" y="15850"/>
                </a:cubicBezTo>
              </a:path>
              <a:path w="7145" h="4813">
                <a:moveTo>
                  <a:pt x="7392" y="14560"/>
                </a:moveTo>
                <a:cubicBezTo>
                  <a:pt x="7296" y="14572"/>
                  <a:pt x="7244" y="14615"/>
                  <a:pt x="7169" y="14684"/>
                </a:cubicBezTo>
                <a:cubicBezTo>
                  <a:pt x="7127" y="14722"/>
                  <a:pt x="7082" y="14776"/>
                  <a:pt x="7069" y="14833"/>
                </a:cubicBezTo>
                <a:cubicBezTo>
                  <a:pt x="7049" y="14924"/>
                  <a:pt x="7119" y="14971"/>
                  <a:pt x="7193" y="14932"/>
                </a:cubicBezTo>
                <a:cubicBezTo>
                  <a:pt x="7266" y="14894"/>
                  <a:pt x="7285" y="14876"/>
                  <a:pt x="7342" y="14808"/>
                </a:cubicBezTo>
                <a:cubicBezTo>
                  <a:pt x="7405" y="14733"/>
                  <a:pt x="7449" y="14673"/>
                  <a:pt x="7491" y="14585"/>
                </a:cubicBezTo>
                <a:cubicBezTo>
                  <a:pt x="7524" y="14516"/>
                  <a:pt x="7528" y="14452"/>
                  <a:pt x="7565" y="14387"/>
                </a:cubicBezTo>
                <a:cubicBezTo>
                  <a:pt x="7602" y="14322"/>
                  <a:pt x="7574" y="14153"/>
                  <a:pt x="7640" y="14188"/>
                </a:cubicBezTo>
                <a:cubicBezTo>
                  <a:pt x="7653" y="14195"/>
                  <a:pt x="7573" y="14440"/>
                  <a:pt x="7565" y="14461"/>
                </a:cubicBezTo>
                <a:cubicBezTo>
                  <a:pt x="7527" y="14563"/>
                  <a:pt x="7525" y="14676"/>
                  <a:pt x="7491" y="14784"/>
                </a:cubicBezTo>
                <a:cubicBezTo>
                  <a:pt x="7455" y="14900"/>
                  <a:pt x="7435" y="14934"/>
                  <a:pt x="7466" y="15056"/>
                </a:cubicBezTo>
              </a:path>
              <a:path w="7145" h="4813">
                <a:moveTo>
                  <a:pt x="7863" y="14536"/>
                </a:moveTo>
                <a:cubicBezTo>
                  <a:pt x="7995" y="14536"/>
                  <a:pt x="8128" y="14536"/>
                  <a:pt x="8260" y="14536"/>
                </a:cubicBezTo>
              </a:path>
              <a:path w="7145" h="4813">
                <a:moveTo>
                  <a:pt x="7764" y="14684"/>
                </a:moveTo>
                <a:cubicBezTo>
                  <a:pt x="7828" y="14693"/>
                  <a:pt x="7867" y="14709"/>
                  <a:pt x="7938" y="14709"/>
                </a:cubicBezTo>
                <a:cubicBezTo>
                  <a:pt x="8023" y="14709"/>
                  <a:pt x="8105" y="14744"/>
                  <a:pt x="8186" y="14734"/>
                </a:cubicBezTo>
                <a:cubicBezTo>
                  <a:pt x="8268" y="14713"/>
                  <a:pt x="8283" y="14705"/>
                  <a:pt x="8334" y="14709"/>
                </a:cubicBezTo>
              </a:path>
              <a:path w="7145" h="4813">
                <a:moveTo>
                  <a:pt x="8880" y="13891"/>
                </a:moveTo>
                <a:cubicBezTo>
                  <a:pt x="8844" y="13962"/>
                  <a:pt x="8819" y="14046"/>
                  <a:pt x="8781" y="14114"/>
                </a:cubicBezTo>
                <a:cubicBezTo>
                  <a:pt x="8750" y="14170"/>
                  <a:pt x="8756" y="14219"/>
                  <a:pt x="8756" y="14288"/>
                </a:cubicBezTo>
                <a:cubicBezTo>
                  <a:pt x="8756" y="14376"/>
                  <a:pt x="8773" y="14379"/>
                  <a:pt x="8830" y="14436"/>
                </a:cubicBezTo>
                <a:cubicBezTo>
                  <a:pt x="8873" y="14479"/>
                  <a:pt x="8918" y="14501"/>
                  <a:pt x="8979" y="14511"/>
                </a:cubicBezTo>
                <a:cubicBezTo>
                  <a:pt x="9067" y="14526"/>
                  <a:pt x="9154" y="14512"/>
                  <a:pt x="9227" y="14461"/>
                </a:cubicBezTo>
                <a:cubicBezTo>
                  <a:pt x="9235" y="14453"/>
                  <a:pt x="9244" y="14444"/>
                  <a:pt x="9252" y="14436"/>
                </a:cubicBezTo>
              </a:path>
              <a:path w="7145" h="4813">
                <a:moveTo>
                  <a:pt x="9500" y="13915"/>
                </a:moveTo>
                <a:cubicBezTo>
                  <a:pt x="9453" y="14004"/>
                  <a:pt x="9432" y="14051"/>
                  <a:pt x="9401" y="14139"/>
                </a:cubicBezTo>
                <a:cubicBezTo>
                  <a:pt x="9356" y="14268"/>
                  <a:pt x="9285" y="14412"/>
                  <a:pt x="9227" y="14536"/>
                </a:cubicBezTo>
                <a:cubicBezTo>
                  <a:pt x="9180" y="14638"/>
                  <a:pt x="9082" y="14749"/>
                  <a:pt x="9054" y="14858"/>
                </a:cubicBezTo>
                <a:cubicBezTo>
                  <a:pt x="9054" y="14958"/>
                  <a:pt x="9050" y="15008"/>
                  <a:pt x="9029" y="1508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Ink 8"/>
          <p:cNvSpPr/>
          <p:nvPr/>
        </p:nvSpPr>
        <p:spPr>
          <a:xfrm>
            <a:off x="4643280" y="4081320"/>
            <a:ext cx="2857680" cy="1793880"/>
          </a:xfrm>
          <a:custGeom>
            <a:avLst/>
            <a:gdLst/>
            <a:ahLst/>
            <a:rect l="l" t="t" r="r" b="b"/>
            <a:pathLst>
              <a:path w="7939" h="4986">
                <a:moveTo>
                  <a:pt x="12898" y="11336"/>
                </a:moveTo>
                <a:cubicBezTo>
                  <a:pt x="12962" y="11345"/>
                  <a:pt x="13001" y="11361"/>
                  <a:pt x="13072" y="11361"/>
                </a:cubicBezTo>
                <a:cubicBezTo>
                  <a:pt x="13184" y="11361"/>
                  <a:pt x="13292" y="11401"/>
                  <a:pt x="13395" y="11410"/>
                </a:cubicBezTo>
                <a:cubicBezTo>
                  <a:pt x="13436" y="11410"/>
                  <a:pt x="13478" y="11410"/>
                  <a:pt x="13519" y="11410"/>
                </a:cubicBezTo>
              </a:path>
              <a:path w="7939" h="4986">
                <a:moveTo>
                  <a:pt x="13915" y="11410"/>
                </a:moveTo>
                <a:cubicBezTo>
                  <a:pt x="13872" y="11358"/>
                  <a:pt x="13824" y="11341"/>
                  <a:pt x="13742" y="11361"/>
                </a:cubicBezTo>
                <a:cubicBezTo>
                  <a:pt x="13689" y="11374"/>
                  <a:pt x="13636" y="11406"/>
                  <a:pt x="13593" y="11435"/>
                </a:cubicBezTo>
                <a:cubicBezTo>
                  <a:pt x="13660" y="11476"/>
                  <a:pt x="13701" y="11448"/>
                  <a:pt x="13767" y="11435"/>
                </a:cubicBezTo>
                <a:cubicBezTo>
                  <a:pt x="13825" y="11424"/>
                  <a:pt x="13865" y="11416"/>
                  <a:pt x="13915" y="11385"/>
                </a:cubicBezTo>
                <a:cubicBezTo>
                  <a:pt x="13896" y="11410"/>
                  <a:pt x="13822" y="11481"/>
                  <a:pt x="13816" y="11509"/>
                </a:cubicBezTo>
                <a:cubicBezTo>
                  <a:pt x="13801" y="11578"/>
                  <a:pt x="13776" y="11664"/>
                  <a:pt x="13767" y="11733"/>
                </a:cubicBezTo>
                <a:cubicBezTo>
                  <a:pt x="13764" y="11758"/>
                  <a:pt x="13749" y="11981"/>
                  <a:pt x="13791" y="11981"/>
                </a:cubicBezTo>
                <a:cubicBezTo>
                  <a:pt x="13799" y="11973"/>
                  <a:pt x="13808" y="11964"/>
                  <a:pt x="13816" y="11956"/>
                </a:cubicBezTo>
              </a:path>
              <a:path w="7939" h="4986">
                <a:moveTo>
                  <a:pt x="13965" y="11733"/>
                </a:moveTo>
                <a:cubicBezTo>
                  <a:pt x="14049" y="11715"/>
                  <a:pt x="14124" y="11716"/>
                  <a:pt x="14188" y="11658"/>
                </a:cubicBezTo>
                <a:cubicBezTo>
                  <a:pt x="14196" y="11650"/>
                  <a:pt x="14205" y="11641"/>
                  <a:pt x="14213" y="11633"/>
                </a:cubicBezTo>
                <a:cubicBezTo>
                  <a:pt x="14128" y="11633"/>
                  <a:pt x="14128" y="11642"/>
                  <a:pt x="14064" y="11683"/>
                </a:cubicBezTo>
                <a:cubicBezTo>
                  <a:pt x="13976" y="11740"/>
                  <a:pt x="13959" y="11811"/>
                  <a:pt x="14039" y="11906"/>
                </a:cubicBezTo>
                <a:cubicBezTo>
                  <a:pt x="14095" y="11973"/>
                  <a:pt x="14206" y="12007"/>
                  <a:pt x="14288" y="12030"/>
                </a:cubicBezTo>
                <a:cubicBezTo>
                  <a:pt x="14321" y="12038"/>
                  <a:pt x="14354" y="12047"/>
                  <a:pt x="14387" y="12055"/>
                </a:cubicBezTo>
              </a:path>
              <a:path w="7939" h="4986">
                <a:moveTo>
                  <a:pt x="14610" y="12526"/>
                </a:moveTo>
                <a:cubicBezTo>
                  <a:pt x="14648" y="12549"/>
                  <a:pt x="14710" y="12585"/>
                  <a:pt x="14759" y="12576"/>
                </a:cubicBezTo>
                <a:cubicBezTo>
                  <a:pt x="14861" y="12557"/>
                  <a:pt x="14949" y="12551"/>
                  <a:pt x="15056" y="12551"/>
                </a:cubicBezTo>
                <a:cubicBezTo>
                  <a:pt x="15197" y="12551"/>
                  <a:pt x="15337" y="12551"/>
                  <a:pt x="15478" y="12551"/>
                </a:cubicBezTo>
              </a:path>
              <a:path w="7939" h="4986">
                <a:moveTo>
                  <a:pt x="15801" y="12328"/>
                </a:moveTo>
                <a:cubicBezTo>
                  <a:pt x="15801" y="12481"/>
                  <a:pt x="15794" y="12629"/>
                  <a:pt x="15776" y="12774"/>
                </a:cubicBezTo>
                <a:cubicBezTo>
                  <a:pt x="15767" y="12849"/>
                  <a:pt x="15760" y="12940"/>
                  <a:pt x="15825" y="12923"/>
                </a:cubicBezTo>
              </a:path>
              <a:path w="7939" h="4986">
                <a:moveTo>
                  <a:pt x="15974" y="12427"/>
                </a:moveTo>
                <a:cubicBezTo>
                  <a:pt x="16062" y="12398"/>
                  <a:pt x="16130" y="12378"/>
                  <a:pt x="16222" y="12378"/>
                </a:cubicBezTo>
                <a:cubicBezTo>
                  <a:pt x="16298" y="12378"/>
                  <a:pt x="16376" y="12377"/>
                  <a:pt x="16446" y="12353"/>
                </a:cubicBezTo>
                <a:cubicBezTo>
                  <a:pt x="16489" y="12331"/>
                  <a:pt x="16501" y="12327"/>
                  <a:pt x="16520" y="12303"/>
                </a:cubicBezTo>
              </a:path>
              <a:path w="7939" h="4986">
                <a:moveTo>
                  <a:pt x="16073" y="12402"/>
                </a:moveTo>
                <a:cubicBezTo>
                  <a:pt x="16082" y="12444"/>
                  <a:pt x="16089" y="12604"/>
                  <a:pt x="16148" y="12626"/>
                </a:cubicBezTo>
                <a:cubicBezTo>
                  <a:pt x="16226" y="12654"/>
                  <a:pt x="16407" y="12575"/>
                  <a:pt x="16470" y="12650"/>
                </a:cubicBezTo>
                <a:cubicBezTo>
                  <a:pt x="16499" y="12685"/>
                  <a:pt x="16461" y="12796"/>
                  <a:pt x="16446" y="12824"/>
                </a:cubicBezTo>
                <a:cubicBezTo>
                  <a:pt x="16424" y="12866"/>
                  <a:pt x="16429" y="12956"/>
                  <a:pt x="16371" y="12973"/>
                </a:cubicBezTo>
                <a:cubicBezTo>
                  <a:pt x="16313" y="12990"/>
                  <a:pt x="16208" y="12947"/>
                  <a:pt x="16173" y="12898"/>
                </a:cubicBezTo>
                <a:cubicBezTo>
                  <a:pt x="16150" y="12866"/>
                  <a:pt x="16132" y="12833"/>
                  <a:pt x="16123" y="12799"/>
                </a:cubicBezTo>
              </a:path>
              <a:path w="7939" h="4986">
                <a:moveTo>
                  <a:pt x="16892" y="12700"/>
                </a:moveTo>
                <a:cubicBezTo>
                  <a:pt x="16982" y="12658"/>
                  <a:pt x="17067" y="12642"/>
                  <a:pt x="17165" y="12626"/>
                </a:cubicBezTo>
                <a:cubicBezTo>
                  <a:pt x="17288" y="12606"/>
                  <a:pt x="17456" y="12619"/>
                  <a:pt x="17562" y="12650"/>
                </a:cubicBezTo>
                <a:cubicBezTo>
                  <a:pt x="17570" y="12650"/>
                  <a:pt x="17579" y="12650"/>
                  <a:pt x="17587" y="12650"/>
                </a:cubicBezTo>
              </a:path>
              <a:path w="7939" h="4986">
                <a:moveTo>
                  <a:pt x="16818" y="12998"/>
                </a:moveTo>
                <a:cubicBezTo>
                  <a:pt x="16909" y="13025"/>
                  <a:pt x="16949" y="13047"/>
                  <a:pt x="17041" y="13047"/>
                </a:cubicBezTo>
                <a:cubicBezTo>
                  <a:pt x="17138" y="13047"/>
                  <a:pt x="17223" y="13057"/>
                  <a:pt x="17314" y="13072"/>
                </a:cubicBezTo>
                <a:cubicBezTo>
                  <a:pt x="17421" y="13089"/>
                  <a:pt x="17552" y="13072"/>
                  <a:pt x="17661" y="13072"/>
                </a:cubicBezTo>
              </a:path>
              <a:path w="7939" h="4986">
                <a:moveTo>
                  <a:pt x="18058" y="12675"/>
                </a:moveTo>
                <a:cubicBezTo>
                  <a:pt x="18123" y="12636"/>
                  <a:pt x="18204" y="12642"/>
                  <a:pt x="18281" y="12675"/>
                </a:cubicBezTo>
                <a:cubicBezTo>
                  <a:pt x="18306" y="12686"/>
                  <a:pt x="18443" y="12754"/>
                  <a:pt x="18455" y="12774"/>
                </a:cubicBezTo>
                <a:cubicBezTo>
                  <a:pt x="18455" y="12791"/>
                  <a:pt x="18455" y="12807"/>
                  <a:pt x="18455" y="12824"/>
                </a:cubicBezTo>
                <a:cubicBezTo>
                  <a:pt x="18405" y="12837"/>
                  <a:pt x="18360" y="12856"/>
                  <a:pt x="18306" y="12874"/>
                </a:cubicBezTo>
                <a:cubicBezTo>
                  <a:pt x="18240" y="12895"/>
                  <a:pt x="18225" y="12903"/>
                  <a:pt x="18182" y="12898"/>
                </a:cubicBezTo>
                <a:cubicBezTo>
                  <a:pt x="18199" y="12968"/>
                  <a:pt x="18228" y="12994"/>
                  <a:pt x="18281" y="13047"/>
                </a:cubicBezTo>
                <a:cubicBezTo>
                  <a:pt x="18341" y="13107"/>
                  <a:pt x="18433" y="13124"/>
                  <a:pt x="18479" y="13196"/>
                </a:cubicBezTo>
                <a:cubicBezTo>
                  <a:pt x="18508" y="13242"/>
                  <a:pt x="18490" y="13312"/>
                  <a:pt x="18430" y="13320"/>
                </a:cubicBezTo>
                <a:cubicBezTo>
                  <a:pt x="18367" y="13329"/>
                  <a:pt x="18314" y="13343"/>
                  <a:pt x="18256" y="13345"/>
                </a:cubicBezTo>
                <a:cubicBezTo>
                  <a:pt x="18151" y="13349"/>
                  <a:pt x="18102" y="13325"/>
                  <a:pt x="18008" y="13320"/>
                </a:cubicBezTo>
                <a:cubicBezTo>
                  <a:pt x="17967" y="13320"/>
                  <a:pt x="17951" y="13328"/>
                  <a:pt x="17959" y="13295"/>
                </a:cubicBezTo>
              </a:path>
              <a:path w="7939" h="4986">
                <a:moveTo>
                  <a:pt x="18653" y="13196"/>
                </a:moveTo>
                <a:cubicBezTo>
                  <a:pt x="18735" y="13227"/>
                  <a:pt x="18755" y="13211"/>
                  <a:pt x="18827" y="13196"/>
                </a:cubicBezTo>
                <a:cubicBezTo>
                  <a:pt x="18918" y="13178"/>
                  <a:pt x="19001" y="13164"/>
                  <a:pt x="19025" y="13072"/>
                </a:cubicBezTo>
                <a:cubicBezTo>
                  <a:pt x="19049" y="12981"/>
                  <a:pt x="18984" y="12964"/>
                  <a:pt x="18926" y="12948"/>
                </a:cubicBezTo>
                <a:cubicBezTo>
                  <a:pt x="18852" y="12928"/>
                  <a:pt x="18793" y="12940"/>
                  <a:pt x="18728" y="12973"/>
                </a:cubicBezTo>
                <a:cubicBezTo>
                  <a:pt x="18663" y="13006"/>
                  <a:pt x="18676" y="13097"/>
                  <a:pt x="18653" y="13146"/>
                </a:cubicBezTo>
                <a:cubicBezTo>
                  <a:pt x="18626" y="13204"/>
                  <a:pt x="18625" y="13279"/>
                  <a:pt x="18653" y="13345"/>
                </a:cubicBezTo>
                <a:cubicBezTo>
                  <a:pt x="18674" y="13395"/>
                  <a:pt x="18800" y="13502"/>
                  <a:pt x="18852" y="13519"/>
                </a:cubicBezTo>
                <a:cubicBezTo>
                  <a:pt x="18944" y="13548"/>
                  <a:pt x="19057" y="13514"/>
                  <a:pt x="19124" y="13469"/>
                </a:cubicBezTo>
              </a:path>
              <a:path w="7939" h="4986">
                <a:moveTo>
                  <a:pt x="19670" y="12849"/>
                </a:moveTo>
                <a:cubicBezTo>
                  <a:pt x="19796" y="12912"/>
                  <a:pt x="19769" y="12907"/>
                  <a:pt x="19769" y="13047"/>
                </a:cubicBezTo>
                <a:cubicBezTo>
                  <a:pt x="19769" y="13117"/>
                  <a:pt x="19745" y="13173"/>
                  <a:pt x="19745" y="13246"/>
                </a:cubicBezTo>
                <a:cubicBezTo>
                  <a:pt x="19745" y="13340"/>
                  <a:pt x="19725" y="13426"/>
                  <a:pt x="19720" y="13519"/>
                </a:cubicBezTo>
                <a:cubicBezTo>
                  <a:pt x="19720" y="13527"/>
                  <a:pt x="19720" y="13535"/>
                  <a:pt x="19720" y="13543"/>
                </a:cubicBezTo>
              </a:path>
              <a:path w="7939" h="4986">
                <a:moveTo>
                  <a:pt x="19397" y="13221"/>
                </a:moveTo>
                <a:cubicBezTo>
                  <a:pt x="19446" y="13251"/>
                  <a:pt x="19508" y="13270"/>
                  <a:pt x="19571" y="13271"/>
                </a:cubicBezTo>
                <a:cubicBezTo>
                  <a:pt x="19692" y="13274"/>
                  <a:pt x="19851" y="13291"/>
                  <a:pt x="19968" y="13246"/>
                </a:cubicBezTo>
                <a:cubicBezTo>
                  <a:pt x="19984" y="13238"/>
                  <a:pt x="20001" y="13229"/>
                  <a:pt x="20017" y="13221"/>
                </a:cubicBezTo>
              </a:path>
              <a:path w="7939" h="4986">
                <a:moveTo>
                  <a:pt x="20340" y="12998"/>
                </a:moveTo>
                <a:cubicBezTo>
                  <a:pt x="20402" y="12967"/>
                  <a:pt x="20471" y="12957"/>
                  <a:pt x="20538" y="12998"/>
                </a:cubicBezTo>
                <a:cubicBezTo>
                  <a:pt x="20602" y="13037"/>
                  <a:pt x="20675" y="13076"/>
                  <a:pt x="20737" y="13122"/>
                </a:cubicBezTo>
                <a:cubicBezTo>
                  <a:pt x="20762" y="13146"/>
                  <a:pt x="20770" y="13154"/>
                  <a:pt x="20786" y="13171"/>
                </a:cubicBezTo>
                <a:cubicBezTo>
                  <a:pt x="20732" y="13213"/>
                  <a:pt x="20654" y="13191"/>
                  <a:pt x="20588" y="13171"/>
                </a:cubicBezTo>
                <a:cubicBezTo>
                  <a:pt x="20520" y="13150"/>
                  <a:pt x="20524" y="13135"/>
                  <a:pt x="20464" y="13171"/>
                </a:cubicBezTo>
                <a:cubicBezTo>
                  <a:pt x="20518" y="13226"/>
                  <a:pt x="20561" y="13289"/>
                  <a:pt x="20613" y="13345"/>
                </a:cubicBezTo>
                <a:cubicBezTo>
                  <a:pt x="20670" y="13406"/>
                  <a:pt x="20701" y="13416"/>
                  <a:pt x="20712" y="13494"/>
                </a:cubicBezTo>
                <a:cubicBezTo>
                  <a:pt x="20616" y="13494"/>
                  <a:pt x="20553" y="13485"/>
                  <a:pt x="20464" y="13494"/>
                </a:cubicBezTo>
                <a:cubicBezTo>
                  <a:pt x="20398" y="13500"/>
                  <a:pt x="20351" y="13517"/>
                  <a:pt x="20290" y="13543"/>
                </a:cubicBezTo>
              </a:path>
              <a:path w="7939" h="4986">
                <a:moveTo>
                  <a:pt x="19348" y="14015"/>
                </a:moveTo>
                <a:cubicBezTo>
                  <a:pt x="19402" y="14047"/>
                  <a:pt x="19482" y="14033"/>
                  <a:pt x="19546" y="14015"/>
                </a:cubicBezTo>
                <a:cubicBezTo>
                  <a:pt x="19623" y="13993"/>
                  <a:pt x="19687" y="13990"/>
                  <a:pt x="19769" y="13990"/>
                </a:cubicBezTo>
                <a:cubicBezTo>
                  <a:pt x="19777" y="13990"/>
                  <a:pt x="19786" y="13990"/>
                  <a:pt x="19794" y="13990"/>
                </a:cubicBezTo>
              </a:path>
              <a:path w="7939" h="4986">
                <a:moveTo>
                  <a:pt x="20141" y="13915"/>
                </a:moveTo>
                <a:cubicBezTo>
                  <a:pt x="20217" y="13866"/>
                  <a:pt x="20275" y="13866"/>
                  <a:pt x="20365" y="13866"/>
                </a:cubicBezTo>
                <a:cubicBezTo>
                  <a:pt x="20441" y="13866"/>
                  <a:pt x="20501" y="13859"/>
                  <a:pt x="20563" y="13891"/>
                </a:cubicBezTo>
                <a:cubicBezTo>
                  <a:pt x="20607" y="13912"/>
                  <a:pt x="20619" y="13915"/>
                  <a:pt x="20638" y="13940"/>
                </a:cubicBezTo>
                <a:cubicBezTo>
                  <a:pt x="20596" y="13982"/>
                  <a:pt x="20555" y="14023"/>
                  <a:pt x="20513" y="14064"/>
                </a:cubicBezTo>
                <a:cubicBezTo>
                  <a:pt x="20588" y="14077"/>
                  <a:pt x="20667" y="14084"/>
                  <a:pt x="20737" y="14114"/>
                </a:cubicBezTo>
                <a:cubicBezTo>
                  <a:pt x="20790" y="14137"/>
                  <a:pt x="20892" y="14174"/>
                  <a:pt x="20811" y="14238"/>
                </a:cubicBezTo>
                <a:cubicBezTo>
                  <a:pt x="20759" y="14278"/>
                  <a:pt x="20694" y="14328"/>
                  <a:pt x="20638" y="14362"/>
                </a:cubicBezTo>
                <a:cubicBezTo>
                  <a:pt x="20572" y="14402"/>
                  <a:pt x="20524" y="14457"/>
                  <a:pt x="20464" y="14511"/>
                </a:cubicBezTo>
              </a:path>
              <a:path w="7939" h="4986">
                <a:moveTo>
                  <a:pt x="14883" y="13370"/>
                </a:moveTo>
                <a:cubicBezTo>
                  <a:pt x="14980" y="13370"/>
                  <a:pt x="15063" y="13355"/>
                  <a:pt x="15156" y="13345"/>
                </a:cubicBezTo>
                <a:cubicBezTo>
                  <a:pt x="15286" y="13330"/>
                  <a:pt x="15422" y="13345"/>
                  <a:pt x="15553" y="13345"/>
                </a:cubicBezTo>
              </a:path>
              <a:path w="7939" h="4986">
                <a:moveTo>
                  <a:pt x="15801" y="13271"/>
                </a:moveTo>
                <a:cubicBezTo>
                  <a:pt x="15853" y="13323"/>
                  <a:pt x="15888" y="13307"/>
                  <a:pt x="15949" y="13345"/>
                </a:cubicBezTo>
                <a:cubicBezTo>
                  <a:pt x="16005" y="13380"/>
                  <a:pt x="16013" y="13421"/>
                  <a:pt x="15974" y="13469"/>
                </a:cubicBezTo>
                <a:cubicBezTo>
                  <a:pt x="15945" y="13505"/>
                  <a:pt x="15864" y="13520"/>
                  <a:pt x="15850" y="13568"/>
                </a:cubicBezTo>
                <a:cubicBezTo>
                  <a:pt x="15820" y="13672"/>
                  <a:pt x="15882" y="13670"/>
                  <a:pt x="15949" y="13717"/>
                </a:cubicBezTo>
                <a:cubicBezTo>
                  <a:pt x="15999" y="13752"/>
                  <a:pt x="16015" y="13834"/>
                  <a:pt x="15999" y="13891"/>
                </a:cubicBezTo>
                <a:cubicBezTo>
                  <a:pt x="15977" y="13969"/>
                  <a:pt x="15891" y="13940"/>
                  <a:pt x="15825" y="13940"/>
                </a:cubicBezTo>
                <a:cubicBezTo>
                  <a:pt x="15817" y="13940"/>
                  <a:pt x="15809" y="13940"/>
                  <a:pt x="15801" y="13940"/>
                </a:cubicBezTo>
              </a:path>
              <a:path w="7939" h="4986">
                <a:moveTo>
                  <a:pt x="14759" y="14337"/>
                </a:moveTo>
                <a:cubicBezTo>
                  <a:pt x="14810" y="14368"/>
                  <a:pt x="14897" y="14383"/>
                  <a:pt x="14957" y="14387"/>
                </a:cubicBezTo>
                <a:cubicBezTo>
                  <a:pt x="15016" y="14390"/>
                  <a:pt x="15034" y="14383"/>
                  <a:pt x="15081" y="14412"/>
                </a:cubicBezTo>
              </a:path>
              <a:path w="7939" h="4986">
                <a:moveTo>
                  <a:pt x="15627" y="14188"/>
                </a:moveTo>
                <a:cubicBezTo>
                  <a:pt x="15627" y="14317"/>
                  <a:pt x="15632" y="14438"/>
                  <a:pt x="15652" y="14560"/>
                </a:cubicBezTo>
                <a:cubicBezTo>
                  <a:pt x="15652" y="14602"/>
                  <a:pt x="15644" y="14618"/>
                  <a:pt x="15677" y="14610"/>
                </a:cubicBezTo>
              </a:path>
              <a:path w="7939" h="4986">
                <a:moveTo>
                  <a:pt x="16098" y="14213"/>
                </a:moveTo>
                <a:cubicBezTo>
                  <a:pt x="16030" y="14213"/>
                  <a:pt x="15952" y="14196"/>
                  <a:pt x="15900" y="14238"/>
                </a:cubicBezTo>
                <a:cubicBezTo>
                  <a:pt x="15844" y="14283"/>
                  <a:pt x="15892" y="14343"/>
                  <a:pt x="15925" y="14387"/>
                </a:cubicBezTo>
                <a:cubicBezTo>
                  <a:pt x="15961" y="14437"/>
                  <a:pt x="16015" y="14453"/>
                  <a:pt x="16049" y="14511"/>
                </a:cubicBezTo>
                <a:cubicBezTo>
                  <a:pt x="16084" y="14570"/>
                  <a:pt x="16096" y="14564"/>
                  <a:pt x="16073" y="14610"/>
                </a:cubicBezTo>
                <a:cubicBezTo>
                  <a:pt x="16014" y="14601"/>
                  <a:pt x="15954" y="14573"/>
                  <a:pt x="15900" y="14536"/>
                </a:cubicBezTo>
                <a:cubicBezTo>
                  <a:pt x="15845" y="14498"/>
                  <a:pt x="15880" y="14419"/>
                  <a:pt x="15925" y="14387"/>
                </a:cubicBezTo>
                <a:cubicBezTo>
                  <a:pt x="15966" y="14357"/>
                  <a:pt x="16020" y="14334"/>
                  <a:pt x="16049" y="14288"/>
                </a:cubicBezTo>
                <a:cubicBezTo>
                  <a:pt x="16094" y="14217"/>
                  <a:pt x="16137" y="14183"/>
                  <a:pt x="16123" y="14114"/>
                </a:cubicBezTo>
                <a:cubicBezTo>
                  <a:pt x="16123" y="14106"/>
                  <a:pt x="16123" y="14097"/>
                  <a:pt x="16123" y="14089"/>
                </a:cubicBezTo>
              </a:path>
              <a:path w="7939" h="4986">
                <a:moveTo>
                  <a:pt x="16545" y="14288"/>
                </a:moveTo>
                <a:cubicBezTo>
                  <a:pt x="16620" y="14312"/>
                  <a:pt x="16692" y="14321"/>
                  <a:pt x="16768" y="14337"/>
                </a:cubicBezTo>
                <a:cubicBezTo>
                  <a:pt x="16845" y="14354"/>
                  <a:pt x="16917" y="14372"/>
                  <a:pt x="16991" y="14387"/>
                </a:cubicBezTo>
              </a:path>
              <a:path w="7939" h="4986">
                <a:moveTo>
                  <a:pt x="16396" y="14536"/>
                </a:moveTo>
                <a:cubicBezTo>
                  <a:pt x="16446" y="14565"/>
                  <a:pt x="16507" y="14583"/>
                  <a:pt x="16570" y="14585"/>
                </a:cubicBezTo>
                <a:cubicBezTo>
                  <a:pt x="16697" y="14589"/>
                  <a:pt x="16795" y="14565"/>
                  <a:pt x="16917" y="14560"/>
                </a:cubicBezTo>
                <a:cubicBezTo>
                  <a:pt x="16991" y="14557"/>
                  <a:pt x="17043" y="14554"/>
                  <a:pt x="17115" y="14536"/>
                </a:cubicBezTo>
              </a:path>
              <a:path w="7939" h="4986">
                <a:moveTo>
                  <a:pt x="17363" y="14039"/>
                </a:moveTo>
                <a:cubicBezTo>
                  <a:pt x="17426" y="14003"/>
                  <a:pt x="17536" y="14024"/>
                  <a:pt x="17611" y="14039"/>
                </a:cubicBezTo>
                <a:cubicBezTo>
                  <a:pt x="17691" y="14055"/>
                  <a:pt x="17882" y="14044"/>
                  <a:pt x="17909" y="14139"/>
                </a:cubicBezTo>
                <a:cubicBezTo>
                  <a:pt x="17909" y="14155"/>
                  <a:pt x="17909" y="14172"/>
                  <a:pt x="17909" y="14188"/>
                </a:cubicBezTo>
                <a:cubicBezTo>
                  <a:pt x="17848" y="14225"/>
                  <a:pt x="17772" y="14207"/>
                  <a:pt x="17711" y="14238"/>
                </a:cubicBezTo>
                <a:cubicBezTo>
                  <a:pt x="17622" y="14283"/>
                  <a:pt x="17565" y="14325"/>
                  <a:pt x="17611" y="14412"/>
                </a:cubicBezTo>
                <a:cubicBezTo>
                  <a:pt x="17645" y="14476"/>
                  <a:pt x="17698" y="14523"/>
                  <a:pt x="17735" y="14585"/>
                </a:cubicBezTo>
                <a:cubicBezTo>
                  <a:pt x="17758" y="14624"/>
                  <a:pt x="17783" y="14719"/>
                  <a:pt x="17711" y="14734"/>
                </a:cubicBezTo>
                <a:cubicBezTo>
                  <a:pt x="17595" y="14759"/>
                  <a:pt x="17580" y="14689"/>
                  <a:pt x="17487" y="14660"/>
                </a:cubicBezTo>
                <a:cubicBezTo>
                  <a:pt x="17411" y="14637"/>
                  <a:pt x="17413" y="14673"/>
                  <a:pt x="17438" y="14585"/>
                </a:cubicBezTo>
              </a:path>
              <a:path w="7939" h="4986">
                <a:moveTo>
                  <a:pt x="17959" y="14511"/>
                </a:moveTo>
                <a:cubicBezTo>
                  <a:pt x="18049" y="14511"/>
                  <a:pt x="18127" y="14513"/>
                  <a:pt x="18207" y="14461"/>
                </a:cubicBezTo>
                <a:cubicBezTo>
                  <a:pt x="18252" y="14432"/>
                  <a:pt x="18290" y="14354"/>
                  <a:pt x="18231" y="14312"/>
                </a:cubicBezTo>
                <a:cubicBezTo>
                  <a:pt x="18158" y="14260"/>
                  <a:pt x="18108" y="14287"/>
                  <a:pt x="18058" y="14337"/>
                </a:cubicBezTo>
                <a:cubicBezTo>
                  <a:pt x="18008" y="14387"/>
                  <a:pt x="18010" y="14406"/>
                  <a:pt x="17983" y="14461"/>
                </a:cubicBezTo>
                <a:cubicBezTo>
                  <a:pt x="17945" y="14539"/>
                  <a:pt x="17974" y="14598"/>
                  <a:pt x="18008" y="14684"/>
                </a:cubicBezTo>
                <a:cubicBezTo>
                  <a:pt x="18035" y="14752"/>
                  <a:pt x="18106" y="14788"/>
                  <a:pt x="18157" y="14833"/>
                </a:cubicBezTo>
                <a:cubicBezTo>
                  <a:pt x="18218" y="14886"/>
                  <a:pt x="18278" y="14927"/>
                  <a:pt x="18355" y="14957"/>
                </a:cubicBezTo>
                <a:cubicBezTo>
                  <a:pt x="18413" y="14976"/>
                  <a:pt x="18420" y="14985"/>
                  <a:pt x="18455" y="14982"/>
                </a:cubicBezTo>
              </a:path>
              <a:path w="7939" h="4986">
                <a:moveTo>
                  <a:pt x="17115" y="14784"/>
                </a:moveTo>
                <a:cubicBezTo>
                  <a:pt x="17183" y="14784"/>
                  <a:pt x="17262" y="14763"/>
                  <a:pt x="17314" y="14759"/>
                </a:cubicBezTo>
                <a:cubicBezTo>
                  <a:pt x="17440" y="14748"/>
                  <a:pt x="17562" y="14747"/>
                  <a:pt x="17686" y="14734"/>
                </a:cubicBezTo>
                <a:cubicBezTo>
                  <a:pt x="17859" y="14717"/>
                  <a:pt x="18063" y="14726"/>
                  <a:pt x="18231" y="14759"/>
                </a:cubicBezTo>
                <a:cubicBezTo>
                  <a:pt x="18332" y="14779"/>
                  <a:pt x="18432" y="14781"/>
                  <a:pt x="18529" y="14808"/>
                </a:cubicBezTo>
                <a:cubicBezTo>
                  <a:pt x="18603" y="14827"/>
                  <a:pt x="18610" y="14835"/>
                  <a:pt x="18653" y="14833"/>
                </a:cubicBezTo>
              </a:path>
              <a:path w="7939" h="4986">
                <a:moveTo>
                  <a:pt x="17636" y="15106"/>
                </a:moveTo>
                <a:cubicBezTo>
                  <a:pt x="17699" y="15085"/>
                  <a:pt x="17791" y="15048"/>
                  <a:pt x="17859" y="15056"/>
                </a:cubicBezTo>
                <a:cubicBezTo>
                  <a:pt x="17939" y="15066"/>
                  <a:pt x="18084" y="15072"/>
                  <a:pt x="18157" y="15106"/>
                </a:cubicBezTo>
                <a:cubicBezTo>
                  <a:pt x="18187" y="15136"/>
                  <a:pt x="18201" y="15147"/>
                  <a:pt x="18231" y="15156"/>
                </a:cubicBezTo>
                <a:cubicBezTo>
                  <a:pt x="18161" y="15190"/>
                  <a:pt x="18104" y="15211"/>
                  <a:pt x="18033" y="15230"/>
                </a:cubicBezTo>
                <a:cubicBezTo>
                  <a:pt x="17972" y="15246"/>
                  <a:pt x="17861" y="15299"/>
                  <a:pt x="17934" y="15379"/>
                </a:cubicBezTo>
                <a:cubicBezTo>
                  <a:pt x="17976" y="15425"/>
                  <a:pt x="18099" y="15471"/>
                  <a:pt x="18157" y="15503"/>
                </a:cubicBezTo>
                <a:cubicBezTo>
                  <a:pt x="18207" y="15528"/>
                  <a:pt x="18223" y="15536"/>
                  <a:pt x="18256" y="15553"/>
                </a:cubicBezTo>
              </a:path>
              <a:path w="7939" h="4986">
                <a:moveTo>
                  <a:pt x="18281" y="15677"/>
                </a:moveTo>
                <a:cubicBezTo>
                  <a:pt x="18231" y="15706"/>
                  <a:pt x="18145" y="15739"/>
                  <a:pt x="18083" y="15751"/>
                </a:cubicBezTo>
                <a:cubicBezTo>
                  <a:pt x="17966" y="15773"/>
                  <a:pt x="17875" y="15820"/>
                  <a:pt x="17760" y="15850"/>
                </a:cubicBezTo>
                <a:cubicBezTo>
                  <a:pt x="17686" y="15869"/>
                  <a:pt x="17585" y="15892"/>
                  <a:pt x="17512" y="15900"/>
                </a:cubicBezTo>
                <a:cubicBezTo>
                  <a:pt x="17379" y="15914"/>
                  <a:pt x="17245" y="15894"/>
                  <a:pt x="17115" y="15875"/>
                </a:cubicBezTo>
              </a:path>
              <a:path w="7939" h="4986">
                <a:moveTo>
                  <a:pt x="14635" y="14784"/>
                </a:moveTo>
                <a:cubicBezTo>
                  <a:pt x="14827" y="14784"/>
                  <a:pt x="15013" y="14763"/>
                  <a:pt x="15205" y="14759"/>
                </a:cubicBezTo>
                <a:cubicBezTo>
                  <a:pt x="15488" y="14752"/>
                  <a:pt x="15769" y="14765"/>
                  <a:pt x="16049" y="14784"/>
                </a:cubicBezTo>
                <a:cubicBezTo>
                  <a:pt x="16186" y="14793"/>
                  <a:pt x="16308" y="14811"/>
                  <a:pt x="16446" y="14833"/>
                </a:cubicBezTo>
              </a:path>
              <a:path w="7939" h="4986">
                <a:moveTo>
                  <a:pt x="15230" y="15106"/>
                </a:moveTo>
                <a:cubicBezTo>
                  <a:pt x="15399" y="15106"/>
                  <a:pt x="15566" y="15110"/>
                  <a:pt x="15726" y="15131"/>
                </a:cubicBezTo>
                <a:cubicBezTo>
                  <a:pt x="15792" y="15131"/>
                  <a:pt x="15809" y="15131"/>
                  <a:pt x="15850" y="15131"/>
                </a:cubicBezTo>
                <a:cubicBezTo>
                  <a:pt x="15829" y="15204"/>
                  <a:pt x="15784" y="15216"/>
                  <a:pt x="15701" y="15230"/>
                </a:cubicBezTo>
                <a:cubicBezTo>
                  <a:pt x="15642" y="15240"/>
                  <a:pt x="15604" y="15253"/>
                  <a:pt x="15553" y="15280"/>
                </a:cubicBezTo>
                <a:cubicBezTo>
                  <a:pt x="15505" y="15303"/>
                  <a:pt x="15488" y="15309"/>
                  <a:pt x="15503" y="15354"/>
                </a:cubicBezTo>
                <a:cubicBezTo>
                  <a:pt x="15571" y="15364"/>
                  <a:pt x="15592" y="15393"/>
                  <a:pt x="15652" y="15429"/>
                </a:cubicBezTo>
                <a:cubicBezTo>
                  <a:pt x="15714" y="15466"/>
                  <a:pt x="15791" y="15479"/>
                  <a:pt x="15850" y="15503"/>
                </a:cubicBezTo>
                <a:cubicBezTo>
                  <a:pt x="15911" y="15523"/>
                  <a:pt x="15926" y="15521"/>
                  <a:pt x="15949" y="15553"/>
                </a:cubicBezTo>
                <a:cubicBezTo>
                  <a:pt x="15944" y="15592"/>
                  <a:pt x="15927" y="15662"/>
                  <a:pt x="15875" y="15677"/>
                </a:cubicBezTo>
                <a:cubicBezTo>
                  <a:pt x="15814" y="15694"/>
                  <a:pt x="15745" y="15716"/>
                  <a:pt x="15677" y="15726"/>
                </a:cubicBezTo>
                <a:cubicBezTo>
                  <a:pt x="15587" y="15739"/>
                  <a:pt x="15522" y="15767"/>
                  <a:pt x="15429" y="15801"/>
                </a:cubicBezTo>
                <a:cubicBezTo>
                  <a:pt x="15361" y="15826"/>
                  <a:pt x="15286" y="15841"/>
                  <a:pt x="15230" y="15875"/>
                </a:cubicBezTo>
              </a:path>
              <a:path w="7939" h="4986">
                <a:moveTo>
                  <a:pt x="14486" y="16222"/>
                </a:moveTo>
                <a:cubicBezTo>
                  <a:pt x="14541" y="16255"/>
                  <a:pt x="14614" y="16269"/>
                  <a:pt x="14684" y="16272"/>
                </a:cubicBezTo>
                <a:cubicBezTo>
                  <a:pt x="14811" y="16277"/>
                  <a:pt x="14933" y="16284"/>
                  <a:pt x="15056" y="16297"/>
                </a:cubicBezTo>
                <a:cubicBezTo>
                  <a:pt x="15161" y="16308"/>
                  <a:pt x="15260" y="16294"/>
                  <a:pt x="15354" y="16321"/>
                </a:cubicBezTo>
                <a:cubicBezTo>
                  <a:pt x="15362" y="16321"/>
                  <a:pt x="15371" y="16321"/>
                  <a:pt x="15379" y="1632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Ink 9"/>
          <p:cNvSpPr/>
          <p:nvPr/>
        </p:nvSpPr>
        <p:spPr>
          <a:xfrm>
            <a:off x="6161040" y="4205160"/>
            <a:ext cx="625680" cy="376200"/>
          </a:xfrm>
          <a:custGeom>
            <a:avLst/>
            <a:gdLst/>
            <a:ahLst/>
            <a:rect l="l" t="t" r="r" b="b"/>
            <a:pathLst>
              <a:path w="1738" h="1043">
                <a:moveTo>
                  <a:pt x="17115" y="11832"/>
                </a:moveTo>
                <a:cubicBezTo>
                  <a:pt x="17180" y="11808"/>
                  <a:pt x="17244" y="11784"/>
                  <a:pt x="17314" y="11782"/>
                </a:cubicBezTo>
                <a:cubicBezTo>
                  <a:pt x="17441" y="11778"/>
                  <a:pt x="17567" y="11797"/>
                  <a:pt x="17686" y="11757"/>
                </a:cubicBezTo>
              </a:path>
              <a:path w="1738" h="1043">
                <a:moveTo>
                  <a:pt x="18107" y="11708"/>
                </a:moveTo>
                <a:cubicBezTo>
                  <a:pt x="18035" y="11671"/>
                  <a:pt x="17981" y="11684"/>
                  <a:pt x="17909" y="11733"/>
                </a:cubicBezTo>
                <a:cubicBezTo>
                  <a:pt x="17849" y="11773"/>
                  <a:pt x="17859" y="11815"/>
                  <a:pt x="17859" y="11881"/>
                </a:cubicBezTo>
                <a:cubicBezTo>
                  <a:pt x="17937" y="11881"/>
                  <a:pt x="17995" y="11884"/>
                  <a:pt x="18058" y="11832"/>
                </a:cubicBezTo>
                <a:cubicBezTo>
                  <a:pt x="18103" y="11796"/>
                  <a:pt x="18141" y="11748"/>
                  <a:pt x="18182" y="11708"/>
                </a:cubicBezTo>
                <a:cubicBezTo>
                  <a:pt x="18174" y="11796"/>
                  <a:pt x="18157" y="11865"/>
                  <a:pt x="18157" y="11956"/>
                </a:cubicBezTo>
                <a:cubicBezTo>
                  <a:pt x="18157" y="12039"/>
                  <a:pt x="18122" y="12185"/>
                  <a:pt x="18132" y="12254"/>
                </a:cubicBezTo>
                <a:cubicBezTo>
                  <a:pt x="18141" y="12316"/>
                  <a:pt x="18167" y="12367"/>
                  <a:pt x="18231" y="12378"/>
                </a:cubicBezTo>
                <a:cubicBezTo>
                  <a:pt x="18239" y="12378"/>
                  <a:pt x="18248" y="12378"/>
                  <a:pt x="18256" y="12378"/>
                </a:cubicBezTo>
              </a:path>
              <a:path w="1738" h="1043">
                <a:moveTo>
                  <a:pt x="18455" y="12129"/>
                </a:moveTo>
                <a:cubicBezTo>
                  <a:pt x="18515" y="12135"/>
                  <a:pt x="18617" y="12177"/>
                  <a:pt x="18678" y="12154"/>
                </a:cubicBezTo>
                <a:cubicBezTo>
                  <a:pt x="18711" y="12141"/>
                  <a:pt x="18837" y="12097"/>
                  <a:pt x="18852" y="12055"/>
                </a:cubicBezTo>
                <a:cubicBezTo>
                  <a:pt x="18886" y="11959"/>
                  <a:pt x="18845" y="11900"/>
                  <a:pt x="18752" y="11881"/>
                </a:cubicBezTo>
                <a:cubicBezTo>
                  <a:pt x="18692" y="11869"/>
                  <a:pt x="18638" y="11878"/>
                  <a:pt x="18604" y="11931"/>
                </a:cubicBezTo>
                <a:cubicBezTo>
                  <a:pt x="18545" y="12024"/>
                  <a:pt x="18557" y="12129"/>
                  <a:pt x="18579" y="12229"/>
                </a:cubicBezTo>
                <a:cubicBezTo>
                  <a:pt x="18605" y="12344"/>
                  <a:pt x="18652" y="12473"/>
                  <a:pt x="18703" y="12576"/>
                </a:cubicBezTo>
                <a:cubicBezTo>
                  <a:pt x="18752" y="12650"/>
                  <a:pt x="18769" y="12675"/>
                  <a:pt x="18802" y="1272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Ink 10"/>
          <p:cNvSpPr/>
          <p:nvPr/>
        </p:nvSpPr>
        <p:spPr>
          <a:xfrm>
            <a:off x="2357280" y="5572080"/>
            <a:ext cx="1473480" cy="428760"/>
          </a:xfrm>
          <a:custGeom>
            <a:avLst/>
            <a:gdLst/>
            <a:ahLst/>
            <a:rect l="l" t="t" r="r" b="b"/>
            <a:pathLst>
              <a:path w="4094" h="1192">
                <a:moveTo>
                  <a:pt x="7094" y="15850"/>
                </a:moveTo>
                <a:cubicBezTo>
                  <a:pt x="7012" y="15862"/>
                  <a:pt x="6984" y="15911"/>
                  <a:pt x="6921" y="15974"/>
                </a:cubicBezTo>
                <a:cubicBezTo>
                  <a:pt x="6884" y="16012"/>
                  <a:pt x="6801" y="16062"/>
                  <a:pt x="6821" y="16123"/>
                </a:cubicBezTo>
                <a:cubicBezTo>
                  <a:pt x="6846" y="16199"/>
                  <a:pt x="6920" y="16124"/>
                  <a:pt x="6945" y="16098"/>
                </a:cubicBezTo>
                <a:cubicBezTo>
                  <a:pt x="6889" y="16055"/>
                  <a:pt x="6832" y="16084"/>
                  <a:pt x="6772" y="16123"/>
                </a:cubicBezTo>
                <a:cubicBezTo>
                  <a:pt x="6730" y="16151"/>
                  <a:pt x="6655" y="16165"/>
                  <a:pt x="6623" y="16197"/>
                </a:cubicBezTo>
                <a:cubicBezTo>
                  <a:pt x="6585" y="16235"/>
                  <a:pt x="6550" y="16322"/>
                  <a:pt x="6548" y="16371"/>
                </a:cubicBezTo>
                <a:cubicBezTo>
                  <a:pt x="6543" y="16480"/>
                  <a:pt x="6547" y="16495"/>
                  <a:pt x="6623" y="16570"/>
                </a:cubicBezTo>
                <a:cubicBezTo>
                  <a:pt x="6682" y="16628"/>
                  <a:pt x="6742" y="16641"/>
                  <a:pt x="6821" y="16644"/>
                </a:cubicBezTo>
                <a:cubicBezTo>
                  <a:pt x="6920" y="16648"/>
                  <a:pt x="6939" y="16636"/>
                  <a:pt x="7020" y="16594"/>
                </a:cubicBezTo>
                <a:cubicBezTo>
                  <a:pt x="7036" y="16586"/>
                  <a:pt x="7053" y="16578"/>
                  <a:pt x="7069" y="16570"/>
                </a:cubicBezTo>
              </a:path>
              <a:path w="4094" h="1192">
                <a:moveTo>
                  <a:pt x="7169" y="16495"/>
                </a:moveTo>
                <a:cubicBezTo>
                  <a:pt x="7142" y="16398"/>
                  <a:pt x="7144" y="16324"/>
                  <a:pt x="7144" y="16222"/>
                </a:cubicBezTo>
                <a:cubicBezTo>
                  <a:pt x="7144" y="16180"/>
                  <a:pt x="7174" y="16129"/>
                  <a:pt x="7218" y="16098"/>
                </a:cubicBezTo>
                <a:cubicBezTo>
                  <a:pt x="7286" y="16049"/>
                  <a:pt x="7318" y="16074"/>
                  <a:pt x="7367" y="16123"/>
                </a:cubicBezTo>
                <a:cubicBezTo>
                  <a:pt x="7410" y="16166"/>
                  <a:pt x="7405" y="16164"/>
                  <a:pt x="7466" y="16173"/>
                </a:cubicBezTo>
              </a:path>
              <a:path w="4094" h="1192">
                <a:moveTo>
                  <a:pt x="7640" y="16098"/>
                </a:moveTo>
                <a:cubicBezTo>
                  <a:pt x="7663" y="16136"/>
                  <a:pt x="7680" y="16196"/>
                  <a:pt x="7665" y="16247"/>
                </a:cubicBezTo>
                <a:cubicBezTo>
                  <a:pt x="7648" y="16306"/>
                  <a:pt x="7623" y="16334"/>
                  <a:pt x="7615" y="16396"/>
                </a:cubicBezTo>
              </a:path>
              <a:path w="4094" h="1192">
                <a:moveTo>
                  <a:pt x="8062" y="16024"/>
                </a:moveTo>
                <a:cubicBezTo>
                  <a:pt x="8034" y="16068"/>
                  <a:pt x="7990" y="16149"/>
                  <a:pt x="7938" y="16173"/>
                </a:cubicBezTo>
                <a:cubicBezTo>
                  <a:pt x="7888" y="16196"/>
                  <a:pt x="7908" y="16292"/>
                  <a:pt x="7938" y="16346"/>
                </a:cubicBezTo>
                <a:cubicBezTo>
                  <a:pt x="7967" y="16398"/>
                  <a:pt x="8084" y="16443"/>
                  <a:pt x="8136" y="16446"/>
                </a:cubicBezTo>
                <a:cubicBezTo>
                  <a:pt x="8199" y="16450"/>
                  <a:pt x="8228" y="16443"/>
                  <a:pt x="8285" y="16421"/>
                </a:cubicBezTo>
              </a:path>
              <a:path w="4094" h="1192">
                <a:moveTo>
                  <a:pt x="7243" y="15528"/>
                </a:moveTo>
                <a:cubicBezTo>
                  <a:pt x="7235" y="15520"/>
                  <a:pt x="7226" y="15511"/>
                  <a:pt x="7218" y="15503"/>
                </a:cubicBezTo>
                <a:cubicBezTo>
                  <a:pt x="7170" y="15532"/>
                  <a:pt x="7125" y="15548"/>
                  <a:pt x="7069" y="15577"/>
                </a:cubicBezTo>
                <a:cubicBezTo>
                  <a:pt x="7025" y="15600"/>
                  <a:pt x="6973" y="15633"/>
                  <a:pt x="6945" y="15677"/>
                </a:cubicBezTo>
                <a:cubicBezTo>
                  <a:pt x="6911" y="15731"/>
                  <a:pt x="6875" y="15763"/>
                  <a:pt x="6871" y="15825"/>
                </a:cubicBezTo>
                <a:cubicBezTo>
                  <a:pt x="6869" y="15864"/>
                  <a:pt x="6898" y="15936"/>
                  <a:pt x="6945" y="15949"/>
                </a:cubicBezTo>
                <a:cubicBezTo>
                  <a:pt x="7000" y="15964"/>
                  <a:pt x="7020" y="15944"/>
                  <a:pt x="7069" y="15974"/>
                </a:cubicBezTo>
              </a:path>
              <a:path w="4094" h="1192">
                <a:moveTo>
                  <a:pt x="6995" y="15478"/>
                </a:moveTo>
                <a:cubicBezTo>
                  <a:pt x="6919" y="15572"/>
                  <a:pt x="6813" y="15633"/>
                  <a:pt x="6945" y="15652"/>
                </a:cubicBezTo>
              </a:path>
              <a:path w="4094" h="1192">
                <a:moveTo>
                  <a:pt x="7317" y="15553"/>
                </a:moveTo>
                <a:cubicBezTo>
                  <a:pt x="7413" y="15534"/>
                  <a:pt x="7382" y="15518"/>
                  <a:pt x="7441" y="15577"/>
                </a:cubicBezTo>
                <a:cubicBezTo>
                  <a:pt x="7353" y="15639"/>
                  <a:pt x="7281" y="15713"/>
                  <a:pt x="7193" y="15776"/>
                </a:cubicBezTo>
                <a:cubicBezTo>
                  <a:pt x="7092" y="15849"/>
                  <a:pt x="7010" y="15936"/>
                  <a:pt x="6921" y="16024"/>
                </a:cubicBezTo>
                <a:cubicBezTo>
                  <a:pt x="6888" y="16057"/>
                  <a:pt x="6854" y="16090"/>
                  <a:pt x="6821" y="16123"/>
                </a:cubicBezTo>
                <a:cubicBezTo>
                  <a:pt x="6897" y="16169"/>
                  <a:pt x="6960" y="16126"/>
                  <a:pt x="7045" y="16098"/>
                </a:cubicBezTo>
                <a:cubicBezTo>
                  <a:pt x="7176" y="16054"/>
                  <a:pt x="7272" y="15984"/>
                  <a:pt x="7417" y="15974"/>
                </a:cubicBezTo>
                <a:cubicBezTo>
                  <a:pt x="7485" y="15974"/>
                  <a:pt x="7504" y="15971"/>
                  <a:pt x="7541" y="15999"/>
                </a:cubicBezTo>
                <a:cubicBezTo>
                  <a:pt x="7469" y="16071"/>
                  <a:pt x="7403" y="16120"/>
                  <a:pt x="7317" y="16173"/>
                </a:cubicBezTo>
                <a:cubicBezTo>
                  <a:pt x="7235" y="16224"/>
                  <a:pt x="7163" y="16278"/>
                  <a:pt x="7094" y="16346"/>
                </a:cubicBezTo>
                <a:cubicBezTo>
                  <a:pt x="7086" y="16354"/>
                  <a:pt x="7077" y="16363"/>
                  <a:pt x="7069" y="16371"/>
                </a:cubicBezTo>
                <a:cubicBezTo>
                  <a:pt x="7116" y="16394"/>
                  <a:pt x="7154" y="16368"/>
                  <a:pt x="7218" y="16346"/>
                </a:cubicBezTo>
                <a:cubicBezTo>
                  <a:pt x="7349" y="16300"/>
                  <a:pt x="7484" y="16266"/>
                  <a:pt x="7615" y="16222"/>
                </a:cubicBezTo>
                <a:cubicBezTo>
                  <a:pt x="7680" y="16200"/>
                  <a:pt x="7794" y="16172"/>
                  <a:pt x="7863" y="16197"/>
                </a:cubicBezTo>
                <a:cubicBezTo>
                  <a:pt x="7888" y="16222"/>
                  <a:pt x="7896" y="16230"/>
                  <a:pt x="7913" y="16247"/>
                </a:cubicBezTo>
                <a:cubicBezTo>
                  <a:pt x="7870" y="16374"/>
                  <a:pt x="7816" y="16416"/>
                  <a:pt x="7739" y="16520"/>
                </a:cubicBezTo>
                <a:cubicBezTo>
                  <a:pt x="7706" y="16564"/>
                  <a:pt x="7703" y="16620"/>
                  <a:pt x="7689" y="16669"/>
                </a:cubicBezTo>
              </a:path>
              <a:path w="4094" h="1192">
                <a:moveTo>
                  <a:pt x="9103" y="15677"/>
                </a:moveTo>
                <a:cubicBezTo>
                  <a:pt x="9049" y="15580"/>
                  <a:pt x="9050" y="15611"/>
                  <a:pt x="8954" y="15627"/>
                </a:cubicBezTo>
                <a:cubicBezTo>
                  <a:pt x="8841" y="15646"/>
                  <a:pt x="8812" y="15664"/>
                  <a:pt x="8706" y="15726"/>
                </a:cubicBezTo>
                <a:cubicBezTo>
                  <a:pt x="8662" y="15752"/>
                  <a:pt x="8586" y="15813"/>
                  <a:pt x="8607" y="15875"/>
                </a:cubicBezTo>
                <a:cubicBezTo>
                  <a:pt x="8632" y="15948"/>
                  <a:pt x="8749" y="15936"/>
                  <a:pt x="8806" y="15925"/>
                </a:cubicBezTo>
                <a:cubicBezTo>
                  <a:pt x="8826" y="15921"/>
                  <a:pt x="9051" y="15857"/>
                  <a:pt x="8930" y="15900"/>
                </a:cubicBezTo>
                <a:cubicBezTo>
                  <a:pt x="8856" y="15927"/>
                  <a:pt x="8777" y="15950"/>
                  <a:pt x="8706" y="15974"/>
                </a:cubicBezTo>
                <a:cubicBezTo>
                  <a:pt x="8654" y="15991"/>
                  <a:pt x="8619" y="16036"/>
                  <a:pt x="8582" y="16073"/>
                </a:cubicBezTo>
                <a:cubicBezTo>
                  <a:pt x="8552" y="16104"/>
                  <a:pt x="8511" y="16156"/>
                  <a:pt x="8508" y="16197"/>
                </a:cubicBezTo>
                <a:cubicBezTo>
                  <a:pt x="8502" y="16283"/>
                  <a:pt x="8573" y="16301"/>
                  <a:pt x="8632" y="16346"/>
                </a:cubicBezTo>
                <a:cubicBezTo>
                  <a:pt x="8688" y="16389"/>
                  <a:pt x="8715" y="16391"/>
                  <a:pt x="8781" y="16421"/>
                </a:cubicBezTo>
                <a:cubicBezTo>
                  <a:pt x="8855" y="16454"/>
                  <a:pt x="8923" y="16446"/>
                  <a:pt x="9004" y="16446"/>
                </a:cubicBezTo>
              </a:path>
              <a:path w="4094" h="1192">
                <a:moveTo>
                  <a:pt x="9252" y="16446"/>
                </a:moveTo>
                <a:cubicBezTo>
                  <a:pt x="9216" y="16350"/>
                  <a:pt x="9215" y="16269"/>
                  <a:pt x="9227" y="16173"/>
                </a:cubicBezTo>
                <a:cubicBezTo>
                  <a:pt x="9238" y="16079"/>
                  <a:pt x="9255" y="16023"/>
                  <a:pt x="9351" y="15999"/>
                </a:cubicBezTo>
                <a:cubicBezTo>
                  <a:pt x="9398" y="15987"/>
                  <a:pt x="9500" y="16029"/>
                  <a:pt x="9525" y="16073"/>
                </a:cubicBezTo>
                <a:cubicBezTo>
                  <a:pt x="9525" y="16081"/>
                  <a:pt x="9525" y="16090"/>
                  <a:pt x="9525" y="16098"/>
                </a:cubicBezTo>
              </a:path>
              <a:path w="4094" h="1192">
                <a:moveTo>
                  <a:pt x="9823" y="15999"/>
                </a:moveTo>
                <a:cubicBezTo>
                  <a:pt x="9805" y="16082"/>
                  <a:pt x="9778" y="16165"/>
                  <a:pt x="9773" y="16247"/>
                </a:cubicBezTo>
                <a:cubicBezTo>
                  <a:pt x="9768" y="16336"/>
                  <a:pt x="9770" y="16414"/>
                  <a:pt x="9798" y="16495"/>
                </a:cubicBezTo>
              </a:path>
              <a:path w="4094" h="1192">
                <a:moveTo>
                  <a:pt x="10468" y="16098"/>
                </a:moveTo>
                <a:cubicBezTo>
                  <a:pt x="10387" y="16065"/>
                  <a:pt x="10411" y="16129"/>
                  <a:pt x="10344" y="16148"/>
                </a:cubicBezTo>
                <a:cubicBezTo>
                  <a:pt x="10251" y="16175"/>
                  <a:pt x="10230" y="16161"/>
                  <a:pt x="10195" y="16247"/>
                </a:cubicBezTo>
                <a:cubicBezTo>
                  <a:pt x="10162" y="16327"/>
                  <a:pt x="10161" y="16386"/>
                  <a:pt x="10244" y="16446"/>
                </a:cubicBezTo>
                <a:cubicBezTo>
                  <a:pt x="10312" y="16495"/>
                  <a:pt x="10442" y="16493"/>
                  <a:pt x="10517" y="16495"/>
                </a:cubicBezTo>
                <a:cubicBezTo>
                  <a:pt x="10585" y="16495"/>
                  <a:pt x="10604" y="16492"/>
                  <a:pt x="10641" y="165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Ink 11"/>
          <p:cNvSpPr/>
          <p:nvPr/>
        </p:nvSpPr>
        <p:spPr>
          <a:xfrm>
            <a:off x="5616720" y="5724360"/>
            <a:ext cx="1179360" cy="320760"/>
          </a:xfrm>
          <a:custGeom>
            <a:avLst/>
            <a:gdLst/>
            <a:ahLst/>
            <a:rect l="l" t="t" r="r" b="b"/>
            <a:pathLst>
              <a:path w="3275" h="894">
                <a:moveTo>
                  <a:pt x="16098" y="15974"/>
                </a:moveTo>
                <a:cubicBezTo>
                  <a:pt x="16023" y="15963"/>
                  <a:pt x="16030" y="15943"/>
                  <a:pt x="15974" y="15999"/>
                </a:cubicBezTo>
                <a:cubicBezTo>
                  <a:pt x="15930" y="16043"/>
                  <a:pt x="15873" y="16061"/>
                  <a:pt x="15825" y="16098"/>
                </a:cubicBezTo>
                <a:cubicBezTo>
                  <a:pt x="15776" y="16135"/>
                  <a:pt x="15724" y="16159"/>
                  <a:pt x="15677" y="16197"/>
                </a:cubicBezTo>
                <a:cubicBezTo>
                  <a:pt x="15615" y="16247"/>
                  <a:pt x="15605" y="16323"/>
                  <a:pt x="15602" y="16396"/>
                </a:cubicBezTo>
                <a:cubicBezTo>
                  <a:pt x="15598" y="16495"/>
                  <a:pt x="15598" y="16587"/>
                  <a:pt x="15701" y="16644"/>
                </a:cubicBezTo>
                <a:cubicBezTo>
                  <a:pt x="15737" y="16664"/>
                  <a:pt x="15832" y="16691"/>
                  <a:pt x="15875" y="16694"/>
                </a:cubicBezTo>
                <a:cubicBezTo>
                  <a:pt x="15948" y="16698"/>
                  <a:pt x="16008" y="16698"/>
                  <a:pt x="16073" y="16669"/>
                </a:cubicBezTo>
                <a:cubicBezTo>
                  <a:pt x="16147" y="16636"/>
                  <a:pt x="16190" y="16602"/>
                  <a:pt x="16247" y="16545"/>
                </a:cubicBezTo>
                <a:cubicBezTo>
                  <a:pt x="16296" y="16496"/>
                  <a:pt x="16232" y="16418"/>
                  <a:pt x="16197" y="16371"/>
                </a:cubicBezTo>
                <a:cubicBezTo>
                  <a:pt x="16160" y="16321"/>
                  <a:pt x="16032" y="16324"/>
                  <a:pt x="15974" y="16321"/>
                </a:cubicBezTo>
                <a:cubicBezTo>
                  <a:pt x="15868" y="16316"/>
                  <a:pt x="15828" y="16353"/>
                  <a:pt x="15726" y="16371"/>
                </a:cubicBezTo>
                <a:cubicBezTo>
                  <a:pt x="15687" y="16378"/>
                  <a:pt x="15617" y="16393"/>
                  <a:pt x="15602" y="16446"/>
                </a:cubicBezTo>
                <a:cubicBezTo>
                  <a:pt x="15602" y="16487"/>
                  <a:pt x="15594" y="16503"/>
                  <a:pt x="15627" y="16495"/>
                </a:cubicBezTo>
              </a:path>
              <a:path w="3275" h="894">
                <a:moveTo>
                  <a:pt x="16346" y="16247"/>
                </a:moveTo>
                <a:cubicBezTo>
                  <a:pt x="16401" y="16214"/>
                  <a:pt x="16452" y="16222"/>
                  <a:pt x="16520" y="16222"/>
                </a:cubicBezTo>
                <a:cubicBezTo>
                  <a:pt x="16594" y="16222"/>
                  <a:pt x="16658" y="16197"/>
                  <a:pt x="16743" y="16197"/>
                </a:cubicBezTo>
                <a:cubicBezTo>
                  <a:pt x="16854" y="16197"/>
                  <a:pt x="17046" y="16165"/>
                  <a:pt x="17140" y="16222"/>
                </a:cubicBezTo>
              </a:path>
              <a:path w="3275" h="894">
                <a:moveTo>
                  <a:pt x="16346" y="16396"/>
                </a:moveTo>
                <a:cubicBezTo>
                  <a:pt x="16403" y="16430"/>
                  <a:pt x="16448" y="16443"/>
                  <a:pt x="16520" y="16446"/>
                </a:cubicBezTo>
                <a:cubicBezTo>
                  <a:pt x="16709" y="16454"/>
                  <a:pt x="16901" y="16446"/>
                  <a:pt x="17090" y="16446"/>
                </a:cubicBezTo>
              </a:path>
              <a:path w="3275" h="894">
                <a:moveTo>
                  <a:pt x="17487" y="16321"/>
                </a:moveTo>
                <a:cubicBezTo>
                  <a:pt x="17551" y="16321"/>
                  <a:pt x="17628" y="16320"/>
                  <a:pt x="17686" y="16297"/>
                </a:cubicBezTo>
                <a:cubicBezTo>
                  <a:pt x="17771" y="16263"/>
                  <a:pt x="17904" y="16219"/>
                  <a:pt x="17983" y="16173"/>
                </a:cubicBezTo>
                <a:cubicBezTo>
                  <a:pt x="18008" y="16148"/>
                  <a:pt x="18016" y="16140"/>
                  <a:pt x="18033" y="16123"/>
                </a:cubicBezTo>
                <a:cubicBezTo>
                  <a:pt x="18020" y="16065"/>
                  <a:pt x="18007" y="16022"/>
                  <a:pt x="17959" y="15974"/>
                </a:cubicBezTo>
                <a:cubicBezTo>
                  <a:pt x="17918" y="15933"/>
                  <a:pt x="17846" y="15889"/>
                  <a:pt x="17785" y="15900"/>
                </a:cubicBezTo>
                <a:cubicBezTo>
                  <a:pt x="17709" y="15913"/>
                  <a:pt x="17558" y="16029"/>
                  <a:pt x="17512" y="16073"/>
                </a:cubicBezTo>
                <a:cubicBezTo>
                  <a:pt x="17486" y="16098"/>
                  <a:pt x="17404" y="16192"/>
                  <a:pt x="17388" y="16222"/>
                </a:cubicBezTo>
                <a:cubicBezTo>
                  <a:pt x="17360" y="16272"/>
                  <a:pt x="17389" y="16380"/>
                  <a:pt x="17413" y="16421"/>
                </a:cubicBezTo>
                <a:cubicBezTo>
                  <a:pt x="17491" y="16553"/>
                  <a:pt x="17586" y="16558"/>
                  <a:pt x="17711" y="16619"/>
                </a:cubicBezTo>
                <a:cubicBezTo>
                  <a:pt x="17843" y="16683"/>
                  <a:pt x="17980" y="16731"/>
                  <a:pt x="18132" y="16743"/>
                </a:cubicBezTo>
                <a:cubicBezTo>
                  <a:pt x="18330" y="16759"/>
                  <a:pt x="18529" y="16782"/>
                  <a:pt x="18728" y="16793"/>
                </a:cubicBezTo>
                <a:cubicBezTo>
                  <a:pt x="18777" y="16793"/>
                  <a:pt x="18827" y="16793"/>
                  <a:pt x="18876" y="1679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Ink 12"/>
          <p:cNvSpPr/>
          <p:nvPr/>
        </p:nvSpPr>
        <p:spPr>
          <a:xfrm>
            <a:off x="7062840" y="5510160"/>
            <a:ext cx="903240" cy="723960"/>
          </a:xfrm>
          <a:custGeom>
            <a:avLst/>
            <a:gdLst/>
            <a:ahLst/>
            <a:rect l="l" t="t" r="r" b="b"/>
            <a:pathLst>
              <a:path w="2506" h="2011">
                <a:moveTo>
                  <a:pt x="19621" y="16470"/>
                </a:moveTo>
                <a:cubicBezTo>
                  <a:pt x="19663" y="16396"/>
                  <a:pt x="19711" y="16305"/>
                  <a:pt x="19745" y="16222"/>
                </a:cubicBezTo>
                <a:cubicBezTo>
                  <a:pt x="19780" y="16138"/>
                  <a:pt x="19785" y="16027"/>
                  <a:pt x="19819" y="15949"/>
                </a:cubicBezTo>
                <a:cubicBezTo>
                  <a:pt x="19855" y="15866"/>
                  <a:pt x="19812" y="15921"/>
                  <a:pt x="19819" y="15974"/>
                </a:cubicBezTo>
                <a:cubicBezTo>
                  <a:pt x="19825" y="16014"/>
                  <a:pt x="19836" y="16148"/>
                  <a:pt x="19869" y="16173"/>
                </a:cubicBezTo>
                <a:cubicBezTo>
                  <a:pt x="19916" y="16209"/>
                  <a:pt x="19960" y="16244"/>
                  <a:pt x="20017" y="16247"/>
                </a:cubicBezTo>
                <a:cubicBezTo>
                  <a:pt x="20130" y="16254"/>
                  <a:pt x="20174" y="16165"/>
                  <a:pt x="20216" y="16073"/>
                </a:cubicBezTo>
                <a:cubicBezTo>
                  <a:pt x="20291" y="15909"/>
                  <a:pt x="20373" y="15712"/>
                  <a:pt x="20340" y="15528"/>
                </a:cubicBezTo>
                <a:cubicBezTo>
                  <a:pt x="20324" y="15437"/>
                  <a:pt x="20292" y="15375"/>
                  <a:pt x="20216" y="15329"/>
                </a:cubicBezTo>
                <a:cubicBezTo>
                  <a:pt x="20147" y="15288"/>
                  <a:pt x="20070" y="15304"/>
                  <a:pt x="19993" y="15304"/>
                </a:cubicBezTo>
              </a:path>
              <a:path w="2506" h="2011">
                <a:moveTo>
                  <a:pt x="20538" y="15825"/>
                </a:moveTo>
                <a:cubicBezTo>
                  <a:pt x="20538" y="15870"/>
                  <a:pt x="20545" y="16126"/>
                  <a:pt x="20513" y="15999"/>
                </a:cubicBezTo>
              </a:path>
              <a:path w="2506" h="2011">
                <a:moveTo>
                  <a:pt x="20513" y="15577"/>
                </a:moveTo>
                <a:cubicBezTo>
                  <a:pt x="20548" y="15612"/>
                  <a:pt x="20561" y="15634"/>
                  <a:pt x="20563" y="15677"/>
                </a:cubicBezTo>
              </a:path>
              <a:path w="2506" h="2011">
                <a:moveTo>
                  <a:pt x="20786" y="15801"/>
                </a:moveTo>
                <a:cubicBezTo>
                  <a:pt x="20752" y="15835"/>
                  <a:pt x="20681" y="15893"/>
                  <a:pt x="20662" y="15925"/>
                </a:cubicBezTo>
                <a:cubicBezTo>
                  <a:pt x="20630" y="15979"/>
                  <a:pt x="20612" y="16077"/>
                  <a:pt x="20638" y="16123"/>
                </a:cubicBezTo>
                <a:cubicBezTo>
                  <a:pt x="20687" y="16209"/>
                  <a:pt x="20882" y="16194"/>
                  <a:pt x="20960" y="16173"/>
                </a:cubicBezTo>
                <a:cubicBezTo>
                  <a:pt x="21050" y="16128"/>
                  <a:pt x="21072" y="16114"/>
                  <a:pt x="21134" y="16098"/>
                </a:cubicBezTo>
              </a:path>
              <a:path w="2506" h="2011">
                <a:moveTo>
                  <a:pt x="21109" y="15453"/>
                </a:moveTo>
                <a:cubicBezTo>
                  <a:pt x="21102" y="15583"/>
                  <a:pt x="21072" y="15697"/>
                  <a:pt x="21059" y="15825"/>
                </a:cubicBezTo>
                <a:cubicBezTo>
                  <a:pt x="21051" y="15902"/>
                  <a:pt x="21029" y="16042"/>
                  <a:pt x="21084" y="16024"/>
                </a:cubicBezTo>
              </a:path>
              <a:path w="2506" h="2011">
                <a:moveTo>
                  <a:pt x="21382" y="15404"/>
                </a:moveTo>
                <a:cubicBezTo>
                  <a:pt x="21310" y="15514"/>
                  <a:pt x="21240" y="15585"/>
                  <a:pt x="21158" y="15677"/>
                </a:cubicBezTo>
                <a:cubicBezTo>
                  <a:pt x="21114" y="15726"/>
                  <a:pt x="21059" y="15758"/>
                  <a:pt x="21010" y="15801"/>
                </a:cubicBezTo>
                <a:cubicBezTo>
                  <a:pt x="21048" y="15903"/>
                  <a:pt x="21108" y="15904"/>
                  <a:pt x="21208" y="15949"/>
                </a:cubicBezTo>
                <a:cubicBezTo>
                  <a:pt x="21348" y="16012"/>
                  <a:pt x="21481" y="16083"/>
                  <a:pt x="21605" y="16173"/>
                </a:cubicBezTo>
                <a:cubicBezTo>
                  <a:pt x="21701" y="16243"/>
                  <a:pt x="21824" y="16374"/>
                  <a:pt x="21853" y="16495"/>
                </a:cubicBezTo>
                <a:cubicBezTo>
                  <a:pt x="21879" y="16604"/>
                  <a:pt x="21822" y="16715"/>
                  <a:pt x="21828" y="16818"/>
                </a:cubicBezTo>
                <a:cubicBezTo>
                  <a:pt x="21837" y="16975"/>
                  <a:pt x="21928" y="17106"/>
                  <a:pt x="22027" y="17214"/>
                </a:cubicBezTo>
                <a:cubicBezTo>
                  <a:pt x="22060" y="17247"/>
                  <a:pt x="22093" y="17281"/>
                  <a:pt x="22126" y="1731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mbin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eorgia"/>
              </a:rPr>
              <a:t>6(2g + 4) + 10g = 24g + 2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Ink 4"/>
          <p:cNvSpPr/>
          <p:nvPr/>
        </p:nvSpPr>
        <p:spPr>
          <a:xfrm>
            <a:off x="776160" y="2581200"/>
            <a:ext cx="669960" cy="723960"/>
          </a:xfrm>
          <a:custGeom>
            <a:avLst/>
            <a:gdLst/>
            <a:ahLst/>
            <a:rect l="l" t="t" r="r" b="b"/>
            <a:pathLst>
              <a:path w="1861" h="2010">
                <a:moveTo>
                  <a:pt x="2183" y="7169"/>
                </a:moveTo>
                <a:cubicBezTo>
                  <a:pt x="2183" y="7259"/>
                  <a:pt x="2204" y="7326"/>
                  <a:pt x="2208" y="7417"/>
                </a:cubicBezTo>
                <a:cubicBezTo>
                  <a:pt x="2212" y="7514"/>
                  <a:pt x="2192" y="7597"/>
                  <a:pt x="2183" y="7689"/>
                </a:cubicBezTo>
                <a:cubicBezTo>
                  <a:pt x="2170" y="7824"/>
                  <a:pt x="2115" y="8278"/>
                  <a:pt x="2158" y="8384"/>
                </a:cubicBezTo>
                <a:cubicBezTo>
                  <a:pt x="2166" y="8384"/>
                  <a:pt x="2175" y="8384"/>
                  <a:pt x="2183" y="8384"/>
                </a:cubicBezTo>
              </a:path>
              <a:path w="1861" h="2010">
                <a:moveTo>
                  <a:pt x="2704" y="7565"/>
                </a:moveTo>
                <a:cubicBezTo>
                  <a:pt x="2728" y="7501"/>
                  <a:pt x="2735" y="7449"/>
                  <a:pt x="2778" y="7392"/>
                </a:cubicBezTo>
                <a:cubicBezTo>
                  <a:pt x="2805" y="7356"/>
                  <a:pt x="2866" y="7294"/>
                  <a:pt x="2902" y="7268"/>
                </a:cubicBezTo>
                <a:cubicBezTo>
                  <a:pt x="2962" y="7225"/>
                  <a:pt x="3041" y="7225"/>
                  <a:pt x="3101" y="7243"/>
                </a:cubicBezTo>
                <a:cubicBezTo>
                  <a:pt x="3180" y="7267"/>
                  <a:pt x="3261" y="7325"/>
                  <a:pt x="3274" y="7417"/>
                </a:cubicBezTo>
                <a:cubicBezTo>
                  <a:pt x="3295" y="7565"/>
                  <a:pt x="3263" y="7720"/>
                  <a:pt x="3249" y="7863"/>
                </a:cubicBezTo>
                <a:cubicBezTo>
                  <a:pt x="3237" y="7989"/>
                  <a:pt x="3192" y="8032"/>
                  <a:pt x="3125" y="8136"/>
                </a:cubicBezTo>
                <a:cubicBezTo>
                  <a:pt x="3066" y="8227"/>
                  <a:pt x="3020" y="8333"/>
                  <a:pt x="2902" y="8359"/>
                </a:cubicBezTo>
                <a:cubicBezTo>
                  <a:pt x="2847" y="8371"/>
                  <a:pt x="2770" y="8366"/>
                  <a:pt x="2729" y="8334"/>
                </a:cubicBezTo>
                <a:cubicBezTo>
                  <a:pt x="2688" y="8302"/>
                  <a:pt x="2695" y="8184"/>
                  <a:pt x="2704" y="8136"/>
                </a:cubicBezTo>
                <a:cubicBezTo>
                  <a:pt x="2725" y="8030"/>
                  <a:pt x="2748" y="8016"/>
                  <a:pt x="2828" y="7987"/>
                </a:cubicBezTo>
                <a:cubicBezTo>
                  <a:pt x="2908" y="7959"/>
                  <a:pt x="2983" y="7981"/>
                  <a:pt x="3051" y="8037"/>
                </a:cubicBezTo>
                <a:cubicBezTo>
                  <a:pt x="3097" y="8075"/>
                  <a:pt x="3129" y="8160"/>
                  <a:pt x="3150" y="8210"/>
                </a:cubicBezTo>
                <a:cubicBezTo>
                  <a:pt x="3177" y="8272"/>
                  <a:pt x="3170" y="8299"/>
                  <a:pt x="3175" y="8359"/>
                </a:cubicBezTo>
              </a:path>
              <a:path w="1861" h="2010">
                <a:moveTo>
                  <a:pt x="3894" y="8012"/>
                </a:moveTo>
                <a:cubicBezTo>
                  <a:pt x="3936" y="7929"/>
                  <a:pt x="3961" y="7913"/>
                  <a:pt x="3919" y="7863"/>
                </a:cubicBezTo>
                <a:cubicBezTo>
                  <a:pt x="3815" y="7823"/>
                  <a:pt x="3813" y="7855"/>
                  <a:pt x="3721" y="7913"/>
                </a:cubicBezTo>
                <a:cubicBezTo>
                  <a:pt x="3660" y="7951"/>
                  <a:pt x="3614" y="7984"/>
                  <a:pt x="3597" y="8062"/>
                </a:cubicBezTo>
                <a:cubicBezTo>
                  <a:pt x="3581" y="8133"/>
                  <a:pt x="3568" y="8214"/>
                  <a:pt x="3597" y="8285"/>
                </a:cubicBezTo>
                <a:cubicBezTo>
                  <a:pt x="3641" y="8390"/>
                  <a:pt x="3724" y="8364"/>
                  <a:pt x="3820" y="8334"/>
                </a:cubicBezTo>
                <a:cubicBezTo>
                  <a:pt x="3879" y="8315"/>
                  <a:pt x="3923" y="8231"/>
                  <a:pt x="3969" y="8186"/>
                </a:cubicBezTo>
                <a:cubicBezTo>
                  <a:pt x="4021" y="8135"/>
                  <a:pt x="4012" y="8107"/>
                  <a:pt x="4018" y="8037"/>
                </a:cubicBezTo>
                <a:cubicBezTo>
                  <a:pt x="4018" y="8097"/>
                  <a:pt x="4002" y="8102"/>
                  <a:pt x="3994" y="8161"/>
                </a:cubicBezTo>
                <a:cubicBezTo>
                  <a:pt x="3979" y="8280"/>
                  <a:pt x="4003" y="8394"/>
                  <a:pt x="4018" y="8508"/>
                </a:cubicBezTo>
                <a:cubicBezTo>
                  <a:pt x="4036" y="8642"/>
                  <a:pt x="4064" y="8938"/>
                  <a:pt x="3994" y="9054"/>
                </a:cubicBezTo>
                <a:cubicBezTo>
                  <a:pt x="3954" y="9121"/>
                  <a:pt x="3892" y="9161"/>
                  <a:pt x="3820" y="9178"/>
                </a:cubicBezTo>
                <a:cubicBezTo>
                  <a:pt x="3753" y="9194"/>
                  <a:pt x="3674" y="9173"/>
                  <a:pt x="3621" y="9153"/>
                </a:cubicBezTo>
                <a:cubicBezTo>
                  <a:pt x="3557" y="9128"/>
                  <a:pt x="3462" y="9090"/>
                  <a:pt x="3398" y="9079"/>
                </a:cubicBezTo>
                <a:cubicBezTo>
                  <a:pt x="3332" y="9067"/>
                  <a:pt x="3230" y="8938"/>
                  <a:pt x="3225" y="9004"/>
                </a:cubicBezTo>
                <a:cubicBezTo>
                  <a:pt x="3249" y="9029"/>
                  <a:pt x="3257" y="9038"/>
                  <a:pt x="3274" y="905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Ink 5"/>
          <p:cNvSpPr/>
          <p:nvPr/>
        </p:nvSpPr>
        <p:spPr>
          <a:xfrm>
            <a:off x="1697040" y="2581200"/>
            <a:ext cx="4027320" cy="901800"/>
          </a:xfrm>
          <a:custGeom>
            <a:avLst/>
            <a:gdLst/>
            <a:ahLst/>
            <a:rect l="l" t="t" r="r" b="b"/>
            <a:pathLst>
              <a:path w="11188" h="2506">
                <a:moveTo>
                  <a:pt x="4936" y="7491"/>
                </a:moveTo>
                <a:cubicBezTo>
                  <a:pt x="4936" y="7705"/>
                  <a:pt x="4885" y="8011"/>
                  <a:pt x="4961" y="8210"/>
                </a:cubicBezTo>
              </a:path>
              <a:path w="11188" h="2506">
                <a:moveTo>
                  <a:pt x="4713" y="7838"/>
                </a:moveTo>
                <a:cubicBezTo>
                  <a:pt x="4809" y="7838"/>
                  <a:pt x="4893" y="7855"/>
                  <a:pt x="4986" y="7863"/>
                </a:cubicBezTo>
                <a:cubicBezTo>
                  <a:pt x="5069" y="7863"/>
                  <a:pt x="5085" y="7863"/>
                  <a:pt x="5135" y="7863"/>
                </a:cubicBezTo>
              </a:path>
              <a:path w="11188" h="2506">
                <a:moveTo>
                  <a:pt x="5531" y="7491"/>
                </a:moveTo>
                <a:cubicBezTo>
                  <a:pt x="5562" y="7474"/>
                  <a:pt x="5625" y="7401"/>
                  <a:pt x="5655" y="7392"/>
                </a:cubicBezTo>
                <a:cubicBezTo>
                  <a:pt x="5719" y="7374"/>
                  <a:pt x="5781" y="7346"/>
                  <a:pt x="5854" y="7342"/>
                </a:cubicBezTo>
                <a:cubicBezTo>
                  <a:pt x="5913" y="7339"/>
                  <a:pt x="5982" y="7379"/>
                  <a:pt x="6028" y="7417"/>
                </a:cubicBezTo>
                <a:cubicBezTo>
                  <a:pt x="6082" y="7461"/>
                  <a:pt x="6094" y="7519"/>
                  <a:pt x="6077" y="7590"/>
                </a:cubicBezTo>
                <a:cubicBezTo>
                  <a:pt x="6058" y="7671"/>
                  <a:pt x="6030" y="7769"/>
                  <a:pt x="5978" y="7838"/>
                </a:cubicBezTo>
                <a:cubicBezTo>
                  <a:pt x="5935" y="7895"/>
                  <a:pt x="5891" y="7951"/>
                  <a:pt x="5854" y="8012"/>
                </a:cubicBezTo>
                <a:cubicBezTo>
                  <a:pt x="5800" y="8101"/>
                  <a:pt x="5728" y="8164"/>
                  <a:pt x="5680" y="8260"/>
                </a:cubicBezTo>
                <a:cubicBezTo>
                  <a:pt x="5651" y="8319"/>
                  <a:pt x="5615" y="8357"/>
                  <a:pt x="5581" y="8409"/>
                </a:cubicBezTo>
                <a:cubicBezTo>
                  <a:pt x="5559" y="8452"/>
                  <a:pt x="5546" y="8464"/>
                  <a:pt x="5581" y="8483"/>
                </a:cubicBezTo>
                <a:cubicBezTo>
                  <a:pt x="5621" y="8444"/>
                  <a:pt x="5643" y="8400"/>
                  <a:pt x="5705" y="8409"/>
                </a:cubicBezTo>
                <a:cubicBezTo>
                  <a:pt x="5798" y="8423"/>
                  <a:pt x="5885" y="8453"/>
                  <a:pt x="5978" y="8458"/>
                </a:cubicBezTo>
                <a:cubicBezTo>
                  <a:pt x="6060" y="8462"/>
                  <a:pt x="6104" y="8445"/>
                  <a:pt x="6176" y="8409"/>
                </a:cubicBezTo>
              </a:path>
              <a:path w="11188" h="2506">
                <a:moveTo>
                  <a:pt x="6524" y="7491"/>
                </a:moveTo>
                <a:cubicBezTo>
                  <a:pt x="6516" y="7547"/>
                  <a:pt x="6484" y="7590"/>
                  <a:pt x="6474" y="7640"/>
                </a:cubicBezTo>
                <a:cubicBezTo>
                  <a:pt x="6460" y="7708"/>
                  <a:pt x="6449" y="7766"/>
                  <a:pt x="6449" y="7838"/>
                </a:cubicBezTo>
                <a:cubicBezTo>
                  <a:pt x="6449" y="7929"/>
                  <a:pt x="6498" y="7928"/>
                  <a:pt x="6573" y="7962"/>
                </a:cubicBezTo>
                <a:cubicBezTo>
                  <a:pt x="6635" y="7990"/>
                  <a:pt x="6728" y="8004"/>
                  <a:pt x="6796" y="8012"/>
                </a:cubicBezTo>
                <a:cubicBezTo>
                  <a:pt x="6871" y="8012"/>
                  <a:pt x="6895" y="8012"/>
                  <a:pt x="6945" y="8012"/>
                </a:cubicBezTo>
              </a:path>
              <a:path w="11188" h="2506">
                <a:moveTo>
                  <a:pt x="6896" y="7218"/>
                </a:moveTo>
                <a:cubicBezTo>
                  <a:pt x="6851" y="7330"/>
                  <a:pt x="6832" y="7410"/>
                  <a:pt x="6821" y="7541"/>
                </a:cubicBezTo>
                <a:cubicBezTo>
                  <a:pt x="6808" y="7700"/>
                  <a:pt x="6828" y="7857"/>
                  <a:pt x="6846" y="8012"/>
                </a:cubicBezTo>
                <a:cubicBezTo>
                  <a:pt x="6858" y="8113"/>
                  <a:pt x="6817" y="8459"/>
                  <a:pt x="6871" y="8458"/>
                </a:cubicBezTo>
              </a:path>
              <a:path w="11188" h="2506">
                <a:moveTo>
                  <a:pt x="7565" y="7640"/>
                </a:moveTo>
                <a:cubicBezTo>
                  <a:pt x="7565" y="7777"/>
                  <a:pt x="7555" y="7882"/>
                  <a:pt x="7541" y="8012"/>
                </a:cubicBezTo>
                <a:cubicBezTo>
                  <a:pt x="7531" y="8103"/>
                  <a:pt x="7560" y="8175"/>
                  <a:pt x="7565" y="8260"/>
                </a:cubicBezTo>
                <a:cubicBezTo>
                  <a:pt x="7565" y="8305"/>
                  <a:pt x="7561" y="8318"/>
                  <a:pt x="7590" y="8334"/>
                </a:cubicBezTo>
              </a:path>
              <a:path w="11188" h="2506">
                <a:moveTo>
                  <a:pt x="7243" y="7888"/>
                </a:moveTo>
                <a:cubicBezTo>
                  <a:pt x="7378" y="7903"/>
                  <a:pt x="7577" y="7956"/>
                  <a:pt x="7714" y="7938"/>
                </a:cubicBezTo>
                <a:cubicBezTo>
                  <a:pt x="7739" y="7930"/>
                  <a:pt x="7764" y="7921"/>
                  <a:pt x="7789" y="7913"/>
                </a:cubicBezTo>
              </a:path>
              <a:path w="11188" h="2506">
                <a:moveTo>
                  <a:pt x="8186" y="7417"/>
                </a:moveTo>
                <a:cubicBezTo>
                  <a:pt x="8177" y="7519"/>
                  <a:pt x="8161" y="7610"/>
                  <a:pt x="8161" y="7714"/>
                </a:cubicBezTo>
                <a:cubicBezTo>
                  <a:pt x="8161" y="7940"/>
                  <a:pt x="8161" y="8163"/>
                  <a:pt x="8186" y="8384"/>
                </a:cubicBezTo>
                <a:cubicBezTo>
                  <a:pt x="8192" y="8442"/>
                  <a:pt x="8186" y="8516"/>
                  <a:pt x="8186" y="8458"/>
                </a:cubicBezTo>
              </a:path>
              <a:path w="11188" h="2506">
                <a:moveTo>
                  <a:pt x="8632" y="7714"/>
                </a:moveTo>
                <a:cubicBezTo>
                  <a:pt x="8604" y="7811"/>
                  <a:pt x="8552" y="7915"/>
                  <a:pt x="8533" y="8012"/>
                </a:cubicBezTo>
                <a:cubicBezTo>
                  <a:pt x="8515" y="8103"/>
                  <a:pt x="8553" y="8177"/>
                  <a:pt x="8582" y="8260"/>
                </a:cubicBezTo>
                <a:cubicBezTo>
                  <a:pt x="8611" y="8344"/>
                  <a:pt x="8650" y="8415"/>
                  <a:pt x="8706" y="8483"/>
                </a:cubicBezTo>
                <a:cubicBezTo>
                  <a:pt x="8784" y="8577"/>
                  <a:pt x="8889" y="8577"/>
                  <a:pt x="9004" y="8582"/>
                </a:cubicBezTo>
                <a:cubicBezTo>
                  <a:pt x="9099" y="8586"/>
                  <a:pt x="9133" y="8574"/>
                  <a:pt x="9203" y="8508"/>
                </a:cubicBezTo>
                <a:cubicBezTo>
                  <a:pt x="9280" y="8435"/>
                  <a:pt x="9297" y="8334"/>
                  <a:pt x="9327" y="8235"/>
                </a:cubicBezTo>
                <a:cubicBezTo>
                  <a:pt x="9366" y="8109"/>
                  <a:pt x="9385" y="8041"/>
                  <a:pt x="9351" y="7913"/>
                </a:cubicBezTo>
                <a:cubicBezTo>
                  <a:pt x="9319" y="7790"/>
                  <a:pt x="9282" y="7555"/>
                  <a:pt x="9178" y="7466"/>
                </a:cubicBezTo>
                <a:cubicBezTo>
                  <a:pt x="9125" y="7420"/>
                  <a:pt x="9052" y="7309"/>
                  <a:pt x="8979" y="7293"/>
                </a:cubicBezTo>
                <a:cubicBezTo>
                  <a:pt x="8912" y="7279"/>
                  <a:pt x="8792" y="7287"/>
                  <a:pt x="8731" y="7317"/>
                </a:cubicBezTo>
                <a:cubicBezTo>
                  <a:pt x="8650" y="7357"/>
                  <a:pt x="8589" y="7465"/>
                  <a:pt x="8558" y="7541"/>
                </a:cubicBezTo>
                <a:cubicBezTo>
                  <a:pt x="8514" y="7649"/>
                  <a:pt x="8508" y="7720"/>
                  <a:pt x="8508" y="7838"/>
                </a:cubicBezTo>
                <a:cubicBezTo>
                  <a:pt x="8508" y="7897"/>
                  <a:pt x="8511" y="7923"/>
                  <a:pt x="8533" y="7962"/>
                </a:cubicBezTo>
              </a:path>
              <a:path w="11188" h="2506">
                <a:moveTo>
                  <a:pt x="9823" y="7913"/>
                </a:moveTo>
                <a:cubicBezTo>
                  <a:pt x="9699" y="7879"/>
                  <a:pt x="9680" y="7891"/>
                  <a:pt x="9575" y="7938"/>
                </a:cubicBezTo>
                <a:cubicBezTo>
                  <a:pt x="9488" y="7977"/>
                  <a:pt x="9446" y="8001"/>
                  <a:pt x="9401" y="8086"/>
                </a:cubicBezTo>
                <a:cubicBezTo>
                  <a:pt x="9351" y="8179"/>
                  <a:pt x="9360" y="8191"/>
                  <a:pt x="9376" y="8285"/>
                </a:cubicBezTo>
                <a:cubicBezTo>
                  <a:pt x="9389" y="8361"/>
                  <a:pt x="9414" y="8401"/>
                  <a:pt x="9500" y="8409"/>
                </a:cubicBezTo>
                <a:cubicBezTo>
                  <a:pt x="9577" y="8416"/>
                  <a:pt x="9641" y="8382"/>
                  <a:pt x="9699" y="8334"/>
                </a:cubicBezTo>
                <a:cubicBezTo>
                  <a:pt x="9770" y="8276"/>
                  <a:pt x="9798" y="8235"/>
                  <a:pt x="9823" y="8161"/>
                </a:cubicBezTo>
                <a:cubicBezTo>
                  <a:pt x="9831" y="8137"/>
                  <a:pt x="9879" y="7982"/>
                  <a:pt x="9847" y="7962"/>
                </a:cubicBezTo>
                <a:cubicBezTo>
                  <a:pt x="9839" y="7970"/>
                  <a:pt x="9831" y="7979"/>
                  <a:pt x="9823" y="7987"/>
                </a:cubicBezTo>
                <a:cubicBezTo>
                  <a:pt x="9795" y="8078"/>
                  <a:pt x="9798" y="8163"/>
                  <a:pt x="9798" y="8260"/>
                </a:cubicBezTo>
                <a:cubicBezTo>
                  <a:pt x="9798" y="8410"/>
                  <a:pt x="9837" y="8554"/>
                  <a:pt x="9847" y="8706"/>
                </a:cubicBezTo>
                <a:cubicBezTo>
                  <a:pt x="9856" y="8842"/>
                  <a:pt x="9893" y="8968"/>
                  <a:pt x="9897" y="9103"/>
                </a:cubicBezTo>
                <a:cubicBezTo>
                  <a:pt x="9900" y="9197"/>
                  <a:pt x="9910" y="9291"/>
                  <a:pt x="9872" y="9376"/>
                </a:cubicBezTo>
                <a:cubicBezTo>
                  <a:pt x="9816" y="9502"/>
                  <a:pt x="9658" y="9449"/>
                  <a:pt x="9550" y="9426"/>
                </a:cubicBezTo>
                <a:cubicBezTo>
                  <a:pt x="9473" y="9409"/>
                  <a:pt x="9332" y="9336"/>
                  <a:pt x="9277" y="9277"/>
                </a:cubicBezTo>
                <a:cubicBezTo>
                  <a:pt x="9249" y="9222"/>
                  <a:pt x="9241" y="9199"/>
                  <a:pt x="9252" y="9153"/>
                </a:cubicBezTo>
              </a:path>
              <a:path w="11188" h="2506">
                <a:moveTo>
                  <a:pt x="10344" y="7838"/>
                </a:moveTo>
                <a:cubicBezTo>
                  <a:pt x="10505" y="7817"/>
                  <a:pt x="10583" y="7824"/>
                  <a:pt x="10740" y="7838"/>
                </a:cubicBezTo>
              </a:path>
              <a:path w="11188" h="2506">
                <a:moveTo>
                  <a:pt x="10344" y="8062"/>
                </a:moveTo>
                <a:cubicBezTo>
                  <a:pt x="10412" y="8087"/>
                  <a:pt x="10492" y="8101"/>
                  <a:pt x="10567" y="8086"/>
                </a:cubicBezTo>
                <a:cubicBezTo>
                  <a:pt x="10656" y="8057"/>
                  <a:pt x="10697" y="8046"/>
                  <a:pt x="10765" y="8037"/>
                </a:cubicBezTo>
              </a:path>
              <a:path w="11188" h="2506">
                <a:moveTo>
                  <a:pt x="11237" y="7441"/>
                </a:moveTo>
                <a:cubicBezTo>
                  <a:pt x="11350" y="7336"/>
                  <a:pt x="11365" y="7294"/>
                  <a:pt x="11509" y="7342"/>
                </a:cubicBezTo>
                <a:cubicBezTo>
                  <a:pt x="11563" y="7360"/>
                  <a:pt x="11672" y="7395"/>
                  <a:pt x="11658" y="7466"/>
                </a:cubicBezTo>
                <a:cubicBezTo>
                  <a:pt x="11638" y="7564"/>
                  <a:pt x="11550" y="7645"/>
                  <a:pt x="11509" y="7739"/>
                </a:cubicBezTo>
                <a:cubicBezTo>
                  <a:pt x="11463" y="7844"/>
                  <a:pt x="11386" y="7922"/>
                  <a:pt x="11311" y="8012"/>
                </a:cubicBezTo>
                <a:cubicBezTo>
                  <a:pt x="11257" y="8077"/>
                  <a:pt x="11185" y="8110"/>
                  <a:pt x="11137" y="8186"/>
                </a:cubicBezTo>
                <a:cubicBezTo>
                  <a:pt x="11104" y="8238"/>
                  <a:pt x="11064" y="8320"/>
                  <a:pt x="11088" y="8384"/>
                </a:cubicBezTo>
                <a:cubicBezTo>
                  <a:pt x="11101" y="8419"/>
                  <a:pt x="11179" y="8475"/>
                  <a:pt x="11212" y="8483"/>
                </a:cubicBezTo>
                <a:cubicBezTo>
                  <a:pt x="11303" y="8504"/>
                  <a:pt x="11387" y="8508"/>
                  <a:pt x="11485" y="8508"/>
                </a:cubicBezTo>
                <a:cubicBezTo>
                  <a:pt x="11559" y="8508"/>
                  <a:pt x="11616" y="8485"/>
                  <a:pt x="11683" y="8458"/>
                </a:cubicBezTo>
              </a:path>
              <a:path w="11188" h="2506">
                <a:moveTo>
                  <a:pt x="12105" y="7441"/>
                </a:moveTo>
                <a:cubicBezTo>
                  <a:pt x="12076" y="7529"/>
                  <a:pt x="12042" y="7643"/>
                  <a:pt x="12055" y="7739"/>
                </a:cubicBezTo>
                <a:cubicBezTo>
                  <a:pt x="12064" y="7803"/>
                  <a:pt x="12128" y="7900"/>
                  <a:pt x="12179" y="7938"/>
                </a:cubicBezTo>
                <a:cubicBezTo>
                  <a:pt x="12233" y="7978"/>
                  <a:pt x="12286" y="8008"/>
                  <a:pt x="12353" y="8012"/>
                </a:cubicBezTo>
                <a:cubicBezTo>
                  <a:pt x="12394" y="8012"/>
                  <a:pt x="12402" y="8012"/>
                  <a:pt x="12427" y="8012"/>
                </a:cubicBezTo>
              </a:path>
              <a:path w="11188" h="2506">
                <a:moveTo>
                  <a:pt x="12452" y="7169"/>
                </a:moveTo>
                <a:cubicBezTo>
                  <a:pt x="12429" y="7274"/>
                  <a:pt x="12393" y="7386"/>
                  <a:pt x="12378" y="7491"/>
                </a:cubicBezTo>
                <a:cubicBezTo>
                  <a:pt x="12361" y="7610"/>
                  <a:pt x="12356" y="7743"/>
                  <a:pt x="12353" y="7863"/>
                </a:cubicBezTo>
                <a:cubicBezTo>
                  <a:pt x="12349" y="7989"/>
                  <a:pt x="12378" y="8109"/>
                  <a:pt x="12378" y="8235"/>
                </a:cubicBezTo>
                <a:cubicBezTo>
                  <a:pt x="12378" y="8308"/>
                  <a:pt x="12371" y="8416"/>
                  <a:pt x="12402" y="8483"/>
                </a:cubicBezTo>
                <a:cubicBezTo>
                  <a:pt x="12410" y="8491"/>
                  <a:pt x="12419" y="8500"/>
                  <a:pt x="12427" y="8508"/>
                </a:cubicBezTo>
              </a:path>
              <a:path w="11188" h="2506">
                <a:moveTo>
                  <a:pt x="13122" y="7987"/>
                </a:moveTo>
                <a:cubicBezTo>
                  <a:pt x="13106" y="7886"/>
                  <a:pt x="13110" y="7845"/>
                  <a:pt x="12998" y="7838"/>
                </a:cubicBezTo>
                <a:cubicBezTo>
                  <a:pt x="12853" y="7829"/>
                  <a:pt x="12762" y="7901"/>
                  <a:pt x="12675" y="8012"/>
                </a:cubicBezTo>
                <a:cubicBezTo>
                  <a:pt x="12641" y="8056"/>
                  <a:pt x="12599" y="8141"/>
                  <a:pt x="12601" y="8186"/>
                </a:cubicBezTo>
                <a:cubicBezTo>
                  <a:pt x="12604" y="8254"/>
                  <a:pt x="12647" y="8316"/>
                  <a:pt x="12700" y="8359"/>
                </a:cubicBezTo>
                <a:cubicBezTo>
                  <a:pt x="12757" y="8406"/>
                  <a:pt x="12890" y="8390"/>
                  <a:pt x="12948" y="8359"/>
                </a:cubicBezTo>
                <a:cubicBezTo>
                  <a:pt x="13001" y="8331"/>
                  <a:pt x="13040" y="8256"/>
                  <a:pt x="13072" y="8210"/>
                </a:cubicBezTo>
                <a:cubicBezTo>
                  <a:pt x="13101" y="8169"/>
                  <a:pt x="13123" y="8133"/>
                  <a:pt x="13146" y="8086"/>
                </a:cubicBezTo>
                <a:cubicBezTo>
                  <a:pt x="13115" y="8181"/>
                  <a:pt x="13075" y="8277"/>
                  <a:pt x="13072" y="8384"/>
                </a:cubicBezTo>
                <a:cubicBezTo>
                  <a:pt x="13068" y="8513"/>
                  <a:pt x="13088" y="8631"/>
                  <a:pt x="13097" y="8756"/>
                </a:cubicBezTo>
                <a:cubicBezTo>
                  <a:pt x="13109" y="8913"/>
                  <a:pt x="13097" y="9071"/>
                  <a:pt x="13122" y="9227"/>
                </a:cubicBezTo>
                <a:cubicBezTo>
                  <a:pt x="13137" y="9321"/>
                  <a:pt x="13172" y="9460"/>
                  <a:pt x="13122" y="9550"/>
                </a:cubicBezTo>
                <a:cubicBezTo>
                  <a:pt x="13072" y="9640"/>
                  <a:pt x="13026" y="9697"/>
                  <a:pt x="12923" y="9674"/>
                </a:cubicBezTo>
                <a:cubicBezTo>
                  <a:pt x="12818" y="9651"/>
                  <a:pt x="12736" y="9621"/>
                  <a:pt x="12650" y="9550"/>
                </a:cubicBezTo>
                <a:cubicBezTo>
                  <a:pt x="12573" y="9486"/>
                  <a:pt x="12567" y="9466"/>
                  <a:pt x="12551" y="9376"/>
                </a:cubicBezTo>
              </a:path>
              <a:path w="11188" h="2506">
                <a:moveTo>
                  <a:pt x="13866" y="7739"/>
                </a:moveTo>
                <a:cubicBezTo>
                  <a:pt x="13866" y="7865"/>
                  <a:pt x="13887" y="7986"/>
                  <a:pt x="13891" y="8111"/>
                </a:cubicBezTo>
                <a:cubicBezTo>
                  <a:pt x="13894" y="8214"/>
                  <a:pt x="13925" y="8312"/>
                  <a:pt x="13940" y="8409"/>
                </a:cubicBezTo>
                <a:cubicBezTo>
                  <a:pt x="13951" y="8481"/>
                  <a:pt x="13955" y="8541"/>
                  <a:pt x="13965" y="8607"/>
                </a:cubicBezTo>
              </a:path>
              <a:path w="11188" h="2506">
                <a:moveTo>
                  <a:pt x="13643" y="8062"/>
                </a:moveTo>
                <a:cubicBezTo>
                  <a:pt x="13757" y="8031"/>
                  <a:pt x="13825" y="8050"/>
                  <a:pt x="13940" y="8062"/>
                </a:cubicBezTo>
                <a:cubicBezTo>
                  <a:pt x="14013" y="8070"/>
                  <a:pt x="14090" y="8062"/>
                  <a:pt x="14163" y="8062"/>
                </a:cubicBezTo>
              </a:path>
              <a:path w="11188" h="2506">
                <a:moveTo>
                  <a:pt x="14560" y="7565"/>
                </a:moveTo>
                <a:cubicBezTo>
                  <a:pt x="14659" y="7475"/>
                  <a:pt x="14764" y="7411"/>
                  <a:pt x="14908" y="7441"/>
                </a:cubicBezTo>
                <a:cubicBezTo>
                  <a:pt x="14991" y="7458"/>
                  <a:pt x="15119" y="7501"/>
                  <a:pt x="15180" y="7565"/>
                </a:cubicBezTo>
                <a:cubicBezTo>
                  <a:pt x="15259" y="7648"/>
                  <a:pt x="15276" y="7755"/>
                  <a:pt x="15280" y="7863"/>
                </a:cubicBezTo>
                <a:cubicBezTo>
                  <a:pt x="15286" y="8033"/>
                  <a:pt x="15226" y="8110"/>
                  <a:pt x="15156" y="8260"/>
                </a:cubicBezTo>
                <a:cubicBezTo>
                  <a:pt x="15117" y="8342"/>
                  <a:pt x="15086" y="8412"/>
                  <a:pt x="15007" y="8458"/>
                </a:cubicBezTo>
                <a:cubicBezTo>
                  <a:pt x="14935" y="8500"/>
                  <a:pt x="14865" y="8555"/>
                  <a:pt x="14784" y="8508"/>
                </a:cubicBezTo>
                <a:cubicBezTo>
                  <a:pt x="14728" y="8476"/>
                  <a:pt x="14712" y="8417"/>
                  <a:pt x="14709" y="8359"/>
                </a:cubicBezTo>
                <a:cubicBezTo>
                  <a:pt x="14705" y="8283"/>
                  <a:pt x="14709" y="8242"/>
                  <a:pt x="14784" y="8210"/>
                </a:cubicBezTo>
                <a:cubicBezTo>
                  <a:pt x="14842" y="8185"/>
                  <a:pt x="14954" y="8218"/>
                  <a:pt x="15007" y="8235"/>
                </a:cubicBezTo>
                <a:cubicBezTo>
                  <a:pt x="15104" y="8265"/>
                  <a:pt x="15185" y="8327"/>
                  <a:pt x="15280" y="8359"/>
                </a:cubicBezTo>
                <a:cubicBezTo>
                  <a:pt x="15406" y="8401"/>
                  <a:pt x="15528" y="8435"/>
                  <a:pt x="15652" y="8483"/>
                </a:cubicBezTo>
                <a:cubicBezTo>
                  <a:pt x="15740" y="8517"/>
                  <a:pt x="15814" y="8551"/>
                  <a:pt x="15900" y="858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Ink 6"/>
          <p:cNvSpPr/>
          <p:nvPr/>
        </p:nvSpPr>
        <p:spPr>
          <a:xfrm>
            <a:off x="1054080" y="3554280"/>
            <a:ext cx="839880" cy="839880"/>
          </a:xfrm>
          <a:custGeom>
            <a:avLst/>
            <a:gdLst/>
            <a:ahLst/>
            <a:rect l="l" t="t" r="r" b="b"/>
            <a:pathLst>
              <a:path w="2333" h="2333">
                <a:moveTo>
                  <a:pt x="2927" y="10096"/>
                </a:moveTo>
                <a:cubicBezTo>
                  <a:pt x="2976" y="10047"/>
                  <a:pt x="3027" y="10017"/>
                  <a:pt x="3076" y="9971"/>
                </a:cubicBezTo>
                <a:cubicBezTo>
                  <a:pt x="3118" y="9932"/>
                  <a:pt x="3222" y="9868"/>
                  <a:pt x="3274" y="9872"/>
                </a:cubicBezTo>
                <a:cubicBezTo>
                  <a:pt x="3361" y="9879"/>
                  <a:pt x="3416" y="9914"/>
                  <a:pt x="3473" y="9971"/>
                </a:cubicBezTo>
                <a:cubicBezTo>
                  <a:pt x="3537" y="10036"/>
                  <a:pt x="3606" y="10100"/>
                  <a:pt x="3621" y="10195"/>
                </a:cubicBezTo>
                <a:cubicBezTo>
                  <a:pt x="3642" y="10325"/>
                  <a:pt x="3627" y="10491"/>
                  <a:pt x="3597" y="10616"/>
                </a:cubicBezTo>
                <a:cubicBezTo>
                  <a:pt x="3568" y="10737"/>
                  <a:pt x="3499" y="10811"/>
                  <a:pt x="3448" y="10914"/>
                </a:cubicBezTo>
                <a:cubicBezTo>
                  <a:pt x="3402" y="11006"/>
                  <a:pt x="3366" y="11054"/>
                  <a:pt x="3274" y="11112"/>
                </a:cubicBezTo>
                <a:cubicBezTo>
                  <a:pt x="3209" y="11153"/>
                  <a:pt x="3109" y="11157"/>
                  <a:pt x="3051" y="11112"/>
                </a:cubicBezTo>
                <a:cubicBezTo>
                  <a:pt x="2999" y="11072"/>
                  <a:pt x="2967" y="11087"/>
                  <a:pt x="2952" y="11013"/>
                </a:cubicBezTo>
                <a:cubicBezTo>
                  <a:pt x="2938" y="10946"/>
                  <a:pt x="2962" y="10892"/>
                  <a:pt x="3001" y="10840"/>
                </a:cubicBezTo>
                <a:cubicBezTo>
                  <a:pt x="3037" y="10792"/>
                  <a:pt x="3067" y="10768"/>
                  <a:pt x="3125" y="10765"/>
                </a:cubicBezTo>
                <a:cubicBezTo>
                  <a:pt x="3256" y="10759"/>
                  <a:pt x="3243" y="10819"/>
                  <a:pt x="3324" y="10889"/>
                </a:cubicBezTo>
                <a:cubicBezTo>
                  <a:pt x="3386" y="10943"/>
                  <a:pt x="3409" y="10985"/>
                  <a:pt x="3448" y="11063"/>
                </a:cubicBezTo>
                <a:cubicBezTo>
                  <a:pt x="3489" y="11145"/>
                  <a:pt x="3479" y="11128"/>
                  <a:pt x="3572" y="11137"/>
                </a:cubicBezTo>
              </a:path>
              <a:path w="2333" h="2333">
                <a:moveTo>
                  <a:pt x="3919" y="10244"/>
                </a:moveTo>
                <a:cubicBezTo>
                  <a:pt x="4017" y="10153"/>
                  <a:pt x="4063" y="10109"/>
                  <a:pt x="4192" y="10096"/>
                </a:cubicBezTo>
                <a:cubicBezTo>
                  <a:pt x="4329" y="10082"/>
                  <a:pt x="4329" y="10101"/>
                  <a:pt x="4415" y="10170"/>
                </a:cubicBezTo>
                <a:cubicBezTo>
                  <a:pt x="4517" y="10252"/>
                  <a:pt x="4522" y="10290"/>
                  <a:pt x="4539" y="10443"/>
                </a:cubicBezTo>
                <a:cubicBezTo>
                  <a:pt x="4551" y="10548"/>
                  <a:pt x="4497" y="10666"/>
                  <a:pt x="4465" y="10765"/>
                </a:cubicBezTo>
                <a:cubicBezTo>
                  <a:pt x="4432" y="10868"/>
                  <a:pt x="4398" y="10927"/>
                  <a:pt x="4341" y="11013"/>
                </a:cubicBezTo>
                <a:cubicBezTo>
                  <a:pt x="4321" y="11044"/>
                  <a:pt x="4236" y="11140"/>
                  <a:pt x="4192" y="11137"/>
                </a:cubicBezTo>
                <a:cubicBezTo>
                  <a:pt x="4111" y="11131"/>
                  <a:pt x="4051" y="11056"/>
                  <a:pt x="4043" y="10988"/>
                </a:cubicBezTo>
                <a:cubicBezTo>
                  <a:pt x="4035" y="10915"/>
                  <a:pt x="4043" y="10889"/>
                  <a:pt x="4093" y="10840"/>
                </a:cubicBezTo>
                <a:cubicBezTo>
                  <a:pt x="4156" y="10778"/>
                  <a:pt x="4193" y="10857"/>
                  <a:pt x="4242" y="10889"/>
                </a:cubicBezTo>
                <a:cubicBezTo>
                  <a:pt x="4326" y="10943"/>
                  <a:pt x="4427" y="11036"/>
                  <a:pt x="4490" y="11112"/>
                </a:cubicBezTo>
                <a:cubicBezTo>
                  <a:pt x="4530" y="11160"/>
                  <a:pt x="4524" y="11158"/>
                  <a:pt x="4564" y="11187"/>
                </a:cubicBezTo>
              </a:path>
              <a:path w="2333" h="2333">
                <a:moveTo>
                  <a:pt x="5135" y="10815"/>
                </a:moveTo>
                <a:cubicBezTo>
                  <a:pt x="5135" y="10737"/>
                  <a:pt x="5150" y="10719"/>
                  <a:pt x="5110" y="10691"/>
                </a:cubicBezTo>
                <a:cubicBezTo>
                  <a:pt x="5039" y="10700"/>
                  <a:pt x="4962" y="10732"/>
                  <a:pt x="4911" y="10790"/>
                </a:cubicBezTo>
                <a:cubicBezTo>
                  <a:pt x="4874" y="10833"/>
                  <a:pt x="4840" y="10912"/>
                  <a:pt x="4837" y="10964"/>
                </a:cubicBezTo>
                <a:cubicBezTo>
                  <a:pt x="4833" y="11038"/>
                  <a:pt x="4876" y="11078"/>
                  <a:pt x="4911" y="11137"/>
                </a:cubicBezTo>
                <a:cubicBezTo>
                  <a:pt x="4954" y="11209"/>
                  <a:pt x="4990" y="11263"/>
                  <a:pt x="5085" y="11237"/>
                </a:cubicBezTo>
                <a:cubicBezTo>
                  <a:pt x="5169" y="11214"/>
                  <a:pt x="5162" y="11145"/>
                  <a:pt x="5209" y="11088"/>
                </a:cubicBezTo>
                <a:cubicBezTo>
                  <a:pt x="5243" y="11048"/>
                  <a:pt x="5257" y="10944"/>
                  <a:pt x="5234" y="10914"/>
                </a:cubicBezTo>
                <a:cubicBezTo>
                  <a:pt x="5226" y="10906"/>
                  <a:pt x="5217" y="10897"/>
                  <a:pt x="5209" y="10889"/>
                </a:cubicBezTo>
                <a:cubicBezTo>
                  <a:pt x="5189" y="10963"/>
                  <a:pt x="5162" y="11037"/>
                  <a:pt x="5159" y="11112"/>
                </a:cubicBezTo>
                <a:cubicBezTo>
                  <a:pt x="5153" y="11248"/>
                  <a:pt x="5176" y="11379"/>
                  <a:pt x="5184" y="11509"/>
                </a:cubicBezTo>
                <a:cubicBezTo>
                  <a:pt x="5195" y="11679"/>
                  <a:pt x="5212" y="11894"/>
                  <a:pt x="5159" y="12055"/>
                </a:cubicBezTo>
                <a:cubicBezTo>
                  <a:pt x="5123" y="12166"/>
                  <a:pt x="5109" y="12198"/>
                  <a:pt x="4986" y="12204"/>
                </a:cubicBezTo>
                <a:cubicBezTo>
                  <a:pt x="4910" y="12208"/>
                  <a:pt x="4830" y="12161"/>
                  <a:pt x="4762" y="12129"/>
                </a:cubicBezTo>
                <a:cubicBezTo>
                  <a:pt x="4639" y="12072"/>
                  <a:pt x="4625" y="12003"/>
                  <a:pt x="4589" y="1188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Ink 7"/>
          <p:cNvSpPr/>
          <p:nvPr/>
        </p:nvSpPr>
        <p:spPr>
          <a:xfrm>
            <a:off x="2089080" y="3598920"/>
            <a:ext cx="1928880" cy="812880"/>
          </a:xfrm>
          <a:custGeom>
            <a:avLst/>
            <a:gdLst/>
            <a:ahLst/>
            <a:rect l="l" t="t" r="r" b="b"/>
            <a:pathLst>
              <a:path w="5359" h="2259">
                <a:moveTo>
                  <a:pt x="6003" y="10443"/>
                </a:moveTo>
                <a:cubicBezTo>
                  <a:pt x="5987" y="10541"/>
                  <a:pt x="5957" y="10664"/>
                  <a:pt x="5978" y="10765"/>
                </a:cubicBezTo>
                <a:cubicBezTo>
                  <a:pt x="5995" y="10846"/>
                  <a:pt x="6007" y="10936"/>
                  <a:pt x="6028" y="11013"/>
                </a:cubicBezTo>
                <a:cubicBezTo>
                  <a:pt x="6055" y="11069"/>
                  <a:pt x="6063" y="11091"/>
                  <a:pt x="6052" y="11137"/>
                </a:cubicBezTo>
              </a:path>
              <a:path w="5359" h="2259">
                <a:moveTo>
                  <a:pt x="5804" y="10740"/>
                </a:moveTo>
                <a:cubicBezTo>
                  <a:pt x="5896" y="10740"/>
                  <a:pt x="5987" y="10752"/>
                  <a:pt x="6077" y="10765"/>
                </a:cubicBezTo>
                <a:cubicBezTo>
                  <a:pt x="6193" y="10784"/>
                  <a:pt x="6209" y="10793"/>
                  <a:pt x="6276" y="10790"/>
                </a:cubicBezTo>
              </a:path>
              <a:path w="5359" h="2259">
                <a:moveTo>
                  <a:pt x="6573" y="10368"/>
                </a:moveTo>
                <a:cubicBezTo>
                  <a:pt x="6633" y="10300"/>
                  <a:pt x="6651" y="10239"/>
                  <a:pt x="6747" y="10220"/>
                </a:cubicBezTo>
                <a:cubicBezTo>
                  <a:pt x="6829" y="10204"/>
                  <a:pt x="6954" y="10211"/>
                  <a:pt x="7020" y="10244"/>
                </a:cubicBezTo>
                <a:cubicBezTo>
                  <a:pt x="7156" y="10312"/>
                  <a:pt x="7187" y="10380"/>
                  <a:pt x="7193" y="10517"/>
                </a:cubicBezTo>
                <a:cubicBezTo>
                  <a:pt x="7197" y="10625"/>
                  <a:pt x="7175" y="10691"/>
                  <a:pt x="7144" y="10790"/>
                </a:cubicBezTo>
                <a:cubicBezTo>
                  <a:pt x="7117" y="10876"/>
                  <a:pt x="7035" y="11046"/>
                  <a:pt x="6970" y="11112"/>
                </a:cubicBezTo>
                <a:cubicBezTo>
                  <a:pt x="6930" y="11153"/>
                  <a:pt x="6890" y="11193"/>
                  <a:pt x="6846" y="11237"/>
                </a:cubicBezTo>
                <a:cubicBezTo>
                  <a:pt x="6804" y="11202"/>
                  <a:pt x="6771" y="11158"/>
                  <a:pt x="6796" y="11088"/>
                </a:cubicBezTo>
                <a:cubicBezTo>
                  <a:pt x="6820" y="11022"/>
                  <a:pt x="6824" y="10968"/>
                  <a:pt x="6921" y="10988"/>
                </a:cubicBezTo>
                <a:cubicBezTo>
                  <a:pt x="6982" y="11000"/>
                  <a:pt x="7058" y="11101"/>
                  <a:pt x="7094" y="11137"/>
                </a:cubicBezTo>
                <a:cubicBezTo>
                  <a:pt x="7136" y="11179"/>
                  <a:pt x="7184" y="11291"/>
                  <a:pt x="7243" y="11311"/>
                </a:cubicBezTo>
                <a:cubicBezTo>
                  <a:pt x="7276" y="11322"/>
                  <a:pt x="7332" y="11311"/>
                  <a:pt x="7367" y="11311"/>
                </a:cubicBezTo>
              </a:path>
              <a:path w="5359" h="2259">
                <a:moveTo>
                  <a:pt x="7615" y="10294"/>
                </a:moveTo>
                <a:cubicBezTo>
                  <a:pt x="7607" y="10370"/>
                  <a:pt x="7590" y="10413"/>
                  <a:pt x="7590" y="10492"/>
                </a:cubicBezTo>
                <a:cubicBezTo>
                  <a:pt x="7590" y="10579"/>
                  <a:pt x="7644" y="10584"/>
                  <a:pt x="7689" y="10641"/>
                </a:cubicBezTo>
                <a:cubicBezTo>
                  <a:pt x="7731" y="10694"/>
                  <a:pt x="7770" y="10774"/>
                  <a:pt x="7863" y="10740"/>
                </a:cubicBezTo>
                <a:cubicBezTo>
                  <a:pt x="7888" y="10724"/>
                  <a:pt x="7913" y="10707"/>
                  <a:pt x="7938" y="10691"/>
                </a:cubicBezTo>
              </a:path>
              <a:path w="5359" h="2259">
                <a:moveTo>
                  <a:pt x="8037" y="9996"/>
                </a:moveTo>
                <a:cubicBezTo>
                  <a:pt x="8015" y="10136"/>
                  <a:pt x="7966" y="10278"/>
                  <a:pt x="7962" y="10418"/>
                </a:cubicBezTo>
                <a:cubicBezTo>
                  <a:pt x="7955" y="10657"/>
                  <a:pt x="7952" y="10904"/>
                  <a:pt x="7987" y="11137"/>
                </a:cubicBezTo>
                <a:cubicBezTo>
                  <a:pt x="7998" y="11209"/>
                  <a:pt x="7984" y="11439"/>
                  <a:pt x="8062" y="11509"/>
                </a:cubicBezTo>
                <a:cubicBezTo>
                  <a:pt x="8070" y="11509"/>
                  <a:pt x="8078" y="11509"/>
                  <a:pt x="8086" y="11509"/>
                </a:cubicBezTo>
              </a:path>
              <a:path w="5359" h="2259">
                <a:moveTo>
                  <a:pt x="8384" y="10840"/>
                </a:moveTo>
                <a:cubicBezTo>
                  <a:pt x="8510" y="10822"/>
                  <a:pt x="8634" y="10821"/>
                  <a:pt x="8756" y="10790"/>
                </a:cubicBezTo>
              </a:path>
              <a:path w="5359" h="2259">
                <a:moveTo>
                  <a:pt x="8483" y="11013"/>
                </a:moveTo>
                <a:cubicBezTo>
                  <a:pt x="8686" y="11057"/>
                  <a:pt x="8626" y="11070"/>
                  <a:pt x="8781" y="11013"/>
                </a:cubicBezTo>
              </a:path>
              <a:path w="5359" h="2259">
                <a:moveTo>
                  <a:pt x="9153" y="10195"/>
                </a:moveTo>
                <a:cubicBezTo>
                  <a:pt x="9290" y="10114"/>
                  <a:pt x="9345" y="10062"/>
                  <a:pt x="9500" y="10145"/>
                </a:cubicBezTo>
                <a:cubicBezTo>
                  <a:pt x="9591" y="10194"/>
                  <a:pt x="9657" y="10235"/>
                  <a:pt x="9674" y="10344"/>
                </a:cubicBezTo>
                <a:cubicBezTo>
                  <a:pt x="9693" y="10467"/>
                  <a:pt x="9678" y="10620"/>
                  <a:pt x="9649" y="10740"/>
                </a:cubicBezTo>
                <a:cubicBezTo>
                  <a:pt x="9617" y="10870"/>
                  <a:pt x="9608" y="10973"/>
                  <a:pt x="9525" y="11088"/>
                </a:cubicBezTo>
                <a:cubicBezTo>
                  <a:pt x="9461" y="11177"/>
                  <a:pt x="9435" y="11238"/>
                  <a:pt x="9351" y="11311"/>
                </a:cubicBezTo>
                <a:cubicBezTo>
                  <a:pt x="9323" y="11340"/>
                  <a:pt x="9310" y="11348"/>
                  <a:pt x="9277" y="11336"/>
                </a:cubicBezTo>
                <a:cubicBezTo>
                  <a:pt x="9277" y="11230"/>
                  <a:pt x="9286" y="11160"/>
                  <a:pt x="9327" y="11063"/>
                </a:cubicBezTo>
                <a:cubicBezTo>
                  <a:pt x="9356" y="10995"/>
                  <a:pt x="9369" y="10979"/>
                  <a:pt x="9426" y="10939"/>
                </a:cubicBezTo>
                <a:cubicBezTo>
                  <a:pt x="9471" y="10984"/>
                  <a:pt x="9515" y="11037"/>
                  <a:pt x="9550" y="11088"/>
                </a:cubicBezTo>
                <a:cubicBezTo>
                  <a:pt x="9586" y="11141"/>
                  <a:pt x="9638" y="11258"/>
                  <a:pt x="9699" y="11286"/>
                </a:cubicBezTo>
                <a:cubicBezTo>
                  <a:pt x="9748" y="11286"/>
                  <a:pt x="9765" y="11286"/>
                  <a:pt x="9798" y="11286"/>
                </a:cubicBezTo>
              </a:path>
              <a:path w="5359" h="2259">
                <a:moveTo>
                  <a:pt x="9996" y="10319"/>
                </a:moveTo>
                <a:cubicBezTo>
                  <a:pt x="9996" y="10417"/>
                  <a:pt x="9975" y="10491"/>
                  <a:pt x="9971" y="10592"/>
                </a:cubicBezTo>
                <a:cubicBezTo>
                  <a:pt x="9968" y="10684"/>
                  <a:pt x="9980" y="10734"/>
                  <a:pt x="10021" y="10815"/>
                </a:cubicBezTo>
                <a:cubicBezTo>
                  <a:pt x="10062" y="10896"/>
                  <a:pt x="10105" y="10934"/>
                  <a:pt x="10195" y="10939"/>
                </a:cubicBezTo>
                <a:cubicBezTo>
                  <a:pt x="10244" y="10939"/>
                  <a:pt x="10261" y="10939"/>
                  <a:pt x="10294" y="10939"/>
                </a:cubicBezTo>
              </a:path>
              <a:path w="5359" h="2259">
                <a:moveTo>
                  <a:pt x="10393" y="10120"/>
                </a:moveTo>
                <a:cubicBezTo>
                  <a:pt x="10380" y="10227"/>
                  <a:pt x="10368" y="10330"/>
                  <a:pt x="10368" y="10443"/>
                </a:cubicBezTo>
                <a:cubicBezTo>
                  <a:pt x="10368" y="10622"/>
                  <a:pt x="10374" y="10791"/>
                  <a:pt x="10393" y="10964"/>
                </a:cubicBezTo>
                <a:cubicBezTo>
                  <a:pt x="10404" y="11062"/>
                  <a:pt x="10353" y="11236"/>
                  <a:pt x="10418" y="11311"/>
                </a:cubicBezTo>
                <a:cubicBezTo>
                  <a:pt x="10435" y="11328"/>
                  <a:pt x="10451" y="11344"/>
                  <a:pt x="10468" y="11361"/>
                </a:cubicBezTo>
              </a:path>
              <a:path w="5359" h="2259">
                <a:moveTo>
                  <a:pt x="11038" y="10864"/>
                </a:moveTo>
                <a:cubicBezTo>
                  <a:pt x="11047" y="10808"/>
                  <a:pt x="11078" y="10692"/>
                  <a:pt x="10988" y="10666"/>
                </a:cubicBezTo>
                <a:cubicBezTo>
                  <a:pt x="10925" y="10648"/>
                  <a:pt x="10805" y="10685"/>
                  <a:pt x="10765" y="10740"/>
                </a:cubicBezTo>
                <a:cubicBezTo>
                  <a:pt x="10720" y="10803"/>
                  <a:pt x="10701" y="10888"/>
                  <a:pt x="10716" y="10964"/>
                </a:cubicBezTo>
                <a:cubicBezTo>
                  <a:pt x="10737" y="11069"/>
                  <a:pt x="10778" y="11129"/>
                  <a:pt x="10864" y="11187"/>
                </a:cubicBezTo>
                <a:cubicBezTo>
                  <a:pt x="10933" y="11234"/>
                  <a:pt x="10999" y="11206"/>
                  <a:pt x="11063" y="11162"/>
                </a:cubicBezTo>
                <a:cubicBezTo>
                  <a:pt x="11134" y="11113"/>
                  <a:pt x="11118" y="11006"/>
                  <a:pt x="11137" y="10939"/>
                </a:cubicBezTo>
                <a:cubicBezTo>
                  <a:pt x="11173" y="10812"/>
                  <a:pt x="11137" y="11077"/>
                  <a:pt x="11137" y="11137"/>
                </a:cubicBezTo>
                <a:cubicBezTo>
                  <a:pt x="11137" y="11272"/>
                  <a:pt x="11156" y="11403"/>
                  <a:pt x="11162" y="11534"/>
                </a:cubicBezTo>
                <a:cubicBezTo>
                  <a:pt x="11170" y="11705"/>
                  <a:pt x="11181" y="11911"/>
                  <a:pt x="11137" y="12080"/>
                </a:cubicBezTo>
                <a:cubicBezTo>
                  <a:pt x="11102" y="12215"/>
                  <a:pt x="11115" y="12241"/>
                  <a:pt x="10964" y="12254"/>
                </a:cubicBezTo>
                <a:cubicBezTo>
                  <a:pt x="10903" y="12259"/>
                  <a:pt x="10788" y="12188"/>
                  <a:pt x="10765" y="12129"/>
                </a:cubicBezTo>
                <a:cubicBezTo>
                  <a:pt x="10743" y="12074"/>
                  <a:pt x="10744" y="11964"/>
                  <a:pt x="10740" y="1190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Ink 8"/>
          <p:cNvSpPr/>
          <p:nvPr/>
        </p:nvSpPr>
        <p:spPr>
          <a:xfrm>
            <a:off x="4232160" y="3732120"/>
            <a:ext cx="527040" cy="420840"/>
          </a:xfrm>
          <a:custGeom>
            <a:avLst/>
            <a:gdLst/>
            <a:ahLst/>
            <a:rect l="l" t="t" r="r" b="b"/>
            <a:pathLst>
              <a:path w="1465" h="1167">
                <a:moveTo>
                  <a:pt x="11782" y="10393"/>
                </a:moveTo>
                <a:cubicBezTo>
                  <a:pt x="11835" y="10575"/>
                  <a:pt x="11846" y="10713"/>
                  <a:pt x="11881" y="10889"/>
                </a:cubicBezTo>
                <a:cubicBezTo>
                  <a:pt x="11900" y="10986"/>
                  <a:pt x="11908" y="11091"/>
                  <a:pt x="11931" y="11187"/>
                </a:cubicBezTo>
                <a:cubicBezTo>
                  <a:pt x="11953" y="11252"/>
                  <a:pt x="11961" y="11267"/>
                  <a:pt x="11956" y="11311"/>
                </a:cubicBezTo>
              </a:path>
              <a:path w="1465" h="1167">
                <a:moveTo>
                  <a:pt x="11757" y="10864"/>
                </a:moveTo>
                <a:cubicBezTo>
                  <a:pt x="11882" y="10894"/>
                  <a:pt x="12021" y="10940"/>
                  <a:pt x="12154" y="10914"/>
                </a:cubicBezTo>
                <a:cubicBezTo>
                  <a:pt x="12265" y="10877"/>
                  <a:pt x="12320" y="10844"/>
                  <a:pt x="12378" y="10765"/>
                </a:cubicBezTo>
              </a:path>
              <a:path w="1465" h="1167">
                <a:moveTo>
                  <a:pt x="12650" y="10368"/>
                </a:moveTo>
                <a:cubicBezTo>
                  <a:pt x="12840" y="10379"/>
                  <a:pt x="12839" y="10382"/>
                  <a:pt x="12948" y="10542"/>
                </a:cubicBezTo>
                <a:cubicBezTo>
                  <a:pt x="13017" y="10644"/>
                  <a:pt x="13061" y="10763"/>
                  <a:pt x="13047" y="10889"/>
                </a:cubicBezTo>
                <a:cubicBezTo>
                  <a:pt x="13032" y="11027"/>
                  <a:pt x="12968" y="11144"/>
                  <a:pt x="12898" y="11261"/>
                </a:cubicBezTo>
                <a:cubicBezTo>
                  <a:pt x="12845" y="11350"/>
                  <a:pt x="12811" y="11405"/>
                  <a:pt x="12725" y="11460"/>
                </a:cubicBezTo>
                <a:cubicBezTo>
                  <a:pt x="12637" y="11517"/>
                  <a:pt x="12620" y="11529"/>
                  <a:pt x="12551" y="11460"/>
                </a:cubicBezTo>
                <a:cubicBezTo>
                  <a:pt x="12499" y="11408"/>
                  <a:pt x="12530" y="11345"/>
                  <a:pt x="12551" y="11286"/>
                </a:cubicBezTo>
                <a:cubicBezTo>
                  <a:pt x="12572" y="11226"/>
                  <a:pt x="12588" y="11158"/>
                  <a:pt x="12626" y="11112"/>
                </a:cubicBezTo>
                <a:cubicBezTo>
                  <a:pt x="12634" y="11104"/>
                  <a:pt x="12642" y="11096"/>
                  <a:pt x="12650" y="11088"/>
                </a:cubicBezTo>
                <a:cubicBezTo>
                  <a:pt x="12731" y="11127"/>
                  <a:pt x="12808" y="11151"/>
                  <a:pt x="12874" y="11212"/>
                </a:cubicBezTo>
                <a:cubicBezTo>
                  <a:pt x="12976" y="11305"/>
                  <a:pt x="13070" y="11393"/>
                  <a:pt x="13171" y="11485"/>
                </a:cubicBezTo>
                <a:cubicBezTo>
                  <a:pt x="13188" y="11501"/>
                  <a:pt x="13204" y="11518"/>
                  <a:pt x="13221" y="115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Ink 9"/>
          <p:cNvSpPr/>
          <p:nvPr/>
        </p:nvSpPr>
        <p:spPr>
          <a:xfrm>
            <a:off x="3224160" y="4232160"/>
            <a:ext cx="936720" cy="546120"/>
          </a:xfrm>
          <a:custGeom>
            <a:avLst/>
            <a:gdLst/>
            <a:ahLst/>
            <a:rect l="l" t="t" r="r" b="b"/>
            <a:pathLst>
              <a:path w="2606" h="1515">
                <a:moveTo>
                  <a:pt x="8954" y="12129"/>
                </a:moveTo>
                <a:cubicBezTo>
                  <a:pt x="9066" y="12106"/>
                  <a:pt x="9162" y="12105"/>
                  <a:pt x="9277" y="12105"/>
                </a:cubicBezTo>
                <a:cubicBezTo>
                  <a:pt x="9302" y="12105"/>
                  <a:pt x="9326" y="12105"/>
                  <a:pt x="9351" y="12105"/>
                </a:cubicBezTo>
              </a:path>
              <a:path w="2606" h="1515">
                <a:moveTo>
                  <a:pt x="9674" y="11807"/>
                </a:moveTo>
                <a:cubicBezTo>
                  <a:pt x="9811" y="11772"/>
                  <a:pt x="9856" y="11744"/>
                  <a:pt x="9971" y="11832"/>
                </a:cubicBezTo>
                <a:cubicBezTo>
                  <a:pt x="10043" y="11888"/>
                  <a:pt x="10067" y="11968"/>
                  <a:pt x="10071" y="12055"/>
                </a:cubicBezTo>
                <a:cubicBezTo>
                  <a:pt x="10075" y="12141"/>
                  <a:pt x="10043" y="12279"/>
                  <a:pt x="9996" y="12353"/>
                </a:cubicBezTo>
                <a:cubicBezTo>
                  <a:pt x="9973" y="12390"/>
                  <a:pt x="9836" y="12511"/>
                  <a:pt x="9798" y="12526"/>
                </a:cubicBezTo>
                <a:cubicBezTo>
                  <a:pt x="9739" y="12549"/>
                  <a:pt x="9614" y="12571"/>
                  <a:pt x="9575" y="12551"/>
                </a:cubicBezTo>
                <a:cubicBezTo>
                  <a:pt x="9492" y="12509"/>
                  <a:pt x="9480" y="12496"/>
                  <a:pt x="9475" y="12402"/>
                </a:cubicBezTo>
                <a:cubicBezTo>
                  <a:pt x="9472" y="12335"/>
                  <a:pt x="9521" y="12254"/>
                  <a:pt x="9599" y="12254"/>
                </a:cubicBezTo>
                <a:cubicBezTo>
                  <a:pt x="9694" y="12254"/>
                  <a:pt x="9775" y="12331"/>
                  <a:pt x="9847" y="12378"/>
                </a:cubicBezTo>
                <a:cubicBezTo>
                  <a:pt x="9925" y="12428"/>
                  <a:pt x="9974" y="12536"/>
                  <a:pt x="10046" y="12576"/>
                </a:cubicBezTo>
                <a:cubicBezTo>
                  <a:pt x="10079" y="12594"/>
                  <a:pt x="10135" y="12617"/>
                  <a:pt x="10170" y="12626"/>
                </a:cubicBezTo>
              </a:path>
              <a:path w="2606" h="1515">
                <a:moveTo>
                  <a:pt x="10294" y="11981"/>
                </a:moveTo>
                <a:cubicBezTo>
                  <a:pt x="10397" y="11885"/>
                  <a:pt x="10429" y="11823"/>
                  <a:pt x="10567" y="11881"/>
                </a:cubicBezTo>
                <a:cubicBezTo>
                  <a:pt x="10652" y="11916"/>
                  <a:pt x="10723" y="11941"/>
                  <a:pt x="10765" y="12030"/>
                </a:cubicBezTo>
                <a:cubicBezTo>
                  <a:pt x="10808" y="12120"/>
                  <a:pt x="10787" y="12261"/>
                  <a:pt x="10765" y="12353"/>
                </a:cubicBezTo>
                <a:cubicBezTo>
                  <a:pt x="10737" y="12467"/>
                  <a:pt x="10648" y="12495"/>
                  <a:pt x="10567" y="12551"/>
                </a:cubicBezTo>
                <a:cubicBezTo>
                  <a:pt x="10512" y="12589"/>
                  <a:pt x="10422" y="12562"/>
                  <a:pt x="10393" y="12502"/>
                </a:cubicBezTo>
                <a:cubicBezTo>
                  <a:pt x="10358" y="12430"/>
                  <a:pt x="10347" y="12316"/>
                  <a:pt x="10393" y="12254"/>
                </a:cubicBezTo>
                <a:cubicBezTo>
                  <a:pt x="10401" y="12246"/>
                  <a:pt x="10410" y="12237"/>
                  <a:pt x="10418" y="12229"/>
                </a:cubicBezTo>
                <a:cubicBezTo>
                  <a:pt x="10547" y="12252"/>
                  <a:pt x="10518" y="12283"/>
                  <a:pt x="10592" y="12378"/>
                </a:cubicBezTo>
                <a:cubicBezTo>
                  <a:pt x="10628" y="12425"/>
                  <a:pt x="10721" y="12547"/>
                  <a:pt x="10765" y="12576"/>
                </a:cubicBezTo>
                <a:cubicBezTo>
                  <a:pt x="10790" y="12584"/>
                  <a:pt x="10815" y="12593"/>
                  <a:pt x="10840" y="12601"/>
                </a:cubicBezTo>
              </a:path>
              <a:path w="2606" h="1515">
                <a:moveTo>
                  <a:pt x="11485" y="12278"/>
                </a:moveTo>
                <a:cubicBezTo>
                  <a:pt x="11399" y="12205"/>
                  <a:pt x="11258" y="12089"/>
                  <a:pt x="11137" y="12229"/>
                </a:cubicBezTo>
                <a:cubicBezTo>
                  <a:pt x="11101" y="12271"/>
                  <a:pt x="11120" y="12402"/>
                  <a:pt x="11137" y="12452"/>
                </a:cubicBezTo>
                <a:cubicBezTo>
                  <a:pt x="11165" y="12536"/>
                  <a:pt x="11239" y="12565"/>
                  <a:pt x="11311" y="12601"/>
                </a:cubicBezTo>
                <a:cubicBezTo>
                  <a:pt x="11367" y="12629"/>
                  <a:pt x="11437" y="12615"/>
                  <a:pt x="11485" y="12576"/>
                </a:cubicBezTo>
                <a:cubicBezTo>
                  <a:pt x="11523" y="12545"/>
                  <a:pt x="11551" y="12492"/>
                  <a:pt x="11559" y="12452"/>
                </a:cubicBezTo>
                <a:cubicBezTo>
                  <a:pt x="11559" y="12402"/>
                  <a:pt x="11559" y="12386"/>
                  <a:pt x="11559" y="12353"/>
                </a:cubicBezTo>
                <a:cubicBezTo>
                  <a:pt x="11527" y="12436"/>
                  <a:pt x="11534" y="12510"/>
                  <a:pt x="11534" y="12601"/>
                </a:cubicBezTo>
                <a:cubicBezTo>
                  <a:pt x="11534" y="12761"/>
                  <a:pt x="11594" y="13056"/>
                  <a:pt x="11509" y="13196"/>
                </a:cubicBezTo>
                <a:cubicBezTo>
                  <a:pt x="11475" y="13252"/>
                  <a:pt x="11421" y="13268"/>
                  <a:pt x="11361" y="13271"/>
                </a:cubicBezTo>
                <a:cubicBezTo>
                  <a:pt x="11239" y="13278"/>
                  <a:pt x="11105" y="13183"/>
                  <a:pt x="10988" y="131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Ink 10"/>
          <p:cNvSpPr/>
          <p:nvPr/>
        </p:nvSpPr>
        <p:spPr>
          <a:xfrm>
            <a:off x="2490840" y="4768920"/>
            <a:ext cx="1903320" cy="965160"/>
          </a:xfrm>
          <a:custGeom>
            <a:avLst/>
            <a:gdLst/>
            <a:ahLst/>
            <a:rect l="l" t="t" r="r" b="b"/>
            <a:pathLst>
              <a:path w="5284" h="2680">
                <a:moveTo>
                  <a:pt x="6921" y="13593"/>
                </a:moveTo>
                <a:cubicBezTo>
                  <a:pt x="6950" y="13544"/>
                  <a:pt x="6950" y="13514"/>
                  <a:pt x="6995" y="13469"/>
                </a:cubicBezTo>
                <a:cubicBezTo>
                  <a:pt x="7049" y="13415"/>
                  <a:pt x="7109" y="13376"/>
                  <a:pt x="7193" y="13395"/>
                </a:cubicBezTo>
                <a:cubicBezTo>
                  <a:pt x="7244" y="13407"/>
                  <a:pt x="7321" y="13473"/>
                  <a:pt x="7342" y="13519"/>
                </a:cubicBezTo>
                <a:cubicBezTo>
                  <a:pt x="7383" y="13608"/>
                  <a:pt x="7406" y="13721"/>
                  <a:pt x="7417" y="13816"/>
                </a:cubicBezTo>
                <a:cubicBezTo>
                  <a:pt x="7426" y="13896"/>
                  <a:pt x="7409" y="14068"/>
                  <a:pt x="7367" y="14139"/>
                </a:cubicBezTo>
                <a:cubicBezTo>
                  <a:pt x="7308" y="14238"/>
                  <a:pt x="7212" y="14320"/>
                  <a:pt x="7119" y="14362"/>
                </a:cubicBezTo>
                <a:cubicBezTo>
                  <a:pt x="7081" y="14379"/>
                  <a:pt x="6965" y="14406"/>
                  <a:pt x="6945" y="14337"/>
                </a:cubicBezTo>
                <a:cubicBezTo>
                  <a:pt x="6925" y="14268"/>
                  <a:pt x="6942" y="14152"/>
                  <a:pt x="6970" y="14089"/>
                </a:cubicBezTo>
                <a:cubicBezTo>
                  <a:pt x="7010" y="14000"/>
                  <a:pt x="7043" y="13939"/>
                  <a:pt x="7144" y="13915"/>
                </a:cubicBezTo>
                <a:cubicBezTo>
                  <a:pt x="7178" y="13907"/>
                  <a:pt x="7267" y="13984"/>
                  <a:pt x="7293" y="14015"/>
                </a:cubicBezTo>
                <a:cubicBezTo>
                  <a:pt x="7340" y="14070"/>
                  <a:pt x="7367" y="14172"/>
                  <a:pt x="7392" y="14238"/>
                </a:cubicBezTo>
                <a:cubicBezTo>
                  <a:pt x="7425" y="14324"/>
                  <a:pt x="7432" y="14363"/>
                  <a:pt x="7516" y="14312"/>
                </a:cubicBezTo>
              </a:path>
              <a:path w="5284" h="2680">
                <a:moveTo>
                  <a:pt x="7813" y="13494"/>
                </a:moveTo>
                <a:cubicBezTo>
                  <a:pt x="7786" y="13541"/>
                  <a:pt x="7771" y="13633"/>
                  <a:pt x="7789" y="13692"/>
                </a:cubicBezTo>
                <a:cubicBezTo>
                  <a:pt x="7819" y="13791"/>
                  <a:pt x="7942" y="13907"/>
                  <a:pt x="8037" y="13940"/>
                </a:cubicBezTo>
                <a:cubicBezTo>
                  <a:pt x="8067" y="13910"/>
                  <a:pt x="8081" y="13899"/>
                  <a:pt x="8111" y="13891"/>
                </a:cubicBezTo>
              </a:path>
              <a:path w="5284" h="2680">
                <a:moveTo>
                  <a:pt x="8210" y="13246"/>
                </a:moveTo>
                <a:cubicBezTo>
                  <a:pt x="8192" y="13393"/>
                  <a:pt x="8172" y="13546"/>
                  <a:pt x="8161" y="13692"/>
                </a:cubicBezTo>
                <a:cubicBezTo>
                  <a:pt x="8144" y="13924"/>
                  <a:pt x="8086" y="14337"/>
                  <a:pt x="8186" y="14536"/>
                </a:cubicBezTo>
              </a:path>
              <a:path w="5284" h="2680">
                <a:moveTo>
                  <a:pt x="8508" y="13990"/>
                </a:moveTo>
                <a:cubicBezTo>
                  <a:pt x="8629" y="13990"/>
                  <a:pt x="8713" y="13996"/>
                  <a:pt x="8830" y="14015"/>
                </a:cubicBezTo>
                <a:cubicBezTo>
                  <a:pt x="8838" y="14015"/>
                  <a:pt x="8847" y="14015"/>
                  <a:pt x="8855" y="14015"/>
                </a:cubicBezTo>
              </a:path>
              <a:path w="5284" h="2680">
                <a:moveTo>
                  <a:pt x="8657" y="14263"/>
                </a:moveTo>
                <a:cubicBezTo>
                  <a:pt x="8773" y="14320"/>
                  <a:pt x="8789" y="14362"/>
                  <a:pt x="8855" y="14312"/>
                </a:cubicBezTo>
              </a:path>
              <a:path w="5284" h="2680">
                <a:moveTo>
                  <a:pt x="9227" y="13717"/>
                </a:moveTo>
                <a:cubicBezTo>
                  <a:pt x="9296" y="13657"/>
                  <a:pt x="9408" y="13517"/>
                  <a:pt x="9525" y="13568"/>
                </a:cubicBezTo>
                <a:cubicBezTo>
                  <a:pt x="9612" y="13606"/>
                  <a:pt x="9669" y="13669"/>
                  <a:pt x="9723" y="13742"/>
                </a:cubicBezTo>
                <a:cubicBezTo>
                  <a:pt x="9793" y="13836"/>
                  <a:pt x="9773" y="13926"/>
                  <a:pt x="9773" y="14039"/>
                </a:cubicBezTo>
                <a:cubicBezTo>
                  <a:pt x="9773" y="14159"/>
                  <a:pt x="9698" y="14314"/>
                  <a:pt x="9624" y="14412"/>
                </a:cubicBezTo>
                <a:cubicBezTo>
                  <a:pt x="9571" y="14483"/>
                  <a:pt x="9513" y="14531"/>
                  <a:pt x="9426" y="14536"/>
                </a:cubicBezTo>
                <a:cubicBezTo>
                  <a:pt x="9344" y="14541"/>
                  <a:pt x="9307" y="14512"/>
                  <a:pt x="9302" y="14436"/>
                </a:cubicBezTo>
                <a:cubicBezTo>
                  <a:pt x="9297" y="14345"/>
                  <a:pt x="9343" y="14313"/>
                  <a:pt x="9401" y="14263"/>
                </a:cubicBezTo>
                <a:cubicBezTo>
                  <a:pt x="9453" y="14295"/>
                  <a:pt x="9539" y="14336"/>
                  <a:pt x="9575" y="14387"/>
                </a:cubicBezTo>
                <a:cubicBezTo>
                  <a:pt x="9612" y="14440"/>
                  <a:pt x="9626" y="14489"/>
                  <a:pt x="9674" y="14536"/>
                </a:cubicBezTo>
                <a:cubicBezTo>
                  <a:pt x="9714" y="14575"/>
                  <a:pt x="9744" y="14583"/>
                  <a:pt x="9798" y="14560"/>
                </a:cubicBezTo>
              </a:path>
              <a:path w="5284" h="2680">
                <a:moveTo>
                  <a:pt x="10220" y="14064"/>
                </a:moveTo>
                <a:cubicBezTo>
                  <a:pt x="10159" y="14029"/>
                  <a:pt x="10097" y="13989"/>
                  <a:pt x="10021" y="14015"/>
                </a:cubicBezTo>
                <a:cubicBezTo>
                  <a:pt x="9928" y="14047"/>
                  <a:pt x="9902" y="14125"/>
                  <a:pt x="9897" y="14213"/>
                </a:cubicBezTo>
                <a:cubicBezTo>
                  <a:pt x="9893" y="14282"/>
                  <a:pt x="9941" y="14444"/>
                  <a:pt x="10021" y="14461"/>
                </a:cubicBezTo>
                <a:cubicBezTo>
                  <a:pt x="10126" y="14483"/>
                  <a:pt x="10138" y="14424"/>
                  <a:pt x="10195" y="14362"/>
                </a:cubicBezTo>
                <a:cubicBezTo>
                  <a:pt x="10251" y="14302"/>
                  <a:pt x="10281" y="14243"/>
                  <a:pt x="10294" y="14163"/>
                </a:cubicBezTo>
                <a:cubicBezTo>
                  <a:pt x="10294" y="14147"/>
                  <a:pt x="10294" y="14130"/>
                  <a:pt x="10294" y="14114"/>
                </a:cubicBezTo>
                <a:cubicBezTo>
                  <a:pt x="10258" y="14244"/>
                  <a:pt x="10264" y="14378"/>
                  <a:pt x="10244" y="14511"/>
                </a:cubicBezTo>
                <a:cubicBezTo>
                  <a:pt x="10221" y="14661"/>
                  <a:pt x="10220" y="14804"/>
                  <a:pt x="10220" y="14957"/>
                </a:cubicBezTo>
                <a:cubicBezTo>
                  <a:pt x="10220" y="15076"/>
                  <a:pt x="10214" y="15220"/>
                  <a:pt x="10170" y="15329"/>
                </a:cubicBezTo>
                <a:cubicBezTo>
                  <a:pt x="10139" y="15407"/>
                  <a:pt x="10091" y="15481"/>
                  <a:pt x="9996" y="15404"/>
                </a:cubicBezTo>
                <a:cubicBezTo>
                  <a:pt x="9950" y="15367"/>
                  <a:pt x="9891" y="15226"/>
                  <a:pt x="9872" y="15180"/>
                </a:cubicBezTo>
                <a:cubicBezTo>
                  <a:pt x="9838" y="15098"/>
                  <a:pt x="9847" y="15019"/>
                  <a:pt x="9847" y="14932"/>
                </a:cubicBezTo>
              </a:path>
              <a:path w="5284" h="2680">
                <a:moveTo>
                  <a:pt x="10939" y="13816"/>
                </a:moveTo>
                <a:cubicBezTo>
                  <a:pt x="10954" y="13942"/>
                  <a:pt x="10985" y="14086"/>
                  <a:pt x="10988" y="14213"/>
                </a:cubicBezTo>
                <a:cubicBezTo>
                  <a:pt x="10988" y="14329"/>
                  <a:pt x="10988" y="14346"/>
                  <a:pt x="10988" y="14412"/>
                </a:cubicBezTo>
              </a:path>
              <a:path w="5284" h="2680">
                <a:moveTo>
                  <a:pt x="10864" y="14015"/>
                </a:moveTo>
                <a:cubicBezTo>
                  <a:pt x="11006" y="14055"/>
                  <a:pt x="11093" y="14064"/>
                  <a:pt x="11237" y="14064"/>
                </a:cubicBezTo>
              </a:path>
              <a:path w="5284" h="2680">
                <a:moveTo>
                  <a:pt x="11658" y="13791"/>
                </a:moveTo>
                <a:cubicBezTo>
                  <a:pt x="11768" y="13751"/>
                  <a:pt x="11799" y="13783"/>
                  <a:pt x="11881" y="13841"/>
                </a:cubicBezTo>
                <a:cubicBezTo>
                  <a:pt x="11938" y="13881"/>
                  <a:pt x="12014" y="13987"/>
                  <a:pt x="12030" y="14064"/>
                </a:cubicBezTo>
                <a:cubicBezTo>
                  <a:pt x="12050" y="14160"/>
                  <a:pt x="11987" y="14289"/>
                  <a:pt x="11931" y="14362"/>
                </a:cubicBezTo>
                <a:cubicBezTo>
                  <a:pt x="11872" y="14438"/>
                  <a:pt x="11792" y="14492"/>
                  <a:pt x="11708" y="14536"/>
                </a:cubicBezTo>
                <a:cubicBezTo>
                  <a:pt x="11633" y="14575"/>
                  <a:pt x="11608" y="14577"/>
                  <a:pt x="11534" y="14560"/>
                </a:cubicBezTo>
                <a:cubicBezTo>
                  <a:pt x="11577" y="14453"/>
                  <a:pt x="11594" y="14460"/>
                  <a:pt x="11683" y="14412"/>
                </a:cubicBezTo>
                <a:cubicBezTo>
                  <a:pt x="11756" y="14373"/>
                  <a:pt x="11802" y="14399"/>
                  <a:pt x="11881" y="14436"/>
                </a:cubicBezTo>
                <a:cubicBezTo>
                  <a:pt x="11974" y="14480"/>
                  <a:pt x="12069" y="14550"/>
                  <a:pt x="12154" y="14610"/>
                </a:cubicBezTo>
                <a:cubicBezTo>
                  <a:pt x="12179" y="14635"/>
                  <a:pt x="12187" y="14643"/>
                  <a:pt x="12204" y="14660"/>
                </a:cubicBezTo>
              </a:path>
              <a:path w="5284" h="2680">
                <a:moveTo>
                  <a:pt x="11088" y="15106"/>
                </a:moveTo>
                <a:cubicBezTo>
                  <a:pt x="11164" y="15144"/>
                  <a:pt x="11268" y="15176"/>
                  <a:pt x="11361" y="15156"/>
                </a:cubicBezTo>
                <a:cubicBezTo>
                  <a:pt x="11386" y="15148"/>
                  <a:pt x="11410" y="15139"/>
                  <a:pt x="11435" y="15131"/>
                </a:cubicBezTo>
              </a:path>
              <a:path w="5284" h="2680">
                <a:moveTo>
                  <a:pt x="11782" y="14932"/>
                </a:moveTo>
                <a:cubicBezTo>
                  <a:pt x="11949" y="14971"/>
                  <a:pt x="12002" y="15005"/>
                  <a:pt x="12105" y="15131"/>
                </a:cubicBezTo>
                <a:cubicBezTo>
                  <a:pt x="12190" y="15235"/>
                  <a:pt x="12151" y="15291"/>
                  <a:pt x="12105" y="15404"/>
                </a:cubicBezTo>
                <a:cubicBezTo>
                  <a:pt x="12057" y="15523"/>
                  <a:pt x="11977" y="15541"/>
                  <a:pt x="11857" y="15577"/>
                </a:cubicBezTo>
                <a:cubicBezTo>
                  <a:pt x="11764" y="15605"/>
                  <a:pt x="11671" y="15619"/>
                  <a:pt x="11584" y="15652"/>
                </a:cubicBezTo>
                <a:cubicBezTo>
                  <a:pt x="11689" y="15652"/>
                  <a:pt x="11780" y="15665"/>
                  <a:pt x="11881" y="15701"/>
                </a:cubicBezTo>
                <a:cubicBezTo>
                  <a:pt x="11949" y="15725"/>
                  <a:pt x="12029" y="15832"/>
                  <a:pt x="12055" y="15900"/>
                </a:cubicBezTo>
                <a:cubicBezTo>
                  <a:pt x="12055" y="15908"/>
                  <a:pt x="12055" y="15917"/>
                  <a:pt x="12055" y="1592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Ink 11"/>
          <p:cNvSpPr/>
          <p:nvPr/>
        </p:nvSpPr>
        <p:spPr>
          <a:xfrm>
            <a:off x="990720" y="4106880"/>
            <a:ext cx="955440" cy="689040"/>
          </a:xfrm>
          <a:custGeom>
            <a:avLst/>
            <a:gdLst/>
            <a:ahLst/>
            <a:rect l="l" t="t" r="r" b="b"/>
            <a:pathLst>
              <a:path w="2655" h="1911">
                <a:moveTo>
                  <a:pt x="2753" y="11683"/>
                </a:moveTo>
                <a:cubicBezTo>
                  <a:pt x="2855" y="11683"/>
                  <a:pt x="2929" y="11703"/>
                  <a:pt x="3026" y="11708"/>
                </a:cubicBezTo>
                <a:cubicBezTo>
                  <a:pt x="3084" y="11708"/>
                  <a:pt x="3109" y="11708"/>
                  <a:pt x="3150" y="11708"/>
                </a:cubicBezTo>
              </a:path>
              <a:path w="2655" h="1911">
                <a:moveTo>
                  <a:pt x="3522" y="11410"/>
                </a:moveTo>
                <a:cubicBezTo>
                  <a:pt x="3607" y="11410"/>
                  <a:pt x="3692" y="11409"/>
                  <a:pt x="3770" y="11435"/>
                </a:cubicBezTo>
                <a:cubicBezTo>
                  <a:pt x="3872" y="11469"/>
                  <a:pt x="3870" y="11598"/>
                  <a:pt x="3894" y="11683"/>
                </a:cubicBezTo>
                <a:cubicBezTo>
                  <a:pt x="3925" y="11794"/>
                  <a:pt x="3881" y="11872"/>
                  <a:pt x="3845" y="11981"/>
                </a:cubicBezTo>
                <a:cubicBezTo>
                  <a:pt x="3816" y="12068"/>
                  <a:pt x="3747" y="12149"/>
                  <a:pt x="3671" y="12204"/>
                </a:cubicBezTo>
                <a:cubicBezTo>
                  <a:pt x="3639" y="12227"/>
                  <a:pt x="3535" y="12263"/>
                  <a:pt x="3497" y="12254"/>
                </a:cubicBezTo>
                <a:cubicBezTo>
                  <a:pt x="3398" y="12230"/>
                  <a:pt x="3426" y="12124"/>
                  <a:pt x="3448" y="12055"/>
                </a:cubicBezTo>
                <a:cubicBezTo>
                  <a:pt x="3475" y="11969"/>
                  <a:pt x="3544" y="11974"/>
                  <a:pt x="3597" y="11981"/>
                </a:cubicBezTo>
                <a:cubicBezTo>
                  <a:pt x="3654" y="11989"/>
                  <a:pt x="3720" y="12016"/>
                  <a:pt x="3770" y="12055"/>
                </a:cubicBezTo>
                <a:cubicBezTo>
                  <a:pt x="3824" y="12097"/>
                  <a:pt x="3878" y="12181"/>
                  <a:pt x="3919" y="12229"/>
                </a:cubicBezTo>
                <a:cubicBezTo>
                  <a:pt x="3957" y="12285"/>
                  <a:pt x="3952" y="12310"/>
                  <a:pt x="3994" y="12303"/>
                </a:cubicBezTo>
              </a:path>
              <a:path w="2655" h="1911">
                <a:moveTo>
                  <a:pt x="4242" y="11658"/>
                </a:moveTo>
                <a:cubicBezTo>
                  <a:pt x="4322" y="11598"/>
                  <a:pt x="4388" y="11581"/>
                  <a:pt x="4490" y="11609"/>
                </a:cubicBezTo>
                <a:cubicBezTo>
                  <a:pt x="4607" y="11641"/>
                  <a:pt x="4602" y="11698"/>
                  <a:pt x="4638" y="11807"/>
                </a:cubicBezTo>
                <a:cubicBezTo>
                  <a:pt x="4680" y="11934"/>
                  <a:pt x="4661" y="11990"/>
                  <a:pt x="4614" y="12105"/>
                </a:cubicBezTo>
                <a:cubicBezTo>
                  <a:pt x="4575" y="12201"/>
                  <a:pt x="4553" y="12244"/>
                  <a:pt x="4465" y="12303"/>
                </a:cubicBezTo>
                <a:cubicBezTo>
                  <a:pt x="4413" y="12337"/>
                  <a:pt x="4398" y="12345"/>
                  <a:pt x="4341" y="12353"/>
                </a:cubicBezTo>
                <a:cubicBezTo>
                  <a:pt x="4293" y="12305"/>
                  <a:pt x="4267" y="12254"/>
                  <a:pt x="4291" y="12179"/>
                </a:cubicBezTo>
                <a:cubicBezTo>
                  <a:pt x="4295" y="12165"/>
                  <a:pt x="4377" y="12036"/>
                  <a:pt x="4390" y="12030"/>
                </a:cubicBezTo>
                <a:cubicBezTo>
                  <a:pt x="4407" y="12030"/>
                  <a:pt x="4423" y="12030"/>
                  <a:pt x="4440" y="12030"/>
                </a:cubicBezTo>
                <a:cubicBezTo>
                  <a:pt x="4525" y="12091"/>
                  <a:pt x="4530" y="12158"/>
                  <a:pt x="4564" y="12254"/>
                </a:cubicBezTo>
                <a:cubicBezTo>
                  <a:pt x="4596" y="12343"/>
                  <a:pt x="4624" y="12367"/>
                  <a:pt x="4713" y="12378"/>
                </a:cubicBezTo>
              </a:path>
              <a:path w="2655" h="1911">
                <a:moveTo>
                  <a:pt x="5283" y="12030"/>
                </a:moveTo>
                <a:cubicBezTo>
                  <a:pt x="5184" y="11992"/>
                  <a:pt x="5148" y="12013"/>
                  <a:pt x="5060" y="12080"/>
                </a:cubicBezTo>
                <a:cubicBezTo>
                  <a:pt x="5006" y="12121"/>
                  <a:pt x="4990" y="12182"/>
                  <a:pt x="5011" y="12229"/>
                </a:cubicBezTo>
                <a:cubicBezTo>
                  <a:pt x="5035" y="12281"/>
                  <a:pt x="5059" y="12345"/>
                  <a:pt x="5110" y="12378"/>
                </a:cubicBezTo>
                <a:cubicBezTo>
                  <a:pt x="5169" y="12415"/>
                  <a:pt x="5258" y="12407"/>
                  <a:pt x="5308" y="12353"/>
                </a:cubicBezTo>
                <a:cubicBezTo>
                  <a:pt x="5334" y="12325"/>
                  <a:pt x="5398" y="12218"/>
                  <a:pt x="5407" y="12179"/>
                </a:cubicBezTo>
                <a:cubicBezTo>
                  <a:pt x="5407" y="12129"/>
                  <a:pt x="5407" y="12113"/>
                  <a:pt x="5407" y="12080"/>
                </a:cubicBezTo>
                <a:cubicBezTo>
                  <a:pt x="5380" y="12135"/>
                  <a:pt x="5361" y="12211"/>
                  <a:pt x="5358" y="12278"/>
                </a:cubicBezTo>
                <a:cubicBezTo>
                  <a:pt x="5353" y="12388"/>
                  <a:pt x="5333" y="12488"/>
                  <a:pt x="5333" y="12601"/>
                </a:cubicBezTo>
                <a:cubicBezTo>
                  <a:pt x="5333" y="12727"/>
                  <a:pt x="5364" y="12881"/>
                  <a:pt x="5358" y="12998"/>
                </a:cubicBezTo>
                <a:cubicBezTo>
                  <a:pt x="5353" y="13103"/>
                  <a:pt x="5334" y="13260"/>
                  <a:pt x="5234" y="13320"/>
                </a:cubicBezTo>
                <a:cubicBezTo>
                  <a:pt x="5177" y="13354"/>
                  <a:pt x="5008" y="13300"/>
                  <a:pt x="4961" y="13271"/>
                </a:cubicBezTo>
                <a:cubicBezTo>
                  <a:pt x="4880" y="13222"/>
                  <a:pt x="4765" y="13145"/>
                  <a:pt x="4713" y="1307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Ink 12"/>
          <p:cNvSpPr/>
          <p:nvPr/>
        </p:nvSpPr>
        <p:spPr>
          <a:xfrm>
            <a:off x="2633760" y="5295960"/>
            <a:ext cx="1054080" cy="1106280"/>
          </a:xfrm>
          <a:custGeom>
            <a:avLst/>
            <a:gdLst/>
            <a:ahLst/>
            <a:rect l="l" t="t" r="r" b="b"/>
            <a:pathLst>
              <a:path w="2928" h="3077">
                <a:moveTo>
                  <a:pt x="7317" y="14784"/>
                </a:moveTo>
                <a:cubicBezTo>
                  <a:pt x="7410" y="14817"/>
                  <a:pt x="7468" y="14808"/>
                  <a:pt x="7565" y="14784"/>
                </a:cubicBezTo>
                <a:cubicBezTo>
                  <a:pt x="7598" y="14776"/>
                  <a:pt x="7632" y="14767"/>
                  <a:pt x="7665" y="14759"/>
                </a:cubicBezTo>
              </a:path>
              <a:path w="2928" h="3077">
                <a:moveTo>
                  <a:pt x="7863" y="14709"/>
                </a:moveTo>
                <a:cubicBezTo>
                  <a:pt x="7925" y="14766"/>
                  <a:pt x="8067" y="14842"/>
                  <a:pt x="8086" y="14932"/>
                </a:cubicBezTo>
                <a:cubicBezTo>
                  <a:pt x="8086" y="15007"/>
                  <a:pt x="8086" y="15031"/>
                  <a:pt x="8086" y="15081"/>
                </a:cubicBezTo>
              </a:path>
              <a:path w="2928" h="3077">
                <a:moveTo>
                  <a:pt x="7739" y="15304"/>
                </a:moveTo>
                <a:cubicBezTo>
                  <a:pt x="7714" y="15296"/>
                  <a:pt x="7690" y="15288"/>
                  <a:pt x="7665" y="15280"/>
                </a:cubicBezTo>
                <a:cubicBezTo>
                  <a:pt x="7774" y="15270"/>
                  <a:pt x="7860" y="15238"/>
                  <a:pt x="7962" y="15280"/>
                </a:cubicBezTo>
                <a:cubicBezTo>
                  <a:pt x="8047" y="15315"/>
                  <a:pt x="8083" y="15385"/>
                  <a:pt x="8136" y="15453"/>
                </a:cubicBezTo>
                <a:cubicBezTo>
                  <a:pt x="8183" y="15513"/>
                  <a:pt x="8249" y="15514"/>
                  <a:pt x="8285" y="15478"/>
                </a:cubicBezTo>
              </a:path>
              <a:path w="2928" h="3077">
                <a:moveTo>
                  <a:pt x="7714" y="15900"/>
                </a:moveTo>
                <a:cubicBezTo>
                  <a:pt x="7789" y="15900"/>
                  <a:pt x="7850" y="15906"/>
                  <a:pt x="7913" y="15925"/>
                </a:cubicBezTo>
                <a:cubicBezTo>
                  <a:pt x="7991" y="15948"/>
                  <a:pt x="8088" y="15952"/>
                  <a:pt x="8111" y="16049"/>
                </a:cubicBezTo>
                <a:cubicBezTo>
                  <a:pt x="8128" y="16122"/>
                  <a:pt x="8102" y="16193"/>
                  <a:pt x="8062" y="16247"/>
                </a:cubicBezTo>
                <a:cubicBezTo>
                  <a:pt x="8013" y="16314"/>
                  <a:pt x="7940" y="16366"/>
                  <a:pt x="7863" y="16396"/>
                </a:cubicBezTo>
                <a:cubicBezTo>
                  <a:pt x="7800" y="16421"/>
                  <a:pt x="7753" y="16438"/>
                  <a:pt x="7689" y="16446"/>
                </a:cubicBezTo>
                <a:cubicBezTo>
                  <a:pt x="7633" y="16446"/>
                  <a:pt x="7799" y="16493"/>
                  <a:pt x="7813" y="16495"/>
                </a:cubicBezTo>
                <a:cubicBezTo>
                  <a:pt x="7874" y="16505"/>
                  <a:pt x="7947" y="16534"/>
                  <a:pt x="8012" y="16520"/>
                </a:cubicBezTo>
                <a:cubicBezTo>
                  <a:pt x="8083" y="16496"/>
                  <a:pt x="8106" y="16489"/>
                  <a:pt x="8136" y="16446"/>
                </a:cubicBezTo>
              </a:path>
              <a:path w="2928" h="3077">
                <a:moveTo>
                  <a:pt x="8458" y="15925"/>
                </a:moveTo>
                <a:cubicBezTo>
                  <a:pt x="8564" y="15951"/>
                  <a:pt x="8682" y="15957"/>
                  <a:pt x="8682" y="16098"/>
                </a:cubicBezTo>
                <a:cubicBezTo>
                  <a:pt x="8682" y="16156"/>
                  <a:pt x="8561" y="16164"/>
                  <a:pt x="8533" y="16173"/>
                </a:cubicBezTo>
                <a:cubicBezTo>
                  <a:pt x="8471" y="16193"/>
                  <a:pt x="8445" y="16243"/>
                  <a:pt x="8434" y="16297"/>
                </a:cubicBezTo>
                <a:cubicBezTo>
                  <a:pt x="8422" y="16359"/>
                  <a:pt x="8431" y="16454"/>
                  <a:pt x="8483" y="16495"/>
                </a:cubicBezTo>
                <a:cubicBezTo>
                  <a:pt x="8564" y="16559"/>
                  <a:pt x="8643" y="16518"/>
                  <a:pt x="8706" y="16470"/>
                </a:cubicBezTo>
              </a:path>
              <a:path w="2928" h="3077">
                <a:moveTo>
                  <a:pt x="8954" y="16123"/>
                </a:moveTo>
                <a:cubicBezTo>
                  <a:pt x="9026" y="16144"/>
                  <a:pt x="9083" y="16164"/>
                  <a:pt x="9153" y="16173"/>
                </a:cubicBezTo>
              </a:path>
              <a:path w="2928" h="3077">
                <a:moveTo>
                  <a:pt x="8954" y="16297"/>
                </a:moveTo>
                <a:cubicBezTo>
                  <a:pt x="9042" y="16362"/>
                  <a:pt x="9060" y="16391"/>
                  <a:pt x="9128" y="16346"/>
                </a:cubicBezTo>
              </a:path>
              <a:path w="2928" h="3077">
                <a:moveTo>
                  <a:pt x="9376" y="15974"/>
                </a:moveTo>
                <a:cubicBezTo>
                  <a:pt x="9439" y="15923"/>
                  <a:pt x="9504" y="15863"/>
                  <a:pt x="9599" y="15900"/>
                </a:cubicBezTo>
                <a:cubicBezTo>
                  <a:pt x="9642" y="15917"/>
                  <a:pt x="9689" y="15969"/>
                  <a:pt x="9723" y="15999"/>
                </a:cubicBezTo>
                <a:cubicBezTo>
                  <a:pt x="9681" y="16067"/>
                  <a:pt x="9646" y="16110"/>
                  <a:pt x="9575" y="16148"/>
                </a:cubicBezTo>
                <a:cubicBezTo>
                  <a:pt x="9463" y="16207"/>
                  <a:pt x="9484" y="16186"/>
                  <a:pt x="9451" y="16297"/>
                </a:cubicBezTo>
                <a:cubicBezTo>
                  <a:pt x="9434" y="16355"/>
                  <a:pt x="9424" y="16490"/>
                  <a:pt x="9475" y="16545"/>
                </a:cubicBezTo>
                <a:cubicBezTo>
                  <a:pt x="9516" y="16589"/>
                  <a:pt x="9628" y="16570"/>
                  <a:pt x="9674" y="16570"/>
                </a:cubicBezTo>
              </a:path>
              <a:path w="2928" h="3077">
                <a:moveTo>
                  <a:pt x="10096" y="16197"/>
                </a:moveTo>
                <a:cubicBezTo>
                  <a:pt x="10107" y="16151"/>
                  <a:pt x="10120" y="16069"/>
                  <a:pt x="10046" y="16049"/>
                </a:cubicBezTo>
                <a:cubicBezTo>
                  <a:pt x="9995" y="16035"/>
                  <a:pt x="9950" y="16055"/>
                  <a:pt x="9922" y="16098"/>
                </a:cubicBezTo>
                <a:cubicBezTo>
                  <a:pt x="9882" y="16160"/>
                  <a:pt x="9885" y="16234"/>
                  <a:pt x="9922" y="16297"/>
                </a:cubicBezTo>
                <a:cubicBezTo>
                  <a:pt x="9956" y="16356"/>
                  <a:pt x="9984" y="16351"/>
                  <a:pt x="10021" y="16346"/>
                </a:cubicBezTo>
                <a:cubicBezTo>
                  <a:pt x="10080" y="16338"/>
                  <a:pt x="10155" y="16327"/>
                  <a:pt x="10195" y="16272"/>
                </a:cubicBezTo>
                <a:cubicBezTo>
                  <a:pt x="10221" y="16235"/>
                  <a:pt x="10236" y="16190"/>
                  <a:pt x="10244" y="16148"/>
                </a:cubicBezTo>
                <a:cubicBezTo>
                  <a:pt x="10149" y="16217"/>
                  <a:pt x="10163" y="16288"/>
                  <a:pt x="10120" y="16396"/>
                </a:cubicBezTo>
                <a:cubicBezTo>
                  <a:pt x="10056" y="16558"/>
                  <a:pt x="10047" y="16764"/>
                  <a:pt x="9971" y="16917"/>
                </a:cubicBezTo>
                <a:cubicBezTo>
                  <a:pt x="9939" y="16982"/>
                  <a:pt x="9842" y="17080"/>
                  <a:pt x="9773" y="17066"/>
                </a:cubicBezTo>
                <a:cubicBezTo>
                  <a:pt x="9709" y="17053"/>
                  <a:pt x="9632" y="16857"/>
                  <a:pt x="9624" y="16842"/>
                </a:cubicBezTo>
              </a:path>
              <a:path w="2928" h="3077">
                <a:moveTo>
                  <a:pt x="8136" y="16619"/>
                </a:moveTo>
                <a:cubicBezTo>
                  <a:pt x="8183" y="16829"/>
                  <a:pt x="8186" y="16974"/>
                  <a:pt x="8186" y="17190"/>
                </a:cubicBezTo>
                <a:cubicBezTo>
                  <a:pt x="8186" y="17294"/>
                  <a:pt x="8133" y="17400"/>
                  <a:pt x="8186" y="17487"/>
                </a:cubicBezTo>
              </a:path>
              <a:path w="2928" h="3077">
                <a:moveTo>
                  <a:pt x="8582" y="16768"/>
                </a:moveTo>
                <a:cubicBezTo>
                  <a:pt x="8582" y="16941"/>
                  <a:pt x="8515" y="17359"/>
                  <a:pt x="8607" y="17512"/>
                </a:cubicBezTo>
              </a:path>
              <a:path w="2928" h="3077">
                <a:moveTo>
                  <a:pt x="8930" y="16917"/>
                </a:moveTo>
                <a:cubicBezTo>
                  <a:pt x="9025" y="16946"/>
                  <a:pt x="9061" y="16977"/>
                  <a:pt x="9128" y="17016"/>
                </a:cubicBezTo>
                <a:cubicBezTo>
                  <a:pt x="9136" y="17024"/>
                  <a:pt x="9145" y="17033"/>
                  <a:pt x="9153" y="17041"/>
                </a:cubicBezTo>
              </a:path>
              <a:path w="2928" h="3077">
                <a:moveTo>
                  <a:pt x="8930" y="17115"/>
                </a:moveTo>
                <a:cubicBezTo>
                  <a:pt x="8998" y="17184"/>
                  <a:pt x="9014" y="17206"/>
                  <a:pt x="9079" y="17214"/>
                </a:cubicBezTo>
              </a:path>
              <a:path w="2928" h="3077">
                <a:moveTo>
                  <a:pt x="9575" y="16991"/>
                </a:moveTo>
                <a:cubicBezTo>
                  <a:pt x="9583" y="16966"/>
                  <a:pt x="9591" y="16942"/>
                  <a:pt x="9599" y="16917"/>
                </a:cubicBezTo>
                <a:cubicBezTo>
                  <a:pt x="9527" y="16897"/>
                  <a:pt x="9462" y="16868"/>
                  <a:pt x="9401" y="16917"/>
                </a:cubicBezTo>
                <a:cubicBezTo>
                  <a:pt x="9349" y="16959"/>
                  <a:pt x="9331" y="17052"/>
                  <a:pt x="9351" y="17115"/>
                </a:cubicBezTo>
                <a:cubicBezTo>
                  <a:pt x="9387" y="17230"/>
                  <a:pt x="9449" y="17180"/>
                  <a:pt x="9525" y="17140"/>
                </a:cubicBezTo>
                <a:cubicBezTo>
                  <a:pt x="9577" y="17113"/>
                  <a:pt x="9608" y="17082"/>
                  <a:pt x="9649" y="17041"/>
                </a:cubicBezTo>
                <a:cubicBezTo>
                  <a:pt x="9600" y="17121"/>
                  <a:pt x="9601" y="17241"/>
                  <a:pt x="9575" y="17338"/>
                </a:cubicBezTo>
                <a:cubicBezTo>
                  <a:pt x="9548" y="17439"/>
                  <a:pt x="9517" y="17540"/>
                  <a:pt x="9475" y="17636"/>
                </a:cubicBezTo>
                <a:cubicBezTo>
                  <a:pt x="9439" y="17717"/>
                  <a:pt x="9428" y="17763"/>
                  <a:pt x="9351" y="17785"/>
                </a:cubicBezTo>
                <a:cubicBezTo>
                  <a:pt x="9322" y="17741"/>
                  <a:pt x="9265" y="17665"/>
                  <a:pt x="9252" y="17611"/>
                </a:cubicBezTo>
                <a:cubicBezTo>
                  <a:pt x="9231" y="17524"/>
                  <a:pt x="9229" y="17491"/>
                  <a:pt x="9153" y="1743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68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68" fill="hold"/>
                                        <p:tgtEl>
                                          <p:spTgt spid="6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68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68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r>
              <a:rPr b="0" lang="en-US" sz="5900" spc="-1" strike="noStrike">
                <a:solidFill>
                  <a:srgbClr val="7b9899"/>
                </a:solidFill>
                <a:latin typeface="Georgia"/>
              </a:rPr>
              <a:t>   </a:t>
            </a: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r>
              <a:rPr b="0" lang="en-US" sz="5900" spc="-1" strike="noStrike">
                <a:solidFill>
                  <a:srgbClr val="7b9899"/>
                </a:solidFill>
                <a:latin typeface="Georgia"/>
              </a:rPr>
              <a:t>Homework </a:t>
            </a:r>
            <a:br>
              <a:rPr sz="5900"/>
            </a:br>
            <a:r>
              <a:rPr b="0" lang="en-US" sz="5900" spc="-1" strike="noStrike">
                <a:solidFill>
                  <a:srgbClr val="7b9899"/>
                </a:solidFill>
                <a:latin typeface="Georgia"/>
              </a:rPr>
              <a:t>worksheet P1</a:t>
            </a:r>
            <a:endParaRPr b="0" lang="en-US" sz="59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push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1295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YOU WILL NOT NEED YOUR TEXTBOOK THIS WEEK AS I WILL PROVIDE YOU WITH WORKSHEETS INSTEAD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We begin this course by doing </a:t>
            </a:r>
            <a:r>
              <a:rPr b="0" lang="en-US" sz="4200" spc="-1" strike="noStrike" u="sng">
                <a:solidFill>
                  <a:srgbClr val="d16349"/>
                </a:solidFill>
                <a:uFillTx/>
                <a:latin typeface="Georgia"/>
              </a:rPr>
              <a:t>one</a:t>
            </a: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 lesson from Chapter P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b9899"/>
                </a:solidFill>
                <a:latin typeface="Georgia"/>
              </a:rPr>
              <a:t>Anything in Chapter P is </a:t>
            </a:r>
            <a:r>
              <a:rPr b="0" i="1" lang="en-US" sz="4500" spc="-1" strike="noStrike">
                <a:solidFill>
                  <a:srgbClr val="7b9899"/>
                </a:solidFill>
                <a:latin typeface="Georgia"/>
              </a:rPr>
              <a:t>supposed</a:t>
            </a:r>
            <a:r>
              <a:rPr b="0" lang="en-US" sz="4500" spc="-1" strike="noStrike">
                <a:solidFill>
                  <a:srgbClr val="7b9899"/>
                </a:solidFill>
                <a:latin typeface="Georgia"/>
              </a:rPr>
              <a:t> to be completely review!</a:t>
            </a:r>
            <a:endParaRPr b="0" lang="en-US" sz="45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comb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7b9899"/>
                </a:solidFill>
                <a:latin typeface="Georgia"/>
              </a:rPr>
              <a:t>Lesson P.4</a:t>
            </a:r>
            <a:br>
              <a:rPr sz="6800"/>
            </a:br>
            <a:r>
              <a:rPr b="0" lang="en-US" sz="6800" spc="-1" strike="noStrike">
                <a:solidFill>
                  <a:srgbClr val="7b9899"/>
                </a:solidFill>
                <a:latin typeface="Georgia"/>
              </a:rPr>
              <a:t>part one</a:t>
            </a:r>
            <a:endParaRPr b="0" lang="en-US" sz="6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push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46b86"/>
                </a:solidFill>
                <a:latin typeface="Georgia"/>
              </a:rPr>
              <a:t>AN EQUATION WITH A DEGREE OF ONE (THERE IS ONLY ONE SOLUTION)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Linear Equation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ne Step Equ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x + 8 = 15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3y = 12</a:t>
            </a:r>
            <a:endParaRPr b="0" lang="en-US" sz="5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Ink 4"/>
          <p:cNvSpPr/>
          <p:nvPr/>
        </p:nvSpPr>
        <p:spPr>
          <a:xfrm>
            <a:off x="5759280" y="2428920"/>
            <a:ext cx="438480" cy="473040"/>
          </a:xfrm>
          <a:custGeom>
            <a:avLst/>
            <a:gdLst/>
            <a:ahLst/>
            <a:rect l="l" t="t" r="r" b="b"/>
            <a:pathLst>
              <a:path w="1216" h="1316">
                <a:moveTo>
                  <a:pt x="15999" y="6846"/>
                </a:moveTo>
                <a:cubicBezTo>
                  <a:pt x="16083" y="6838"/>
                  <a:pt x="16135" y="6808"/>
                  <a:pt x="16222" y="6796"/>
                </a:cubicBezTo>
                <a:cubicBezTo>
                  <a:pt x="16295" y="6785"/>
                  <a:pt x="16374" y="6775"/>
                  <a:pt x="16446" y="6772"/>
                </a:cubicBezTo>
                <a:cubicBezTo>
                  <a:pt x="16541" y="6768"/>
                  <a:pt x="16619" y="6747"/>
                  <a:pt x="16718" y="6747"/>
                </a:cubicBezTo>
                <a:cubicBezTo>
                  <a:pt x="16855" y="6747"/>
                  <a:pt x="16993" y="6748"/>
                  <a:pt x="17115" y="6772"/>
                </a:cubicBezTo>
                <a:cubicBezTo>
                  <a:pt x="17179" y="6785"/>
                  <a:pt x="17209" y="6737"/>
                  <a:pt x="17190" y="6796"/>
                </a:cubicBezTo>
              </a:path>
              <a:path w="1216" h="1316">
                <a:moveTo>
                  <a:pt x="16346" y="7119"/>
                </a:moveTo>
                <a:cubicBezTo>
                  <a:pt x="16404" y="7061"/>
                  <a:pt x="16445" y="7064"/>
                  <a:pt x="16520" y="7045"/>
                </a:cubicBezTo>
                <a:cubicBezTo>
                  <a:pt x="16601" y="7025"/>
                  <a:pt x="16659" y="7020"/>
                  <a:pt x="16743" y="7020"/>
                </a:cubicBezTo>
                <a:cubicBezTo>
                  <a:pt x="16743" y="7090"/>
                  <a:pt x="16760" y="7151"/>
                  <a:pt x="16694" y="7193"/>
                </a:cubicBezTo>
                <a:cubicBezTo>
                  <a:pt x="16624" y="7238"/>
                  <a:pt x="16598" y="7283"/>
                  <a:pt x="16545" y="7342"/>
                </a:cubicBezTo>
                <a:cubicBezTo>
                  <a:pt x="16516" y="7374"/>
                  <a:pt x="16497" y="7408"/>
                  <a:pt x="16470" y="7441"/>
                </a:cubicBezTo>
                <a:cubicBezTo>
                  <a:pt x="16510" y="7461"/>
                  <a:pt x="16554" y="7441"/>
                  <a:pt x="16619" y="7441"/>
                </a:cubicBezTo>
                <a:cubicBezTo>
                  <a:pt x="16684" y="7441"/>
                  <a:pt x="16764" y="7439"/>
                  <a:pt x="16818" y="7466"/>
                </a:cubicBezTo>
                <a:cubicBezTo>
                  <a:pt x="16865" y="7490"/>
                  <a:pt x="16932" y="7527"/>
                  <a:pt x="16917" y="7590"/>
                </a:cubicBezTo>
                <a:cubicBezTo>
                  <a:pt x="16898" y="7669"/>
                  <a:pt x="16817" y="7734"/>
                  <a:pt x="16768" y="7789"/>
                </a:cubicBezTo>
                <a:cubicBezTo>
                  <a:pt x="16692" y="7874"/>
                  <a:pt x="16632" y="7910"/>
                  <a:pt x="16545" y="7987"/>
                </a:cubicBezTo>
                <a:cubicBezTo>
                  <a:pt x="16505" y="8022"/>
                  <a:pt x="16441" y="8053"/>
                  <a:pt x="16396" y="8062"/>
                </a:cubicBezTo>
                <a:cubicBezTo>
                  <a:pt x="16346" y="8062"/>
                  <a:pt x="16330" y="8062"/>
                  <a:pt x="16297" y="806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Ink 5"/>
          <p:cNvSpPr/>
          <p:nvPr/>
        </p:nvSpPr>
        <p:spPr>
          <a:xfrm>
            <a:off x="7375680" y="2374920"/>
            <a:ext cx="661680" cy="500040"/>
          </a:xfrm>
          <a:custGeom>
            <a:avLst/>
            <a:gdLst/>
            <a:ahLst/>
            <a:rect l="l" t="t" r="r" b="b"/>
            <a:pathLst>
              <a:path w="1836" h="1390">
                <a:moveTo>
                  <a:pt x="20489" y="6623"/>
                </a:moveTo>
                <a:cubicBezTo>
                  <a:pt x="20602" y="6623"/>
                  <a:pt x="20702" y="6611"/>
                  <a:pt x="20811" y="6598"/>
                </a:cubicBezTo>
                <a:cubicBezTo>
                  <a:pt x="21138" y="6560"/>
                  <a:pt x="21507" y="6587"/>
                  <a:pt x="21828" y="6623"/>
                </a:cubicBezTo>
                <a:cubicBezTo>
                  <a:pt x="21953" y="6637"/>
                  <a:pt x="22221" y="6660"/>
                  <a:pt x="22324" y="6598"/>
                </a:cubicBezTo>
              </a:path>
              <a:path w="1836" h="1390">
                <a:moveTo>
                  <a:pt x="21158" y="7094"/>
                </a:moveTo>
                <a:cubicBezTo>
                  <a:pt x="21208" y="7045"/>
                  <a:pt x="21229" y="7047"/>
                  <a:pt x="21282" y="7020"/>
                </a:cubicBezTo>
                <a:cubicBezTo>
                  <a:pt x="21329" y="6996"/>
                  <a:pt x="21400" y="6979"/>
                  <a:pt x="21456" y="6970"/>
                </a:cubicBezTo>
                <a:cubicBezTo>
                  <a:pt x="21536" y="6957"/>
                  <a:pt x="21614" y="6982"/>
                  <a:pt x="21679" y="6995"/>
                </a:cubicBezTo>
                <a:cubicBezTo>
                  <a:pt x="21737" y="7007"/>
                  <a:pt x="21755" y="7006"/>
                  <a:pt x="21803" y="7045"/>
                </a:cubicBezTo>
                <a:cubicBezTo>
                  <a:pt x="21780" y="7125"/>
                  <a:pt x="21725" y="7138"/>
                  <a:pt x="21654" y="7193"/>
                </a:cubicBezTo>
                <a:cubicBezTo>
                  <a:pt x="21604" y="7231"/>
                  <a:pt x="21553" y="7255"/>
                  <a:pt x="21506" y="7293"/>
                </a:cubicBezTo>
                <a:cubicBezTo>
                  <a:pt x="21468" y="7323"/>
                  <a:pt x="21450" y="7342"/>
                  <a:pt x="21406" y="7367"/>
                </a:cubicBezTo>
                <a:cubicBezTo>
                  <a:pt x="21472" y="7406"/>
                  <a:pt x="21549" y="7392"/>
                  <a:pt x="21630" y="7392"/>
                </a:cubicBezTo>
                <a:cubicBezTo>
                  <a:pt x="21705" y="7392"/>
                  <a:pt x="21760" y="7387"/>
                  <a:pt x="21828" y="7417"/>
                </a:cubicBezTo>
                <a:cubicBezTo>
                  <a:pt x="21930" y="7462"/>
                  <a:pt x="21984" y="7490"/>
                  <a:pt x="22027" y="7565"/>
                </a:cubicBezTo>
                <a:cubicBezTo>
                  <a:pt x="22053" y="7610"/>
                  <a:pt x="22029" y="7677"/>
                  <a:pt x="21977" y="7714"/>
                </a:cubicBezTo>
                <a:cubicBezTo>
                  <a:pt x="21910" y="7762"/>
                  <a:pt x="21831" y="7788"/>
                  <a:pt x="21754" y="7838"/>
                </a:cubicBezTo>
                <a:cubicBezTo>
                  <a:pt x="21690" y="7880"/>
                  <a:pt x="21604" y="7902"/>
                  <a:pt x="21530" y="7913"/>
                </a:cubicBezTo>
                <a:cubicBezTo>
                  <a:pt x="21469" y="7922"/>
                  <a:pt x="21418" y="7935"/>
                  <a:pt x="21357" y="7962"/>
                </a:cubicBezTo>
                <a:cubicBezTo>
                  <a:pt x="21316" y="7982"/>
                  <a:pt x="21310" y="7991"/>
                  <a:pt x="21282" y="798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Ink 6"/>
          <p:cNvSpPr/>
          <p:nvPr/>
        </p:nvSpPr>
        <p:spPr>
          <a:xfrm>
            <a:off x="5840280" y="3017880"/>
            <a:ext cx="893880" cy="546120"/>
          </a:xfrm>
          <a:custGeom>
            <a:avLst/>
            <a:gdLst/>
            <a:ahLst/>
            <a:rect l="l" t="t" r="r" b="b"/>
            <a:pathLst>
              <a:path w="2482" h="1514">
                <a:moveTo>
                  <a:pt x="16520" y="8731"/>
                </a:moveTo>
                <a:cubicBezTo>
                  <a:pt x="16520" y="8794"/>
                  <a:pt x="16516" y="8878"/>
                  <a:pt x="16545" y="8930"/>
                </a:cubicBezTo>
                <a:cubicBezTo>
                  <a:pt x="16574" y="8983"/>
                  <a:pt x="16665" y="9018"/>
                  <a:pt x="16718" y="9029"/>
                </a:cubicBezTo>
                <a:cubicBezTo>
                  <a:pt x="16803" y="9047"/>
                  <a:pt x="16893" y="9021"/>
                  <a:pt x="16966" y="8979"/>
                </a:cubicBezTo>
                <a:cubicBezTo>
                  <a:pt x="17038" y="8937"/>
                  <a:pt x="17120" y="8897"/>
                  <a:pt x="17140" y="8806"/>
                </a:cubicBezTo>
                <a:cubicBezTo>
                  <a:pt x="17155" y="8739"/>
                  <a:pt x="17067" y="8558"/>
                  <a:pt x="17115" y="8607"/>
                </a:cubicBezTo>
                <a:cubicBezTo>
                  <a:pt x="17165" y="8658"/>
                  <a:pt x="17225" y="8748"/>
                  <a:pt x="17264" y="8806"/>
                </a:cubicBezTo>
                <a:cubicBezTo>
                  <a:pt x="17312" y="8878"/>
                  <a:pt x="17369" y="8956"/>
                  <a:pt x="17413" y="9029"/>
                </a:cubicBezTo>
                <a:cubicBezTo>
                  <a:pt x="17481" y="9142"/>
                  <a:pt x="17531" y="9247"/>
                  <a:pt x="17537" y="9376"/>
                </a:cubicBezTo>
                <a:cubicBezTo>
                  <a:pt x="17541" y="9468"/>
                  <a:pt x="17549" y="9565"/>
                  <a:pt x="17512" y="9649"/>
                </a:cubicBezTo>
                <a:cubicBezTo>
                  <a:pt x="17484" y="9711"/>
                  <a:pt x="17394" y="9760"/>
                  <a:pt x="17338" y="9798"/>
                </a:cubicBezTo>
                <a:cubicBezTo>
                  <a:pt x="17254" y="9855"/>
                  <a:pt x="17117" y="9885"/>
                  <a:pt x="17016" y="9897"/>
                </a:cubicBezTo>
                <a:cubicBezTo>
                  <a:pt x="16897" y="9911"/>
                  <a:pt x="16783" y="9885"/>
                  <a:pt x="16669" y="9872"/>
                </a:cubicBezTo>
                <a:cubicBezTo>
                  <a:pt x="16588" y="9863"/>
                  <a:pt x="16495" y="9843"/>
                  <a:pt x="16421" y="9798"/>
                </a:cubicBezTo>
                <a:cubicBezTo>
                  <a:pt x="16367" y="9765"/>
                  <a:pt x="16261" y="9720"/>
                  <a:pt x="16222" y="9674"/>
                </a:cubicBezTo>
                <a:cubicBezTo>
                  <a:pt x="16222" y="9629"/>
                  <a:pt x="16219" y="9616"/>
                  <a:pt x="16247" y="9599"/>
                </a:cubicBezTo>
              </a:path>
              <a:path w="2482" h="1514">
                <a:moveTo>
                  <a:pt x="17909" y="8384"/>
                </a:moveTo>
                <a:cubicBezTo>
                  <a:pt x="18009" y="8434"/>
                  <a:pt x="18076" y="8375"/>
                  <a:pt x="18182" y="8384"/>
                </a:cubicBezTo>
                <a:cubicBezTo>
                  <a:pt x="18250" y="8390"/>
                  <a:pt x="18359" y="8394"/>
                  <a:pt x="18430" y="8409"/>
                </a:cubicBezTo>
                <a:cubicBezTo>
                  <a:pt x="18494" y="8423"/>
                  <a:pt x="18576" y="8428"/>
                  <a:pt x="18628" y="8458"/>
                </a:cubicBezTo>
              </a:path>
              <a:path w="2482" h="1514">
                <a:moveTo>
                  <a:pt x="17810" y="9103"/>
                </a:moveTo>
                <a:cubicBezTo>
                  <a:pt x="17883" y="9095"/>
                  <a:pt x="17966" y="9076"/>
                  <a:pt x="18033" y="9054"/>
                </a:cubicBezTo>
                <a:cubicBezTo>
                  <a:pt x="18118" y="9026"/>
                  <a:pt x="18217" y="9008"/>
                  <a:pt x="18306" y="9004"/>
                </a:cubicBezTo>
                <a:cubicBezTo>
                  <a:pt x="18391" y="9000"/>
                  <a:pt x="18450" y="9026"/>
                  <a:pt x="18529" y="9029"/>
                </a:cubicBezTo>
                <a:cubicBezTo>
                  <a:pt x="18601" y="9032"/>
                  <a:pt x="18645" y="9044"/>
                  <a:pt x="18703" y="90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Ink 7"/>
          <p:cNvSpPr/>
          <p:nvPr/>
        </p:nvSpPr>
        <p:spPr>
          <a:xfrm>
            <a:off x="7027920" y="2857680"/>
            <a:ext cx="438120" cy="758520"/>
          </a:xfrm>
          <a:custGeom>
            <a:avLst/>
            <a:gdLst/>
            <a:ahLst/>
            <a:rect l="l" t="t" r="r" b="b"/>
            <a:pathLst>
              <a:path w="1217" h="2109">
                <a:moveTo>
                  <a:pt x="19769" y="8062"/>
                </a:moveTo>
                <a:cubicBezTo>
                  <a:pt x="19718" y="8010"/>
                  <a:pt x="19683" y="7973"/>
                  <a:pt x="19621" y="7938"/>
                </a:cubicBezTo>
                <a:cubicBezTo>
                  <a:pt x="19621" y="8022"/>
                  <a:pt x="19614" y="8085"/>
                  <a:pt x="19596" y="8161"/>
                </a:cubicBezTo>
                <a:cubicBezTo>
                  <a:pt x="19577" y="8241"/>
                  <a:pt x="19556" y="8331"/>
                  <a:pt x="19546" y="8409"/>
                </a:cubicBezTo>
                <a:cubicBezTo>
                  <a:pt x="19537" y="8484"/>
                  <a:pt x="19533" y="8568"/>
                  <a:pt x="19521" y="8632"/>
                </a:cubicBezTo>
                <a:cubicBezTo>
                  <a:pt x="19507" y="8705"/>
                  <a:pt x="19523" y="8791"/>
                  <a:pt x="19546" y="8855"/>
                </a:cubicBezTo>
                <a:cubicBezTo>
                  <a:pt x="19572" y="8928"/>
                  <a:pt x="19593" y="8975"/>
                  <a:pt x="19670" y="8979"/>
                </a:cubicBezTo>
                <a:cubicBezTo>
                  <a:pt x="19745" y="8982"/>
                  <a:pt x="19848" y="8941"/>
                  <a:pt x="19918" y="8905"/>
                </a:cubicBezTo>
                <a:cubicBezTo>
                  <a:pt x="19995" y="8865"/>
                  <a:pt x="20053" y="8833"/>
                  <a:pt x="20141" y="8830"/>
                </a:cubicBezTo>
                <a:cubicBezTo>
                  <a:pt x="20294" y="8825"/>
                  <a:pt x="20264" y="8851"/>
                  <a:pt x="20365" y="8880"/>
                </a:cubicBezTo>
                <a:cubicBezTo>
                  <a:pt x="20409" y="8880"/>
                  <a:pt x="20423" y="8877"/>
                  <a:pt x="20439" y="8905"/>
                </a:cubicBezTo>
              </a:path>
              <a:path w="1217" h="2109">
                <a:moveTo>
                  <a:pt x="20538" y="8037"/>
                </a:moveTo>
                <a:cubicBezTo>
                  <a:pt x="20538" y="8385"/>
                  <a:pt x="20533" y="8735"/>
                  <a:pt x="20563" y="9079"/>
                </a:cubicBezTo>
                <a:cubicBezTo>
                  <a:pt x="20572" y="9185"/>
                  <a:pt x="20579" y="9302"/>
                  <a:pt x="20588" y="9401"/>
                </a:cubicBezTo>
                <a:cubicBezTo>
                  <a:pt x="20599" y="9528"/>
                  <a:pt x="20589" y="9602"/>
                  <a:pt x="20638" y="9723"/>
                </a:cubicBezTo>
                <a:cubicBezTo>
                  <a:pt x="20669" y="9800"/>
                  <a:pt x="20678" y="9899"/>
                  <a:pt x="20712" y="9971"/>
                </a:cubicBezTo>
                <a:cubicBezTo>
                  <a:pt x="20740" y="9999"/>
                  <a:pt x="20749" y="10013"/>
                  <a:pt x="20737" y="100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Ink 8"/>
          <p:cNvSpPr/>
          <p:nvPr/>
        </p:nvSpPr>
        <p:spPr>
          <a:xfrm>
            <a:off x="6010200" y="3911760"/>
            <a:ext cx="1177920" cy="776160"/>
          </a:xfrm>
          <a:custGeom>
            <a:avLst/>
            <a:gdLst/>
            <a:ahLst/>
            <a:rect l="l" t="t" r="r" b="b"/>
            <a:pathLst>
              <a:path w="3275" h="2159">
                <a:moveTo>
                  <a:pt x="16694" y="11212"/>
                </a:moveTo>
                <a:cubicBezTo>
                  <a:pt x="16785" y="11247"/>
                  <a:pt x="16848" y="11237"/>
                  <a:pt x="16942" y="11212"/>
                </a:cubicBezTo>
                <a:cubicBezTo>
                  <a:pt x="17032" y="11188"/>
                  <a:pt x="17122" y="11148"/>
                  <a:pt x="17214" y="11137"/>
                </a:cubicBezTo>
                <a:cubicBezTo>
                  <a:pt x="17295" y="11128"/>
                  <a:pt x="17384" y="11110"/>
                  <a:pt x="17462" y="11088"/>
                </a:cubicBezTo>
                <a:cubicBezTo>
                  <a:pt x="17545" y="11064"/>
                  <a:pt x="17631" y="11015"/>
                  <a:pt x="17711" y="10988"/>
                </a:cubicBezTo>
                <a:cubicBezTo>
                  <a:pt x="17703" y="10988"/>
                  <a:pt x="17694" y="10988"/>
                  <a:pt x="17686" y="10988"/>
                </a:cubicBezTo>
              </a:path>
              <a:path w="3275" h="2159">
                <a:moveTo>
                  <a:pt x="17140" y="11137"/>
                </a:moveTo>
                <a:cubicBezTo>
                  <a:pt x="17080" y="11197"/>
                  <a:pt x="17090" y="11223"/>
                  <a:pt x="17090" y="11311"/>
                </a:cubicBezTo>
                <a:cubicBezTo>
                  <a:pt x="17090" y="11440"/>
                  <a:pt x="17100" y="11556"/>
                  <a:pt x="17115" y="11683"/>
                </a:cubicBezTo>
                <a:cubicBezTo>
                  <a:pt x="17143" y="11912"/>
                  <a:pt x="17096" y="12163"/>
                  <a:pt x="17140" y="12378"/>
                </a:cubicBezTo>
                <a:cubicBezTo>
                  <a:pt x="17140" y="12427"/>
                  <a:pt x="17140" y="12444"/>
                  <a:pt x="17140" y="12477"/>
                </a:cubicBezTo>
              </a:path>
              <a:path w="3275" h="2159">
                <a:moveTo>
                  <a:pt x="17686" y="11881"/>
                </a:moveTo>
                <a:cubicBezTo>
                  <a:pt x="17630" y="11861"/>
                  <a:pt x="17547" y="11821"/>
                  <a:pt x="17487" y="11832"/>
                </a:cubicBezTo>
                <a:cubicBezTo>
                  <a:pt x="17436" y="11841"/>
                  <a:pt x="17340" y="11850"/>
                  <a:pt x="17314" y="11906"/>
                </a:cubicBezTo>
                <a:cubicBezTo>
                  <a:pt x="17291" y="11956"/>
                  <a:pt x="17253" y="12076"/>
                  <a:pt x="17264" y="12129"/>
                </a:cubicBezTo>
                <a:cubicBezTo>
                  <a:pt x="17279" y="12203"/>
                  <a:pt x="17318" y="12251"/>
                  <a:pt x="17388" y="12254"/>
                </a:cubicBezTo>
                <a:cubicBezTo>
                  <a:pt x="17475" y="12258"/>
                  <a:pt x="17482" y="12234"/>
                  <a:pt x="17537" y="12179"/>
                </a:cubicBezTo>
                <a:cubicBezTo>
                  <a:pt x="17588" y="12128"/>
                  <a:pt x="17632" y="12103"/>
                  <a:pt x="17636" y="12030"/>
                </a:cubicBezTo>
                <a:cubicBezTo>
                  <a:pt x="17637" y="12008"/>
                  <a:pt x="17598" y="11879"/>
                  <a:pt x="17611" y="11956"/>
                </a:cubicBezTo>
                <a:cubicBezTo>
                  <a:pt x="17623" y="12029"/>
                  <a:pt x="17670" y="12062"/>
                  <a:pt x="17686" y="12129"/>
                </a:cubicBezTo>
                <a:cubicBezTo>
                  <a:pt x="17704" y="12204"/>
                  <a:pt x="17708" y="12287"/>
                  <a:pt x="17760" y="12353"/>
                </a:cubicBezTo>
                <a:cubicBezTo>
                  <a:pt x="17807" y="12412"/>
                  <a:pt x="17813" y="12426"/>
                  <a:pt x="17859" y="12402"/>
                </a:cubicBezTo>
              </a:path>
              <a:path w="3275" h="2159">
                <a:moveTo>
                  <a:pt x="17884" y="11906"/>
                </a:moveTo>
                <a:cubicBezTo>
                  <a:pt x="17891" y="11992"/>
                  <a:pt x="17898" y="12083"/>
                  <a:pt x="17934" y="12154"/>
                </a:cubicBezTo>
                <a:cubicBezTo>
                  <a:pt x="17967" y="12221"/>
                  <a:pt x="17984" y="12250"/>
                  <a:pt x="18058" y="12254"/>
                </a:cubicBezTo>
                <a:cubicBezTo>
                  <a:pt x="18148" y="12259"/>
                  <a:pt x="18188" y="12225"/>
                  <a:pt x="18231" y="12154"/>
                </a:cubicBezTo>
                <a:cubicBezTo>
                  <a:pt x="18276" y="12079"/>
                  <a:pt x="18257" y="12008"/>
                  <a:pt x="18231" y="11931"/>
                </a:cubicBezTo>
                <a:cubicBezTo>
                  <a:pt x="18231" y="12011"/>
                  <a:pt x="18237" y="12080"/>
                  <a:pt x="18256" y="12154"/>
                </a:cubicBezTo>
                <a:cubicBezTo>
                  <a:pt x="18276" y="12230"/>
                  <a:pt x="18286" y="12334"/>
                  <a:pt x="18331" y="12402"/>
                </a:cubicBezTo>
                <a:cubicBezTo>
                  <a:pt x="18381" y="12478"/>
                  <a:pt x="18415" y="12541"/>
                  <a:pt x="18455" y="12626"/>
                </a:cubicBezTo>
                <a:cubicBezTo>
                  <a:pt x="18497" y="12716"/>
                  <a:pt x="18545" y="12775"/>
                  <a:pt x="18554" y="12874"/>
                </a:cubicBezTo>
                <a:cubicBezTo>
                  <a:pt x="18560" y="12944"/>
                  <a:pt x="18495" y="12983"/>
                  <a:pt x="18430" y="12998"/>
                </a:cubicBezTo>
                <a:cubicBezTo>
                  <a:pt x="18345" y="13017"/>
                  <a:pt x="18273" y="13022"/>
                  <a:pt x="18182" y="13022"/>
                </a:cubicBezTo>
                <a:cubicBezTo>
                  <a:pt x="18084" y="13022"/>
                  <a:pt x="17951" y="13031"/>
                  <a:pt x="17859" y="12998"/>
                </a:cubicBezTo>
                <a:cubicBezTo>
                  <a:pt x="17805" y="12979"/>
                  <a:pt x="17732" y="12961"/>
                  <a:pt x="17735" y="12874"/>
                </a:cubicBezTo>
                <a:cubicBezTo>
                  <a:pt x="17739" y="12784"/>
                  <a:pt x="17814" y="12717"/>
                  <a:pt x="17859" y="12650"/>
                </a:cubicBezTo>
                <a:cubicBezTo>
                  <a:pt x="17926" y="12550"/>
                  <a:pt x="17999" y="12482"/>
                  <a:pt x="18107" y="12427"/>
                </a:cubicBezTo>
                <a:cubicBezTo>
                  <a:pt x="18236" y="12361"/>
                  <a:pt x="18320" y="12285"/>
                  <a:pt x="18455" y="12229"/>
                </a:cubicBezTo>
                <a:cubicBezTo>
                  <a:pt x="18528" y="12199"/>
                  <a:pt x="18612" y="12174"/>
                  <a:pt x="18678" y="12129"/>
                </a:cubicBezTo>
                <a:cubicBezTo>
                  <a:pt x="18726" y="12096"/>
                  <a:pt x="18776" y="12096"/>
                  <a:pt x="18827" y="12055"/>
                </a:cubicBezTo>
              </a:path>
              <a:path w="3275" h="2159">
                <a:moveTo>
                  <a:pt x="19000" y="10864"/>
                </a:moveTo>
                <a:cubicBezTo>
                  <a:pt x="18963" y="10968"/>
                  <a:pt x="18976" y="11074"/>
                  <a:pt x="18976" y="11187"/>
                </a:cubicBezTo>
                <a:cubicBezTo>
                  <a:pt x="18976" y="11296"/>
                  <a:pt x="19000" y="11398"/>
                  <a:pt x="19000" y="11509"/>
                </a:cubicBezTo>
                <a:cubicBezTo>
                  <a:pt x="19000" y="11689"/>
                  <a:pt x="18933" y="12051"/>
                  <a:pt x="19025" y="12204"/>
                </a:cubicBezTo>
              </a:path>
              <a:path w="3275" h="2159">
                <a:moveTo>
                  <a:pt x="19248" y="11881"/>
                </a:moveTo>
                <a:cubicBezTo>
                  <a:pt x="19197" y="11830"/>
                  <a:pt x="19165" y="11810"/>
                  <a:pt x="19100" y="11857"/>
                </a:cubicBezTo>
                <a:cubicBezTo>
                  <a:pt x="19043" y="11898"/>
                  <a:pt x="19032" y="11963"/>
                  <a:pt x="19050" y="12030"/>
                </a:cubicBezTo>
                <a:cubicBezTo>
                  <a:pt x="19063" y="12081"/>
                  <a:pt x="19122" y="12142"/>
                  <a:pt x="19174" y="12154"/>
                </a:cubicBezTo>
                <a:cubicBezTo>
                  <a:pt x="19256" y="12173"/>
                  <a:pt x="19307" y="12105"/>
                  <a:pt x="19348" y="12055"/>
                </a:cubicBezTo>
                <a:cubicBezTo>
                  <a:pt x="19378" y="12019"/>
                  <a:pt x="19377" y="11933"/>
                  <a:pt x="19323" y="11906"/>
                </a:cubicBezTo>
                <a:cubicBezTo>
                  <a:pt x="19278" y="11906"/>
                  <a:pt x="19265" y="11909"/>
                  <a:pt x="19248" y="11881"/>
                </a:cubicBezTo>
              </a:path>
              <a:path w="3275" h="2159">
                <a:moveTo>
                  <a:pt x="19447" y="11708"/>
                </a:moveTo>
                <a:cubicBezTo>
                  <a:pt x="19447" y="11852"/>
                  <a:pt x="19446" y="12001"/>
                  <a:pt x="19472" y="12129"/>
                </a:cubicBezTo>
                <a:cubicBezTo>
                  <a:pt x="19472" y="12146"/>
                  <a:pt x="19472" y="12162"/>
                  <a:pt x="19472" y="12179"/>
                </a:cubicBezTo>
                <a:cubicBezTo>
                  <a:pt x="19438" y="12111"/>
                  <a:pt x="19426" y="12014"/>
                  <a:pt x="19422" y="11931"/>
                </a:cubicBezTo>
                <a:cubicBezTo>
                  <a:pt x="19419" y="11870"/>
                  <a:pt x="19373" y="11796"/>
                  <a:pt x="19397" y="11733"/>
                </a:cubicBezTo>
                <a:cubicBezTo>
                  <a:pt x="19417" y="11680"/>
                  <a:pt x="19414" y="11613"/>
                  <a:pt x="19447" y="11559"/>
                </a:cubicBezTo>
                <a:cubicBezTo>
                  <a:pt x="19518" y="11445"/>
                  <a:pt x="19642" y="11451"/>
                  <a:pt x="19745" y="11460"/>
                </a:cubicBezTo>
                <a:cubicBezTo>
                  <a:pt x="19803" y="11465"/>
                  <a:pt x="19889" y="11503"/>
                  <a:pt x="19943" y="11534"/>
                </a:cubicBezTo>
                <a:cubicBezTo>
                  <a:pt x="19951" y="11542"/>
                  <a:pt x="19960" y="11551"/>
                  <a:pt x="19968" y="1155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Ink 9"/>
          <p:cNvSpPr/>
          <p:nvPr/>
        </p:nvSpPr>
        <p:spPr>
          <a:xfrm>
            <a:off x="7616880" y="3544920"/>
            <a:ext cx="536400" cy="1063440"/>
          </a:xfrm>
          <a:custGeom>
            <a:avLst/>
            <a:gdLst/>
            <a:ahLst/>
            <a:rect l="l" t="t" r="r" b="b"/>
            <a:pathLst>
              <a:path w="1490" h="2953">
                <a:moveTo>
                  <a:pt x="21307" y="10864"/>
                </a:moveTo>
                <a:cubicBezTo>
                  <a:pt x="21373" y="10733"/>
                  <a:pt x="21372" y="10732"/>
                  <a:pt x="21456" y="10641"/>
                </a:cubicBezTo>
                <a:cubicBezTo>
                  <a:pt x="21423" y="10779"/>
                  <a:pt x="21367" y="10901"/>
                  <a:pt x="21332" y="11038"/>
                </a:cubicBezTo>
                <a:cubicBezTo>
                  <a:pt x="21287" y="11212"/>
                  <a:pt x="21288" y="11385"/>
                  <a:pt x="21233" y="11559"/>
                </a:cubicBezTo>
                <a:cubicBezTo>
                  <a:pt x="21181" y="11724"/>
                  <a:pt x="21163" y="11880"/>
                  <a:pt x="21158" y="12055"/>
                </a:cubicBezTo>
                <a:cubicBezTo>
                  <a:pt x="21155" y="12159"/>
                  <a:pt x="21160" y="12199"/>
                  <a:pt x="21208" y="12278"/>
                </a:cubicBezTo>
                <a:cubicBezTo>
                  <a:pt x="21277" y="12209"/>
                  <a:pt x="21292" y="12203"/>
                  <a:pt x="21332" y="12105"/>
                </a:cubicBezTo>
                <a:cubicBezTo>
                  <a:pt x="21386" y="11973"/>
                  <a:pt x="21431" y="11840"/>
                  <a:pt x="21481" y="11708"/>
                </a:cubicBezTo>
                <a:cubicBezTo>
                  <a:pt x="21559" y="11502"/>
                  <a:pt x="21658" y="11285"/>
                  <a:pt x="21754" y="11088"/>
                </a:cubicBezTo>
                <a:cubicBezTo>
                  <a:pt x="21794" y="11007"/>
                  <a:pt x="21853" y="10917"/>
                  <a:pt x="21903" y="10840"/>
                </a:cubicBezTo>
                <a:cubicBezTo>
                  <a:pt x="21911" y="10832"/>
                  <a:pt x="21919" y="10823"/>
                  <a:pt x="21927" y="10815"/>
                </a:cubicBezTo>
                <a:cubicBezTo>
                  <a:pt x="21973" y="10953"/>
                  <a:pt x="21991" y="10848"/>
                  <a:pt x="21952" y="11088"/>
                </a:cubicBezTo>
                <a:cubicBezTo>
                  <a:pt x="21926" y="11249"/>
                  <a:pt x="21889" y="11420"/>
                  <a:pt x="21878" y="11584"/>
                </a:cubicBezTo>
                <a:cubicBezTo>
                  <a:pt x="21856" y="11899"/>
                  <a:pt x="21803" y="12209"/>
                  <a:pt x="21803" y="12526"/>
                </a:cubicBezTo>
                <a:cubicBezTo>
                  <a:pt x="21803" y="12653"/>
                  <a:pt x="21834" y="12688"/>
                  <a:pt x="21878" y="12799"/>
                </a:cubicBezTo>
                <a:cubicBezTo>
                  <a:pt x="21910" y="12696"/>
                  <a:pt x="21957" y="12605"/>
                  <a:pt x="22002" y="12502"/>
                </a:cubicBezTo>
                <a:cubicBezTo>
                  <a:pt x="22082" y="12319"/>
                  <a:pt x="22140" y="12098"/>
                  <a:pt x="22200" y="11906"/>
                </a:cubicBezTo>
                <a:cubicBezTo>
                  <a:pt x="22287" y="11629"/>
                  <a:pt x="22394" y="11293"/>
                  <a:pt x="22448" y="11013"/>
                </a:cubicBezTo>
                <a:cubicBezTo>
                  <a:pt x="22522" y="10629"/>
                  <a:pt x="22575" y="10234"/>
                  <a:pt x="22647" y="984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Ink 10"/>
          <p:cNvSpPr/>
          <p:nvPr/>
        </p:nvSpPr>
        <p:spPr>
          <a:xfrm>
            <a:off x="1438200" y="2544840"/>
            <a:ext cx="177840" cy="27000"/>
          </a:xfrm>
          <a:custGeom>
            <a:avLst/>
            <a:gdLst/>
            <a:ahLst/>
            <a:rect l="l" t="t" r="r" b="b"/>
            <a:pathLst>
              <a:path w="497" h="76">
                <a:moveTo>
                  <a:pt x="3994" y="7069"/>
                </a:moveTo>
                <a:cubicBezTo>
                  <a:pt x="4062" y="7078"/>
                  <a:pt x="4127" y="7112"/>
                  <a:pt x="4192" y="7119"/>
                </a:cubicBezTo>
                <a:cubicBezTo>
                  <a:pt x="4291" y="7130"/>
                  <a:pt x="4368" y="7126"/>
                  <a:pt x="4465" y="7144"/>
                </a:cubicBezTo>
                <a:cubicBezTo>
                  <a:pt x="4473" y="7144"/>
                  <a:pt x="4482" y="7144"/>
                  <a:pt x="4490" y="714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Ink 11"/>
          <p:cNvSpPr/>
          <p:nvPr/>
        </p:nvSpPr>
        <p:spPr>
          <a:xfrm>
            <a:off x="1652760" y="2438280"/>
            <a:ext cx="196560" cy="330480"/>
          </a:xfrm>
          <a:custGeom>
            <a:avLst/>
            <a:gdLst/>
            <a:ahLst/>
            <a:rect l="l" t="t" r="r" b="b"/>
            <a:pathLst>
              <a:path w="547" h="918">
                <a:moveTo>
                  <a:pt x="5110" y="6846"/>
                </a:moveTo>
                <a:cubicBezTo>
                  <a:pt x="5075" y="6811"/>
                  <a:pt x="5012" y="6767"/>
                  <a:pt x="4961" y="6772"/>
                </a:cubicBezTo>
                <a:cubicBezTo>
                  <a:pt x="4880" y="6781"/>
                  <a:pt x="4789" y="6810"/>
                  <a:pt x="4713" y="6846"/>
                </a:cubicBezTo>
                <a:cubicBezTo>
                  <a:pt x="4602" y="6899"/>
                  <a:pt x="4595" y="6892"/>
                  <a:pt x="4589" y="7020"/>
                </a:cubicBezTo>
                <a:cubicBezTo>
                  <a:pt x="4586" y="7083"/>
                  <a:pt x="4685" y="7151"/>
                  <a:pt x="4738" y="7193"/>
                </a:cubicBezTo>
                <a:cubicBezTo>
                  <a:pt x="4827" y="7263"/>
                  <a:pt x="4925" y="7319"/>
                  <a:pt x="5011" y="7392"/>
                </a:cubicBezTo>
                <a:cubicBezTo>
                  <a:pt x="5091" y="7461"/>
                  <a:pt x="5110" y="7460"/>
                  <a:pt x="5110" y="7565"/>
                </a:cubicBezTo>
                <a:cubicBezTo>
                  <a:pt x="5110" y="7662"/>
                  <a:pt x="5059" y="7641"/>
                  <a:pt x="4986" y="7665"/>
                </a:cubicBezTo>
                <a:cubicBezTo>
                  <a:pt x="4889" y="7696"/>
                  <a:pt x="4833" y="7688"/>
                  <a:pt x="4738" y="7640"/>
                </a:cubicBezTo>
                <a:cubicBezTo>
                  <a:pt x="4667" y="7604"/>
                  <a:pt x="4669" y="7512"/>
                  <a:pt x="4713" y="7441"/>
                </a:cubicBezTo>
                <a:cubicBezTo>
                  <a:pt x="4771" y="7347"/>
                  <a:pt x="4868" y="7300"/>
                  <a:pt x="4936" y="7218"/>
                </a:cubicBezTo>
                <a:cubicBezTo>
                  <a:pt x="4984" y="7160"/>
                  <a:pt x="5089" y="7096"/>
                  <a:pt x="5110" y="7020"/>
                </a:cubicBezTo>
                <a:cubicBezTo>
                  <a:pt x="5132" y="6943"/>
                  <a:pt x="5126" y="6939"/>
                  <a:pt x="5085" y="6871"/>
                </a:cubicBezTo>
                <a:cubicBezTo>
                  <a:pt x="5046" y="6806"/>
                  <a:pt x="4985" y="6775"/>
                  <a:pt x="4911" y="6772"/>
                </a:cubicBezTo>
                <a:cubicBezTo>
                  <a:pt x="4886" y="6772"/>
                  <a:pt x="4862" y="6772"/>
                  <a:pt x="4837" y="677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Ink 12"/>
          <p:cNvSpPr/>
          <p:nvPr/>
        </p:nvSpPr>
        <p:spPr>
          <a:xfrm>
            <a:off x="2625840" y="2608200"/>
            <a:ext cx="303120" cy="17640"/>
          </a:xfrm>
          <a:custGeom>
            <a:avLst/>
            <a:gdLst/>
            <a:ahLst/>
            <a:rect l="l" t="t" r="r" b="b"/>
            <a:pathLst>
              <a:path w="844" h="51">
                <a:moveTo>
                  <a:pt x="7293" y="7268"/>
                </a:moveTo>
                <a:cubicBezTo>
                  <a:pt x="7435" y="7282"/>
                  <a:pt x="7519" y="7280"/>
                  <a:pt x="7665" y="7268"/>
                </a:cubicBezTo>
                <a:cubicBezTo>
                  <a:pt x="7792" y="7257"/>
                  <a:pt x="7913" y="7261"/>
                  <a:pt x="8037" y="7243"/>
                </a:cubicBezTo>
                <a:cubicBezTo>
                  <a:pt x="8086" y="7243"/>
                  <a:pt x="8103" y="7243"/>
                  <a:pt x="8136" y="724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Ink 13"/>
          <p:cNvSpPr/>
          <p:nvPr/>
        </p:nvSpPr>
        <p:spPr>
          <a:xfrm>
            <a:off x="2884320" y="2527200"/>
            <a:ext cx="285840" cy="268560"/>
          </a:xfrm>
          <a:custGeom>
            <a:avLst/>
            <a:gdLst/>
            <a:ahLst/>
            <a:rect l="l" t="t" r="r" b="b"/>
            <a:pathLst>
              <a:path w="795" h="745">
                <a:moveTo>
                  <a:pt x="8508" y="7144"/>
                </a:moveTo>
                <a:cubicBezTo>
                  <a:pt x="8651" y="7090"/>
                  <a:pt x="8758" y="7107"/>
                  <a:pt x="8682" y="7045"/>
                </a:cubicBezTo>
                <a:cubicBezTo>
                  <a:pt x="8622" y="7015"/>
                  <a:pt x="8532" y="7007"/>
                  <a:pt x="8458" y="7020"/>
                </a:cubicBezTo>
                <a:cubicBezTo>
                  <a:pt x="8366" y="7036"/>
                  <a:pt x="8292" y="7078"/>
                  <a:pt x="8210" y="7119"/>
                </a:cubicBezTo>
                <a:cubicBezTo>
                  <a:pt x="8134" y="7158"/>
                  <a:pt x="8101" y="7241"/>
                  <a:pt x="8161" y="7317"/>
                </a:cubicBezTo>
                <a:cubicBezTo>
                  <a:pt x="8229" y="7403"/>
                  <a:pt x="8320" y="7476"/>
                  <a:pt x="8384" y="7565"/>
                </a:cubicBezTo>
                <a:cubicBezTo>
                  <a:pt x="8406" y="7609"/>
                  <a:pt x="8409" y="7621"/>
                  <a:pt x="8434" y="7640"/>
                </a:cubicBezTo>
                <a:cubicBezTo>
                  <a:pt x="8388" y="7686"/>
                  <a:pt x="8343" y="7710"/>
                  <a:pt x="8285" y="7739"/>
                </a:cubicBezTo>
                <a:cubicBezTo>
                  <a:pt x="8186" y="7789"/>
                  <a:pt x="8118" y="7749"/>
                  <a:pt x="8037" y="7689"/>
                </a:cubicBezTo>
                <a:cubicBezTo>
                  <a:pt x="8029" y="7681"/>
                  <a:pt x="8020" y="7673"/>
                  <a:pt x="8012" y="7665"/>
                </a:cubicBezTo>
                <a:cubicBezTo>
                  <a:pt x="8104" y="7572"/>
                  <a:pt x="8117" y="7533"/>
                  <a:pt x="8235" y="7491"/>
                </a:cubicBezTo>
                <a:cubicBezTo>
                  <a:pt x="8347" y="7451"/>
                  <a:pt x="8448" y="7382"/>
                  <a:pt x="8558" y="7342"/>
                </a:cubicBezTo>
                <a:cubicBezTo>
                  <a:pt x="8630" y="7316"/>
                  <a:pt x="8727" y="7280"/>
                  <a:pt x="8781" y="7218"/>
                </a:cubicBezTo>
                <a:cubicBezTo>
                  <a:pt x="8789" y="7202"/>
                  <a:pt x="8798" y="7185"/>
                  <a:pt x="8806" y="7169"/>
                </a:cubicBezTo>
                <a:cubicBezTo>
                  <a:pt x="8762" y="7108"/>
                  <a:pt x="8711" y="7078"/>
                  <a:pt x="8632" y="7069"/>
                </a:cubicBezTo>
                <a:cubicBezTo>
                  <a:pt x="8518" y="7057"/>
                  <a:pt x="8399" y="7069"/>
                  <a:pt x="8285" y="706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Ink 14"/>
          <p:cNvSpPr/>
          <p:nvPr/>
        </p:nvSpPr>
        <p:spPr>
          <a:xfrm>
            <a:off x="1724040" y="3232080"/>
            <a:ext cx="169920" cy="322200"/>
          </a:xfrm>
          <a:custGeom>
            <a:avLst/>
            <a:gdLst/>
            <a:ahLst/>
            <a:rect l="l" t="t" r="r" b="b"/>
            <a:pathLst>
              <a:path w="473" h="894">
                <a:moveTo>
                  <a:pt x="4787" y="8979"/>
                </a:moveTo>
                <a:cubicBezTo>
                  <a:pt x="4876" y="9103"/>
                  <a:pt x="4912" y="9217"/>
                  <a:pt x="4986" y="9351"/>
                </a:cubicBezTo>
                <a:cubicBezTo>
                  <a:pt x="5036" y="9441"/>
                  <a:pt x="5093" y="9547"/>
                  <a:pt x="5110" y="9649"/>
                </a:cubicBezTo>
                <a:cubicBezTo>
                  <a:pt x="5118" y="9697"/>
                  <a:pt x="5111" y="9853"/>
                  <a:pt x="5184" y="9872"/>
                </a:cubicBezTo>
                <a:cubicBezTo>
                  <a:pt x="5209" y="9872"/>
                  <a:pt x="5234" y="9872"/>
                  <a:pt x="5259" y="987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Ink 15"/>
          <p:cNvSpPr/>
          <p:nvPr/>
        </p:nvSpPr>
        <p:spPr>
          <a:xfrm>
            <a:off x="1633680" y="3268800"/>
            <a:ext cx="322200" cy="258480"/>
          </a:xfrm>
          <a:custGeom>
            <a:avLst/>
            <a:gdLst/>
            <a:ahLst/>
            <a:rect l="l" t="t" r="r" b="b"/>
            <a:pathLst>
              <a:path w="894" h="720">
                <a:moveTo>
                  <a:pt x="5432" y="9079"/>
                </a:moveTo>
                <a:cubicBezTo>
                  <a:pt x="5260" y="9138"/>
                  <a:pt x="5221" y="9174"/>
                  <a:pt x="5085" y="9277"/>
                </a:cubicBezTo>
                <a:cubicBezTo>
                  <a:pt x="4958" y="9373"/>
                  <a:pt x="4851" y="9486"/>
                  <a:pt x="4738" y="9599"/>
                </a:cubicBezTo>
                <a:cubicBezTo>
                  <a:pt x="4683" y="9654"/>
                  <a:pt x="4578" y="9772"/>
                  <a:pt x="4539" y="979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Ink 16"/>
          <p:cNvSpPr/>
          <p:nvPr/>
        </p:nvSpPr>
        <p:spPr>
          <a:xfrm>
            <a:off x="2062080" y="3367080"/>
            <a:ext cx="169920" cy="17640"/>
          </a:xfrm>
          <a:custGeom>
            <a:avLst/>
            <a:gdLst/>
            <a:ahLst/>
            <a:rect l="l" t="t" r="r" b="b"/>
            <a:pathLst>
              <a:path w="472" h="51">
                <a:moveTo>
                  <a:pt x="5730" y="9401"/>
                </a:moveTo>
                <a:cubicBezTo>
                  <a:pt x="5846" y="9401"/>
                  <a:pt x="5937" y="9387"/>
                  <a:pt x="6052" y="9376"/>
                </a:cubicBezTo>
                <a:cubicBezTo>
                  <a:pt x="6112" y="9370"/>
                  <a:pt x="6146" y="9362"/>
                  <a:pt x="6201" y="935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Ink 17"/>
          <p:cNvSpPr/>
          <p:nvPr/>
        </p:nvSpPr>
        <p:spPr>
          <a:xfrm>
            <a:off x="2044800" y="3463920"/>
            <a:ext cx="206280" cy="9360"/>
          </a:xfrm>
          <a:custGeom>
            <a:avLst/>
            <a:gdLst/>
            <a:ahLst/>
            <a:rect l="l" t="t" r="r" b="b"/>
            <a:pathLst>
              <a:path w="572" h="26">
                <a:moveTo>
                  <a:pt x="5680" y="9624"/>
                </a:moveTo>
                <a:cubicBezTo>
                  <a:pt x="5830" y="9654"/>
                  <a:pt x="5973" y="9649"/>
                  <a:pt x="6127" y="9649"/>
                </a:cubicBezTo>
                <a:cubicBezTo>
                  <a:pt x="6168" y="9649"/>
                  <a:pt x="6210" y="9649"/>
                  <a:pt x="6251" y="964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Ink 18"/>
          <p:cNvSpPr/>
          <p:nvPr/>
        </p:nvSpPr>
        <p:spPr>
          <a:xfrm>
            <a:off x="2330280" y="3224160"/>
            <a:ext cx="214560" cy="463680"/>
          </a:xfrm>
          <a:custGeom>
            <a:avLst/>
            <a:gdLst/>
            <a:ahLst/>
            <a:rect l="l" t="t" r="r" b="b"/>
            <a:pathLst>
              <a:path w="596" h="1291">
                <a:moveTo>
                  <a:pt x="6474" y="8954"/>
                </a:moveTo>
                <a:cubicBezTo>
                  <a:pt x="6559" y="8959"/>
                  <a:pt x="6662" y="8959"/>
                  <a:pt x="6747" y="8979"/>
                </a:cubicBezTo>
                <a:cubicBezTo>
                  <a:pt x="6831" y="8999"/>
                  <a:pt x="6911" y="9022"/>
                  <a:pt x="6995" y="9054"/>
                </a:cubicBezTo>
                <a:cubicBezTo>
                  <a:pt x="7020" y="9062"/>
                  <a:pt x="7044" y="9071"/>
                  <a:pt x="7069" y="9079"/>
                </a:cubicBezTo>
                <a:cubicBezTo>
                  <a:pt x="7061" y="9139"/>
                  <a:pt x="7033" y="9198"/>
                  <a:pt x="6995" y="9252"/>
                </a:cubicBezTo>
                <a:cubicBezTo>
                  <a:pt x="6954" y="9311"/>
                  <a:pt x="6898" y="9369"/>
                  <a:pt x="6846" y="9426"/>
                </a:cubicBezTo>
                <a:cubicBezTo>
                  <a:pt x="6784" y="9494"/>
                  <a:pt x="6738" y="9611"/>
                  <a:pt x="6697" y="9699"/>
                </a:cubicBezTo>
                <a:cubicBezTo>
                  <a:pt x="6640" y="9822"/>
                  <a:pt x="6611" y="9905"/>
                  <a:pt x="6573" y="10046"/>
                </a:cubicBezTo>
                <a:cubicBezTo>
                  <a:pt x="6552" y="10123"/>
                  <a:pt x="6534" y="10174"/>
                  <a:pt x="6499" y="1024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Ink 19"/>
          <p:cNvSpPr/>
          <p:nvPr/>
        </p:nvSpPr>
        <p:spPr>
          <a:xfrm>
            <a:off x="1938240" y="3938760"/>
            <a:ext cx="223920" cy="231480"/>
          </a:xfrm>
          <a:custGeom>
            <a:avLst/>
            <a:gdLst/>
            <a:ahLst/>
            <a:rect l="l" t="t" r="r" b="b"/>
            <a:pathLst>
              <a:path w="621" h="646">
                <a:moveTo>
                  <a:pt x="5829" y="11063"/>
                </a:moveTo>
                <a:cubicBezTo>
                  <a:pt x="5816" y="10973"/>
                  <a:pt x="5805" y="10990"/>
                  <a:pt x="5730" y="10964"/>
                </a:cubicBezTo>
                <a:cubicBezTo>
                  <a:pt x="5669" y="10942"/>
                  <a:pt x="5593" y="10950"/>
                  <a:pt x="5531" y="10988"/>
                </a:cubicBezTo>
                <a:cubicBezTo>
                  <a:pt x="5476" y="11022"/>
                  <a:pt x="5443" y="11089"/>
                  <a:pt x="5407" y="11137"/>
                </a:cubicBezTo>
                <a:cubicBezTo>
                  <a:pt x="5364" y="11196"/>
                  <a:pt x="5389" y="11229"/>
                  <a:pt x="5407" y="11286"/>
                </a:cubicBezTo>
                <a:cubicBezTo>
                  <a:pt x="5427" y="11349"/>
                  <a:pt x="5446" y="11442"/>
                  <a:pt x="5507" y="11485"/>
                </a:cubicBezTo>
                <a:cubicBezTo>
                  <a:pt x="5584" y="11540"/>
                  <a:pt x="5667" y="11580"/>
                  <a:pt x="5755" y="11584"/>
                </a:cubicBezTo>
                <a:cubicBezTo>
                  <a:pt x="5854" y="11589"/>
                  <a:pt x="5902" y="11573"/>
                  <a:pt x="5978" y="11509"/>
                </a:cubicBezTo>
                <a:cubicBezTo>
                  <a:pt x="5986" y="11501"/>
                  <a:pt x="5995" y="11493"/>
                  <a:pt x="6003" y="1148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Ink 20"/>
          <p:cNvSpPr/>
          <p:nvPr/>
        </p:nvSpPr>
        <p:spPr>
          <a:xfrm>
            <a:off x="2178000" y="3973680"/>
            <a:ext cx="9720" cy="214200"/>
          </a:xfrm>
          <a:custGeom>
            <a:avLst/>
            <a:gdLst/>
            <a:ahLst/>
            <a:rect l="l" t="t" r="r" b="b"/>
            <a:pathLst>
              <a:path w="26" h="596">
                <a:moveTo>
                  <a:pt x="6077" y="11038"/>
                </a:moveTo>
                <a:cubicBezTo>
                  <a:pt x="6077" y="11131"/>
                  <a:pt x="6056" y="11199"/>
                  <a:pt x="6052" y="11286"/>
                </a:cubicBezTo>
                <a:cubicBezTo>
                  <a:pt x="6047" y="11403"/>
                  <a:pt x="6044" y="11524"/>
                  <a:pt x="6077" y="1163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Ink 21"/>
          <p:cNvSpPr/>
          <p:nvPr/>
        </p:nvSpPr>
        <p:spPr>
          <a:xfrm>
            <a:off x="2241720" y="4062240"/>
            <a:ext cx="9360" cy="144720"/>
          </a:xfrm>
          <a:custGeom>
            <a:avLst/>
            <a:gdLst/>
            <a:ahLst/>
            <a:rect l="l" t="t" r="r" b="b"/>
            <a:pathLst>
              <a:path w="26" h="398">
                <a:moveTo>
                  <a:pt x="6251" y="11286"/>
                </a:moveTo>
                <a:cubicBezTo>
                  <a:pt x="6251" y="11371"/>
                  <a:pt x="6239" y="11431"/>
                  <a:pt x="6226" y="11509"/>
                </a:cubicBezTo>
                <a:cubicBezTo>
                  <a:pt x="6217" y="11563"/>
                  <a:pt x="6226" y="11628"/>
                  <a:pt x="6226" y="1168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Ink 22"/>
          <p:cNvSpPr/>
          <p:nvPr/>
        </p:nvSpPr>
        <p:spPr>
          <a:xfrm>
            <a:off x="2286000" y="3867120"/>
            <a:ext cx="19080" cy="54000"/>
          </a:xfrm>
          <a:custGeom>
            <a:avLst/>
            <a:gdLst/>
            <a:ahLst/>
            <a:rect l="l" t="t" r="r" b="b"/>
            <a:pathLst>
              <a:path w="51" h="150">
                <a:moveTo>
                  <a:pt x="6400" y="10740"/>
                </a:moveTo>
                <a:cubicBezTo>
                  <a:pt x="6370" y="10789"/>
                  <a:pt x="6358" y="10831"/>
                  <a:pt x="6350" y="1088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Ink 23"/>
          <p:cNvSpPr/>
          <p:nvPr/>
        </p:nvSpPr>
        <p:spPr>
          <a:xfrm>
            <a:off x="2295360" y="4017960"/>
            <a:ext cx="106560" cy="189000"/>
          </a:xfrm>
          <a:custGeom>
            <a:avLst/>
            <a:gdLst/>
            <a:ahLst/>
            <a:rect l="l" t="t" r="r" b="b"/>
            <a:pathLst>
              <a:path w="298" h="522">
                <a:moveTo>
                  <a:pt x="6400" y="11237"/>
                </a:moveTo>
                <a:cubicBezTo>
                  <a:pt x="6400" y="11311"/>
                  <a:pt x="6400" y="11386"/>
                  <a:pt x="6400" y="11460"/>
                </a:cubicBezTo>
                <a:cubicBezTo>
                  <a:pt x="6367" y="11405"/>
                  <a:pt x="6374" y="11324"/>
                  <a:pt x="6400" y="11261"/>
                </a:cubicBezTo>
                <a:cubicBezTo>
                  <a:pt x="6426" y="11199"/>
                  <a:pt x="6460" y="11166"/>
                  <a:pt x="6524" y="11162"/>
                </a:cubicBezTo>
                <a:cubicBezTo>
                  <a:pt x="6605" y="11157"/>
                  <a:pt x="6620" y="11243"/>
                  <a:pt x="6623" y="11311"/>
                </a:cubicBezTo>
                <a:cubicBezTo>
                  <a:pt x="6625" y="11361"/>
                  <a:pt x="6596" y="11683"/>
                  <a:pt x="6648" y="11683"/>
                </a:cubicBezTo>
                <a:cubicBezTo>
                  <a:pt x="6656" y="11675"/>
                  <a:pt x="6664" y="11666"/>
                  <a:pt x="6672" y="1165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Ink 24"/>
          <p:cNvSpPr/>
          <p:nvPr/>
        </p:nvSpPr>
        <p:spPr>
          <a:xfrm>
            <a:off x="2500200" y="3867120"/>
            <a:ext cx="9720" cy="357120"/>
          </a:xfrm>
          <a:custGeom>
            <a:avLst/>
            <a:gdLst/>
            <a:ahLst/>
            <a:rect l="l" t="t" r="r" b="b"/>
            <a:pathLst>
              <a:path w="26" h="994">
                <a:moveTo>
                  <a:pt x="6945" y="10740"/>
                </a:moveTo>
                <a:cubicBezTo>
                  <a:pt x="6956" y="10865"/>
                  <a:pt x="6970" y="10951"/>
                  <a:pt x="6970" y="11088"/>
                </a:cubicBezTo>
                <a:cubicBezTo>
                  <a:pt x="6970" y="11303"/>
                  <a:pt x="6970" y="11518"/>
                  <a:pt x="6970" y="1173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Ink 25"/>
          <p:cNvSpPr/>
          <p:nvPr/>
        </p:nvSpPr>
        <p:spPr>
          <a:xfrm>
            <a:off x="2446200" y="3983040"/>
            <a:ext cx="206640" cy="9360"/>
          </a:xfrm>
          <a:custGeom>
            <a:avLst/>
            <a:gdLst/>
            <a:ahLst/>
            <a:rect l="l" t="t" r="r" b="b"/>
            <a:pathLst>
              <a:path w="572" h="26">
                <a:moveTo>
                  <a:pt x="6796" y="11063"/>
                </a:moveTo>
                <a:cubicBezTo>
                  <a:pt x="6975" y="11063"/>
                  <a:pt x="7144" y="11064"/>
                  <a:pt x="7317" y="11088"/>
                </a:cubicBezTo>
                <a:cubicBezTo>
                  <a:pt x="7334" y="11088"/>
                  <a:pt x="7350" y="11088"/>
                  <a:pt x="7367" y="1108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wo Step Equ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2v – 6 = 18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5500" spc="-1" strike="noStrike" baseline="30000">
                <a:solidFill>
                  <a:srgbClr val="000000"/>
                </a:solidFill>
                <a:latin typeface="Georgia"/>
              </a:rPr>
              <a:t>z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en-US" sz="55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 + 8 = 14</a:t>
            </a:r>
            <a:endParaRPr b="0" lang="en-US" sz="5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Ink 4"/>
          <p:cNvSpPr/>
          <p:nvPr/>
        </p:nvSpPr>
        <p:spPr>
          <a:xfrm>
            <a:off x="5965920" y="2768760"/>
            <a:ext cx="268200" cy="17280"/>
          </a:xfrm>
          <a:custGeom>
            <a:avLst/>
            <a:gdLst/>
            <a:ahLst/>
            <a:rect l="l" t="t" r="r" b="b"/>
            <a:pathLst>
              <a:path w="745" h="51">
                <a:moveTo>
                  <a:pt x="16570" y="7739"/>
                </a:moveTo>
                <a:cubicBezTo>
                  <a:pt x="16673" y="7730"/>
                  <a:pt x="16790" y="7731"/>
                  <a:pt x="16892" y="7714"/>
                </a:cubicBezTo>
                <a:cubicBezTo>
                  <a:pt x="17010" y="7694"/>
                  <a:pt x="17117" y="7689"/>
                  <a:pt x="17239" y="7689"/>
                </a:cubicBezTo>
                <a:cubicBezTo>
                  <a:pt x="17264" y="7689"/>
                  <a:pt x="17289" y="7689"/>
                  <a:pt x="17314" y="768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Ink 5"/>
          <p:cNvSpPr/>
          <p:nvPr/>
        </p:nvSpPr>
        <p:spPr>
          <a:xfrm>
            <a:off x="6500880" y="2544840"/>
            <a:ext cx="223920" cy="428400"/>
          </a:xfrm>
          <a:custGeom>
            <a:avLst/>
            <a:gdLst/>
            <a:ahLst/>
            <a:rect l="l" t="t" r="r" b="b"/>
            <a:pathLst>
              <a:path w="621" h="1192">
                <a:moveTo>
                  <a:pt x="18653" y="7169"/>
                </a:moveTo>
                <a:cubicBezTo>
                  <a:pt x="18641" y="7087"/>
                  <a:pt x="18601" y="7054"/>
                  <a:pt x="18504" y="7069"/>
                </a:cubicBezTo>
                <a:cubicBezTo>
                  <a:pt x="18435" y="7080"/>
                  <a:pt x="18311" y="7097"/>
                  <a:pt x="18256" y="7144"/>
                </a:cubicBezTo>
                <a:cubicBezTo>
                  <a:pt x="18147" y="7237"/>
                  <a:pt x="18063" y="7302"/>
                  <a:pt x="18058" y="7441"/>
                </a:cubicBezTo>
                <a:cubicBezTo>
                  <a:pt x="18054" y="7551"/>
                  <a:pt x="18067" y="7614"/>
                  <a:pt x="18157" y="7689"/>
                </a:cubicBezTo>
                <a:cubicBezTo>
                  <a:pt x="18230" y="7750"/>
                  <a:pt x="18323" y="7843"/>
                  <a:pt x="18405" y="7888"/>
                </a:cubicBezTo>
                <a:cubicBezTo>
                  <a:pt x="18496" y="7937"/>
                  <a:pt x="18594" y="7994"/>
                  <a:pt x="18653" y="8086"/>
                </a:cubicBezTo>
                <a:cubicBezTo>
                  <a:pt x="18681" y="8130"/>
                  <a:pt x="18665" y="8238"/>
                  <a:pt x="18604" y="8260"/>
                </a:cubicBezTo>
                <a:cubicBezTo>
                  <a:pt x="18550" y="8279"/>
                  <a:pt x="18428" y="8269"/>
                  <a:pt x="18380" y="8235"/>
                </a:cubicBezTo>
                <a:cubicBezTo>
                  <a:pt x="18254" y="8144"/>
                  <a:pt x="18242" y="7978"/>
                  <a:pt x="18231" y="7838"/>
                </a:cubicBezTo>
                <a:cubicBezTo>
                  <a:pt x="18220" y="7698"/>
                  <a:pt x="18226" y="7553"/>
                  <a:pt x="18256" y="7417"/>
                </a:cubicBezTo>
                <a:cubicBezTo>
                  <a:pt x="18277" y="7321"/>
                  <a:pt x="18326" y="7203"/>
                  <a:pt x="18380" y="7119"/>
                </a:cubicBezTo>
                <a:cubicBezTo>
                  <a:pt x="18403" y="7096"/>
                  <a:pt x="18411" y="7085"/>
                  <a:pt x="18405" y="711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Ink 6"/>
          <p:cNvSpPr/>
          <p:nvPr/>
        </p:nvSpPr>
        <p:spPr>
          <a:xfrm>
            <a:off x="7108920" y="2714760"/>
            <a:ext cx="285480" cy="44280"/>
          </a:xfrm>
          <a:custGeom>
            <a:avLst/>
            <a:gdLst/>
            <a:ahLst/>
            <a:rect l="l" t="t" r="r" b="b"/>
            <a:pathLst>
              <a:path w="794" h="125">
                <a:moveTo>
                  <a:pt x="19745" y="7665"/>
                </a:moveTo>
                <a:cubicBezTo>
                  <a:pt x="19868" y="7607"/>
                  <a:pt x="19942" y="7590"/>
                  <a:pt x="20067" y="7565"/>
                </a:cubicBezTo>
                <a:cubicBezTo>
                  <a:pt x="20198" y="7538"/>
                  <a:pt x="20284" y="7556"/>
                  <a:pt x="20414" y="7565"/>
                </a:cubicBezTo>
                <a:cubicBezTo>
                  <a:pt x="20455" y="7565"/>
                  <a:pt x="20497" y="7565"/>
                  <a:pt x="20538" y="756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Ink 7"/>
          <p:cNvSpPr/>
          <p:nvPr/>
        </p:nvSpPr>
        <p:spPr>
          <a:xfrm>
            <a:off x="7724880" y="2500200"/>
            <a:ext cx="303120" cy="588960"/>
          </a:xfrm>
          <a:custGeom>
            <a:avLst/>
            <a:gdLst/>
            <a:ahLst/>
            <a:rect l="l" t="t" r="r" b="b"/>
            <a:pathLst>
              <a:path w="844" h="1638">
                <a:moveTo>
                  <a:pt x="22225" y="7069"/>
                </a:moveTo>
                <a:cubicBezTo>
                  <a:pt x="22213" y="6977"/>
                  <a:pt x="22156" y="6931"/>
                  <a:pt x="22051" y="6945"/>
                </a:cubicBezTo>
                <a:cubicBezTo>
                  <a:pt x="21867" y="6970"/>
                  <a:pt x="21775" y="7032"/>
                  <a:pt x="21630" y="7119"/>
                </a:cubicBezTo>
                <a:cubicBezTo>
                  <a:pt x="21530" y="7179"/>
                  <a:pt x="21461" y="7217"/>
                  <a:pt x="21456" y="7342"/>
                </a:cubicBezTo>
                <a:cubicBezTo>
                  <a:pt x="21450" y="7487"/>
                  <a:pt x="21509" y="7504"/>
                  <a:pt x="21605" y="7590"/>
                </a:cubicBezTo>
                <a:cubicBezTo>
                  <a:pt x="21721" y="7693"/>
                  <a:pt x="21861" y="7760"/>
                  <a:pt x="21977" y="7863"/>
                </a:cubicBezTo>
                <a:cubicBezTo>
                  <a:pt x="22147" y="8014"/>
                  <a:pt x="22212" y="8085"/>
                  <a:pt x="22275" y="8285"/>
                </a:cubicBezTo>
                <a:cubicBezTo>
                  <a:pt x="22313" y="8404"/>
                  <a:pt x="22309" y="8434"/>
                  <a:pt x="22225" y="8508"/>
                </a:cubicBezTo>
                <a:cubicBezTo>
                  <a:pt x="22122" y="8599"/>
                  <a:pt x="22027" y="8597"/>
                  <a:pt x="21903" y="8533"/>
                </a:cubicBezTo>
                <a:cubicBezTo>
                  <a:pt x="21794" y="8476"/>
                  <a:pt x="21724" y="8328"/>
                  <a:pt x="21704" y="8210"/>
                </a:cubicBezTo>
                <a:cubicBezTo>
                  <a:pt x="21682" y="8084"/>
                  <a:pt x="21762" y="7928"/>
                  <a:pt x="21803" y="7813"/>
                </a:cubicBezTo>
                <a:cubicBezTo>
                  <a:pt x="21864" y="7641"/>
                  <a:pt x="21961" y="7484"/>
                  <a:pt x="22076" y="7342"/>
                </a:cubicBezTo>
                <a:cubicBezTo>
                  <a:pt x="22128" y="7277"/>
                  <a:pt x="22179" y="7213"/>
                  <a:pt x="22225" y="714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Ink 8"/>
          <p:cNvSpPr/>
          <p:nvPr/>
        </p:nvSpPr>
        <p:spPr>
          <a:xfrm>
            <a:off x="1401840" y="2394000"/>
            <a:ext cx="152280" cy="231840"/>
          </a:xfrm>
          <a:custGeom>
            <a:avLst/>
            <a:gdLst/>
            <a:ahLst/>
            <a:rect l="l" t="t" r="r" b="b"/>
            <a:pathLst>
              <a:path w="423" h="646">
                <a:moveTo>
                  <a:pt x="4167" y="6648"/>
                </a:moveTo>
                <a:cubicBezTo>
                  <a:pt x="4195" y="6731"/>
                  <a:pt x="4192" y="6806"/>
                  <a:pt x="4192" y="6896"/>
                </a:cubicBezTo>
                <a:cubicBezTo>
                  <a:pt x="4192" y="7028"/>
                  <a:pt x="4192" y="7161"/>
                  <a:pt x="4192" y="7293"/>
                </a:cubicBezTo>
              </a:path>
              <a:path w="423" h="646">
                <a:moveTo>
                  <a:pt x="3894" y="7094"/>
                </a:moveTo>
                <a:cubicBezTo>
                  <a:pt x="3977" y="7033"/>
                  <a:pt x="3997" y="7043"/>
                  <a:pt x="4093" y="7020"/>
                </a:cubicBezTo>
                <a:cubicBezTo>
                  <a:pt x="4178" y="6999"/>
                  <a:pt x="4229" y="7011"/>
                  <a:pt x="4316" y="70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Ink 9"/>
          <p:cNvSpPr/>
          <p:nvPr/>
        </p:nvSpPr>
        <p:spPr>
          <a:xfrm>
            <a:off x="1857240" y="2330280"/>
            <a:ext cx="115920" cy="241560"/>
          </a:xfrm>
          <a:custGeom>
            <a:avLst/>
            <a:gdLst/>
            <a:ahLst/>
            <a:rect l="l" t="t" r="r" b="b"/>
            <a:pathLst>
              <a:path w="324" h="671">
                <a:moveTo>
                  <a:pt x="5432" y="6474"/>
                </a:moveTo>
                <a:cubicBezTo>
                  <a:pt x="5387" y="6537"/>
                  <a:pt x="5339" y="6569"/>
                  <a:pt x="5308" y="6648"/>
                </a:cubicBezTo>
                <a:cubicBezTo>
                  <a:pt x="5268" y="6748"/>
                  <a:pt x="5203" y="6866"/>
                  <a:pt x="5184" y="6970"/>
                </a:cubicBezTo>
                <a:cubicBezTo>
                  <a:pt x="5172" y="7039"/>
                  <a:pt x="5186" y="7084"/>
                  <a:pt x="5209" y="7144"/>
                </a:cubicBezTo>
                <a:cubicBezTo>
                  <a:pt x="5296" y="7133"/>
                  <a:pt x="5320" y="7108"/>
                  <a:pt x="5383" y="7045"/>
                </a:cubicBezTo>
                <a:cubicBezTo>
                  <a:pt x="5453" y="6975"/>
                  <a:pt x="5473" y="6938"/>
                  <a:pt x="5482" y="6846"/>
                </a:cubicBezTo>
                <a:cubicBezTo>
                  <a:pt x="5396" y="6824"/>
                  <a:pt x="5365" y="6852"/>
                  <a:pt x="5283" y="6896"/>
                </a:cubicBezTo>
                <a:cubicBezTo>
                  <a:pt x="5156" y="6964"/>
                  <a:pt x="5160" y="6923"/>
                  <a:pt x="5184" y="704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Ink 10"/>
          <p:cNvSpPr/>
          <p:nvPr/>
        </p:nvSpPr>
        <p:spPr>
          <a:xfrm>
            <a:off x="928800" y="2813040"/>
            <a:ext cx="1589040" cy="642960"/>
          </a:xfrm>
          <a:custGeom>
            <a:avLst/>
            <a:gdLst/>
            <a:ahLst/>
            <a:rect l="l" t="t" r="r" b="b"/>
            <a:pathLst>
              <a:path w="4416" h="1787">
                <a:moveTo>
                  <a:pt x="2977" y="8186"/>
                </a:moveTo>
                <a:cubicBezTo>
                  <a:pt x="3039" y="8122"/>
                  <a:pt x="3066" y="8092"/>
                  <a:pt x="3150" y="8062"/>
                </a:cubicBezTo>
                <a:cubicBezTo>
                  <a:pt x="3234" y="8032"/>
                  <a:pt x="3308" y="7992"/>
                  <a:pt x="3398" y="7987"/>
                </a:cubicBezTo>
                <a:cubicBezTo>
                  <a:pt x="3450" y="7987"/>
                  <a:pt x="3468" y="7988"/>
                  <a:pt x="3497" y="8012"/>
                </a:cubicBezTo>
                <a:cubicBezTo>
                  <a:pt x="3465" y="8157"/>
                  <a:pt x="3353" y="8261"/>
                  <a:pt x="3274" y="8384"/>
                </a:cubicBezTo>
                <a:cubicBezTo>
                  <a:pt x="3222" y="8465"/>
                  <a:pt x="3160" y="8606"/>
                  <a:pt x="3175" y="8706"/>
                </a:cubicBezTo>
                <a:cubicBezTo>
                  <a:pt x="3188" y="8794"/>
                  <a:pt x="3262" y="8866"/>
                  <a:pt x="3349" y="8880"/>
                </a:cubicBezTo>
                <a:cubicBezTo>
                  <a:pt x="3477" y="8901"/>
                  <a:pt x="3537" y="8869"/>
                  <a:pt x="3621" y="8806"/>
                </a:cubicBezTo>
                <a:cubicBezTo>
                  <a:pt x="3638" y="8798"/>
                  <a:pt x="3654" y="8789"/>
                  <a:pt x="3671" y="8781"/>
                </a:cubicBezTo>
              </a:path>
              <a:path w="4416" h="1787">
                <a:moveTo>
                  <a:pt x="3770" y="8235"/>
                </a:moveTo>
                <a:cubicBezTo>
                  <a:pt x="3770" y="8335"/>
                  <a:pt x="3791" y="8409"/>
                  <a:pt x="3795" y="8508"/>
                </a:cubicBezTo>
                <a:cubicBezTo>
                  <a:pt x="3798" y="8577"/>
                  <a:pt x="3808" y="8672"/>
                  <a:pt x="3845" y="8731"/>
                </a:cubicBezTo>
                <a:cubicBezTo>
                  <a:pt x="3884" y="8795"/>
                  <a:pt x="3947" y="8791"/>
                  <a:pt x="3994" y="8731"/>
                </a:cubicBezTo>
                <a:cubicBezTo>
                  <a:pt x="4042" y="8670"/>
                  <a:pt x="4044" y="8577"/>
                  <a:pt x="4068" y="8508"/>
                </a:cubicBezTo>
                <a:cubicBezTo>
                  <a:pt x="4095" y="8430"/>
                  <a:pt x="4150" y="8339"/>
                  <a:pt x="4167" y="8260"/>
                </a:cubicBezTo>
                <a:cubicBezTo>
                  <a:pt x="4176" y="8218"/>
                  <a:pt x="4184" y="8178"/>
                  <a:pt x="4192" y="8136"/>
                </a:cubicBezTo>
              </a:path>
              <a:path w="4416" h="1787">
                <a:moveTo>
                  <a:pt x="4663" y="8111"/>
                </a:moveTo>
                <a:cubicBezTo>
                  <a:pt x="4798" y="8096"/>
                  <a:pt x="4929" y="8068"/>
                  <a:pt x="5060" y="8062"/>
                </a:cubicBezTo>
                <a:cubicBezTo>
                  <a:pt x="5101" y="8060"/>
                  <a:pt x="5143" y="8062"/>
                  <a:pt x="5184" y="8062"/>
                </a:cubicBezTo>
              </a:path>
              <a:path w="4416" h="1787">
                <a:moveTo>
                  <a:pt x="4663" y="8483"/>
                </a:moveTo>
                <a:cubicBezTo>
                  <a:pt x="4771" y="8512"/>
                  <a:pt x="4832" y="8494"/>
                  <a:pt x="4936" y="8483"/>
                </a:cubicBezTo>
                <a:cubicBezTo>
                  <a:pt x="5063" y="8470"/>
                  <a:pt x="5157" y="8467"/>
                  <a:pt x="5283" y="8434"/>
                </a:cubicBezTo>
              </a:path>
              <a:path w="4416" h="1787">
                <a:moveTo>
                  <a:pt x="5879" y="7962"/>
                </a:moveTo>
                <a:cubicBezTo>
                  <a:pt x="5971" y="7901"/>
                  <a:pt x="6043" y="7905"/>
                  <a:pt x="6152" y="7962"/>
                </a:cubicBezTo>
                <a:cubicBezTo>
                  <a:pt x="6219" y="7998"/>
                  <a:pt x="6194" y="8063"/>
                  <a:pt x="6152" y="8111"/>
                </a:cubicBezTo>
                <a:cubicBezTo>
                  <a:pt x="6079" y="8195"/>
                  <a:pt x="6001" y="8292"/>
                  <a:pt x="5928" y="8359"/>
                </a:cubicBezTo>
                <a:cubicBezTo>
                  <a:pt x="5881" y="8403"/>
                  <a:pt x="5905" y="8452"/>
                  <a:pt x="5953" y="8483"/>
                </a:cubicBezTo>
                <a:cubicBezTo>
                  <a:pt x="6029" y="8532"/>
                  <a:pt x="6060" y="8548"/>
                  <a:pt x="6152" y="8508"/>
                </a:cubicBezTo>
                <a:cubicBezTo>
                  <a:pt x="6293" y="8438"/>
                  <a:pt x="6336" y="8419"/>
                  <a:pt x="6400" y="8334"/>
                </a:cubicBezTo>
              </a:path>
              <a:path w="4416" h="1787">
                <a:moveTo>
                  <a:pt x="6648" y="7813"/>
                </a:moveTo>
                <a:cubicBezTo>
                  <a:pt x="6680" y="7880"/>
                  <a:pt x="6652" y="7941"/>
                  <a:pt x="6672" y="8012"/>
                </a:cubicBezTo>
                <a:cubicBezTo>
                  <a:pt x="6705" y="8129"/>
                  <a:pt x="6772" y="8076"/>
                  <a:pt x="6846" y="8037"/>
                </a:cubicBezTo>
                <a:cubicBezTo>
                  <a:pt x="6916" y="8000"/>
                  <a:pt x="6925" y="7948"/>
                  <a:pt x="6970" y="7888"/>
                </a:cubicBezTo>
                <a:cubicBezTo>
                  <a:pt x="6978" y="7880"/>
                  <a:pt x="6987" y="7871"/>
                  <a:pt x="6995" y="7863"/>
                </a:cubicBezTo>
                <a:cubicBezTo>
                  <a:pt x="6989" y="7970"/>
                  <a:pt x="6973" y="8082"/>
                  <a:pt x="6945" y="8186"/>
                </a:cubicBezTo>
                <a:cubicBezTo>
                  <a:pt x="6925" y="8260"/>
                  <a:pt x="6887" y="8347"/>
                  <a:pt x="6846" y="8409"/>
                </a:cubicBezTo>
              </a:path>
              <a:path w="4416" h="1787">
                <a:moveTo>
                  <a:pt x="2580" y="9128"/>
                </a:moveTo>
                <a:cubicBezTo>
                  <a:pt x="2695" y="9070"/>
                  <a:pt x="2836" y="8996"/>
                  <a:pt x="2952" y="8954"/>
                </a:cubicBezTo>
                <a:cubicBezTo>
                  <a:pt x="3179" y="8873"/>
                  <a:pt x="3434" y="8811"/>
                  <a:pt x="3671" y="8756"/>
                </a:cubicBezTo>
                <a:cubicBezTo>
                  <a:pt x="3818" y="8722"/>
                  <a:pt x="3969" y="8698"/>
                  <a:pt x="4118" y="8682"/>
                </a:cubicBezTo>
                <a:cubicBezTo>
                  <a:pt x="4167" y="8682"/>
                  <a:pt x="4184" y="8682"/>
                  <a:pt x="4217" y="8682"/>
                </a:cubicBezTo>
              </a:path>
              <a:path w="4416" h="1787">
                <a:moveTo>
                  <a:pt x="3423" y="9252"/>
                </a:moveTo>
                <a:cubicBezTo>
                  <a:pt x="3467" y="9233"/>
                  <a:pt x="3758" y="9051"/>
                  <a:pt x="3820" y="9153"/>
                </a:cubicBezTo>
                <a:cubicBezTo>
                  <a:pt x="3853" y="9207"/>
                  <a:pt x="3796" y="9308"/>
                  <a:pt x="3770" y="9351"/>
                </a:cubicBezTo>
                <a:cubicBezTo>
                  <a:pt x="3724" y="9427"/>
                  <a:pt x="3690" y="9476"/>
                  <a:pt x="3721" y="9550"/>
                </a:cubicBezTo>
                <a:cubicBezTo>
                  <a:pt x="3777" y="9684"/>
                  <a:pt x="4069" y="9559"/>
                  <a:pt x="4167" y="9525"/>
                </a:cubicBezTo>
                <a:cubicBezTo>
                  <a:pt x="4333" y="9468"/>
                  <a:pt x="4482" y="9367"/>
                  <a:pt x="4638" y="9302"/>
                </a:cubicBezTo>
                <a:cubicBezTo>
                  <a:pt x="4748" y="9275"/>
                  <a:pt x="4791" y="9262"/>
                  <a:pt x="4862" y="922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Ink 11"/>
          <p:cNvSpPr/>
          <p:nvPr/>
        </p:nvSpPr>
        <p:spPr>
          <a:xfrm>
            <a:off x="4697280" y="3224160"/>
            <a:ext cx="3160800" cy="874800"/>
          </a:xfrm>
          <a:custGeom>
            <a:avLst/>
            <a:gdLst/>
            <a:ahLst/>
            <a:rect l="l" t="t" r="r" b="b"/>
            <a:pathLst>
              <a:path w="8782" h="2432">
                <a:moveTo>
                  <a:pt x="15280" y="9302"/>
                </a:moveTo>
                <a:cubicBezTo>
                  <a:pt x="15387" y="9256"/>
                  <a:pt x="15494" y="9230"/>
                  <a:pt x="15602" y="9178"/>
                </a:cubicBezTo>
                <a:cubicBezTo>
                  <a:pt x="15681" y="9140"/>
                  <a:pt x="15788" y="9132"/>
                  <a:pt x="15875" y="9128"/>
                </a:cubicBezTo>
                <a:cubicBezTo>
                  <a:pt x="15933" y="9125"/>
                  <a:pt x="15954" y="9126"/>
                  <a:pt x="15999" y="9153"/>
                </a:cubicBezTo>
                <a:cubicBezTo>
                  <a:pt x="15940" y="9285"/>
                  <a:pt x="15894" y="9349"/>
                  <a:pt x="15776" y="9451"/>
                </a:cubicBezTo>
                <a:cubicBezTo>
                  <a:pt x="15659" y="9552"/>
                  <a:pt x="15521" y="9629"/>
                  <a:pt x="15404" y="9723"/>
                </a:cubicBezTo>
                <a:cubicBezTo>
                  <a:pt x="15345" y="9770"/>
                  <a:pt x="15288" y="9824"/>
                  <a:pt x="15230" y="9872"/>
                </a:cubicBezTo>
                <a:cubicBezTo>
                  <a:pt x="15342" y="9928"/>
                  <a:pt x="15416" y="9891"/>
                  <a:pt x="15553" y="9872"/>
                </a:cubicBezTo>
                <a:cubicBezTo>
                  <a:pt x="15739" y="9846"/>
                  <a:pt x="15878" y="9765"/>
                  <a:pt x="16049" y="9723"/>
                </a:cubicBezTo>
                <a:cubicBezTo>
                  <a:pt x="16117" y="9723"/>
                  <a:pt x="16136" y="9726"/>
                  <a:pt x="16173" y="9699"/>
                </a:cubicBezTo>
              </a:path>
              <a:path w="8782" h="2432">
                <a:moveTo>
                  <a:pt x="16545" y="9153"/>
                </a:moveTo>
                <a:cubicBezTo>
                  <a:pt x="16517" y="9153"/>
                  <a:pt x="16493" y="9266"/>
                  <a:pt x="16470" y="9351"/>
                </a:cubicBezTo>
                <a:cubicBezTo>
                  <a:pt x="16416" y="9546"/>
                  <a:pt x="16382" y="9748"/>
                  <a:pt x="16346" y="9947"/>
                </a:cubicBezTo>
                <a:cubicBezTo>
                  <a:pt x="16316" y="10113"/>
                  <a:pt x="16283" y="10278"/>
                  <a:pt x="16247" y="10443"/>
                </a:cubicBezTo>
                <a:cubicBezTo>
                  <a:pt x="16229" y="10527"/>
                  <a:pt x="16177" y="10704"/>
                  <a:pt x="16197" y="10790"/>
                </a:cubicBezTo>
                <a:cubicBezTo>
                  <a:pt x="16217" y="10876"/>
                  <a:pt x="16293" y="10580"/>
                  <a:pt x="16297" y="10567"/>
                </a:cubicBezTo>
              </a:path>
              <a:path w="8782" h="2432">
                <a:moveTo>
                  <a:pt x="16694" y="9897"/>
                </a:moveTo>
                <a:cubicBezTo>
                  <a:pt x="16718" y="9867"/>
                  <a:pt x="16751" y="9785"/>
                  <a:pt x="16793" y="9773"/>
                </a:cubicBezTo>
                <a:cubicBezTo>
                  <a:pt x="16872" y="9750"/>
                  <a:pt x="16941" y="9739"/>
                  <a:pt x="17016" y="9773"/>
                </a:cubicBezTo>
                <a:cubicBezTo>
                  <a:pt x="17067" y="9796"/>
                  <a:pt x="17133" y="9822"/>
                  <a:pt x="17165" y="9872"/>
                </a:cubicBezTo>
                <a:cubicBezTo>
                  <a:pt x="17235" y="9981"/>
                  <a:pt x="17161" y="10029"/>
                  <a:pt x="17140" y="10120"/>
                </a:cubicBezTo>
                <a:cubicBezTo>
                  <a:pt x="17127" y="10175"/>
                  <a:pt x="17115" y="10252"/>
                  <a:pt x="17066" y="10294"/>
                </a:cubicBezTo>
                <a:cubicBezTo>
                  <a:pt x="17012" y="10340"/>
                  <a:pt x="16971" y="10389"/>
                  <a:pt x="16917" y="10443"/>
                </a:cubicBezTo>
                <a:cubicBezTo>
                  <a:pt x="16876" y="10484"/>
                  <a:pt x="16834" y="10525"/>
                  <a:pt x="16793" y="10567"/>
                </a:cubicBezTo>
                <a:cubicBezTo>
                  <a:pt x="16893" y="10552"/>
                  <a:pt x="16943" y="10542"/>
                  <a:pt x="17066" y="10542"/>
                </a:cubicBezTo>
                <a:cubicBezTo>
                  <a:pt x="17150" y="10542"/>
                  <a:pt x="17227" y="10517"/>
                  <a:pt x="17314" y="10517"/>
                </a:cubicBezTo>
                <a:cubicBezTo>
                  <a:pt x="17411" y="10517"/>
                  <a:pt x="17494" y="10499"/>
                  <a:pt x="17587" y="10492"/>
                </a:cubicBezTo>
                <a:cubicBezTo>
                  <a:pt x="17595" y="10492"/>
                  <a:pt x="17603" y="10492"/>
                  <a:pt x="17611" y="10492"/>
                </a:cubicBezTo>
              </a:path>
              <a:path w="8782" h="2432">
                <a:moveTo>
                  <a:pt x="17711" y="9798"/>
                </a:moveTo>
                <a:cubicBezTo>
                  <a:pt x="17683" y="9717"/>
                  <a:pt x="17792" y="9803"/>
                  <a:pt x="17835" y="9798"/>
                </a:cubicBezTo>
                <a:cubicBezTo>
                  <a:pt x="17924" y="9787"/>
                  <a:pt x="18010" y="9773"/>
                  <a:pt x="18107" y="9773"/>
                </a:cubicBezTo>
                <a:cubicBezTo>
                  <a:pt x="18206" y="9773"/>
                  <a:pt x="18280" y="9748"/>
                  <a:pt x="18380" y="9748"/>
                </a:cubicBezTo>
                <a:cubicBezTo>
                  <a:pt x="18422" y="9748"/>
                  <a:pt x="18430" y="9748"/>
                  <a:pt x="18455" y="9748"/>
                </a:cubicBezTo>
              </a:path>
              <a:path w="8782" h="2432">
                <a:moveTo>
                  <a:pt x="17909" y="10071"/>
                </a:moveTo>
                <a:cubicBezTo>
                  <a:pt x="18052" y="10049"/>
                  <a:pt x="18189" y="10064"/>
                  <a:pt x="18331" y="10046"/>
                </a:cubicBezTo>
                <a:cubicBezTo>
                  <a:pt x="18442" y="10032"/>
                  <a:pt x="18539" y="10021"/>
                  <a:pt x="18653" y="10021"/>
                </a:cubicBezTo>
                <a:cubicBezTo>
                  <a:pt x="18719" y="10021"/>
                  <a:pt x="18786" y="10021"/>
                  <a:pt x="18852" y="10021"/>
                </a:cubicBezTo>
              </a:path>
              <a:path w="8782" h="2432">
                <a:moveTo>
                  <a:pt x="19472" y="9178"/>
                </a:moveTo>
                <a:cubicBezTo>
                  <a:pt x="19432" y="9257"/>
                  <a:pt x="19420" y="9299"/>
                  <a:pt x="19397" y="9376"/>
                </a:cubicBezTo>
                <a:cubicBezTo>
                  <a:pt x="19369" y="9469"/>
                  <a:pt x="19368" y="9554"/>
                  <a:pt x="19348" y="9649"/>
                </a:cubicBezTo>
                <a:cubicBezTo>
                  <a:pt x="19324" y="9763"/>
                  <a:pt x="19303" y="9902"/>
                  <a:pt x="19323" y="10021"/>
                </a:cubicBezTo>
                <a:cubicBezTo>
                  <a:pt x="19361" y="10244"/>
                  <a:pt x="19344" y="10404"/>
                  <a:pt x="19521" y="10492"/>
                </a:cubicBezTo>
                <a:cubicBezTo>
                  <a:pt x="19606" y="10534"/>
                  <a:pt x="19680" y="10518"/>
                  <a:pt x="19769" y="10492"/>
                </a:cubicBezTo>
                <a:cubicBezTo>
                  <a:pt x="19873" y="10462"/>
                  <a:pt x="19970" y="10431"/>
                  <a:pt x="20042" y="10344"/>
                </a:cubicBezTo>
                <a:cubicBezTo>
                  <a:pt x="20126" y="10242"/>
                  <a:pt x="20153" y="10134"/>
                  <a:pt x="20141" y="10021"/>
                </a:cubicBezTo>
                <a:cubicBezTo>
                  <a:pt x="20131" y="9929"/>
                  <a:pt x="20060" y="9890"/>
                  <a:pt x="19968" y="9872"/>
                </a:cubicBezTo>
                <a:cubicBezTo>
                  <a:pt x="19849" y="9849"/>
                  <a:pt x="19774" y="9959"/>
                  <a:pt x="19695" y="10021"/>
                </a:cubicBezTo>
                <a:cubicBezTo>
                  <a:pt x="19594" y="10100"/>
                  <a:pt x="19521" y="10236"/>
                  <a:pt x="19496" y="10368"/>
                </a:cubicBezTo>
                <a:cubicBezTo>
                  <a:pt x="19483" y="10437"/>
                  <a:pt x="19498" y="10505"/>
                  <a:pt x="19521" y="10567"/>
                </a:cubicBezTo>
              </a:path>
              <a:path w="8782" h="2432">
                <a:moveTo>
                  <a:pt x="14784" y="9029"/>
                </a:moveTo>
                <a:cubicBezTo>
                  <a:pt x="14714" y="9052"/>
                  <a:pt x="14725" y="9074"/>
                  <a:pt x="14709" y="9153"/>
                </a:cubicBezTo>
                <a:cubicBezTo>
                  <a:pt x="14681" y="9288"/>
                  <a:pt x="14649" y="9412"/>
                  <a:pt x="14635" y="9550"/>
                </a:cubicBezTo>
                <a:cubicBezTo>
                  <a:pt x="14607" y="9823"/>
                  <a:pt x="14594" y="10050"/>
                  <a:pt x="14610" y="10319"/>
                </a:cubicBezTo>
                <a:cubicBezTo>
                  <a:pt x="14620" y="10484"/>
                  <a:pt x="14608" y="10698"/>
                  <a:pt x="14709" y="10840"/>
                </a:cubicBezTo>
                <a:cubicBezTo>
                  <a:pt x="14771" y="10928"/>
                  <a:pt x="14915" y="11083"/>
                  <a:pt x="15007" y="11137"/>
                </a:cubicBezTo>
                <a:cubicBezTo>
                  <a:pt x="15088" y="11164"/>
                  <a:pt x="15119" y="11173"/>
                  <a:pt x="15180" y="11162"/>
                </a:cubicBezTo>
              </a:path>
              <a:path w="8782" h="2432">
                <a:moveTo>
                  <a:pt x="17115" y="8954"/>
                </a:moveTo>
                <a:cubicBezTo>
                  <a:pt x="17223" y="9035"/>
                  <a:pt x="17270" y="9098"/>
                  <a:pt x="17338" y="9203"/>
                </a:cubicBezTo>
                <a:cubicBezTo>
                  <a:pt x="17436" y="9355"/>
                  <a:pt x="17518" y="9450"/>
                  <a:pt x="17587" y="9624"/>
                </a:cubicBezTo>
                <a:cubicBezTo>
                  <a:pt x="17669" y="9830"/>
                  <a:pt x="17743" y="10044"/>
                  <a:pt x="17735" y="10269"/>
                </a:cubicBezTo>
                <a:cubicBezTo>
                  <a:pt x="17728" y="10467"/>
                  <a:pt x="17698" y="10653"/>
                  <a:pt x="17636" y="10840"/>
                </a:cubicBezTo>
                <a:cubicBezTo>
                  <a:pt x="17523" y="11177"/>
                  <a:pt x="17527" y="11261"/>
                  <a:pt x="17214" y="11385"/>
                </a:cubicBezTo>
              </a:path>
              <a:path w="8782" h="2432">
                <a:moveTo>
                  <a:pt x="13047" y="9302"/>
                </a:moveTo>
                <a:cubicBezTo>
                  <a:pt x="13088" y="9261"/>
                  <a:pt x="13122" y="9246"/>
                  <a:pt x="13171" y="9227"/>
                </a:cubicBezTo>
                <a:cubicBezTo>
                  <a:pt x="13286" y="9182"/>
                  <a:pt x="13398" y="9178"/>
                  <a:pt x="13519" y="9178"/>
                </a:cubicBezTo>
                <a:cubicBezTo>
                  <a:pt x="13575" y="9178"/>
                  <a:pt x="13690" y="9227"/>
                  <a:pt x="13717" y="9277"/>
                </a:cubicBezTo>
                <a:cubicBezTo>
                  <a:pt x="13752" y="9344"/>
                  <a:pt x="13692" y="9491"/>
                  <a:pt x="13667" y="9550"/>
                </a:cubicBezTo>
                <a:cubicBezTo>
                  <a:pt x="13607" y="9692"/>
                  <a:pt x="13509" y="9802"/>
                  <a:pt x="13419" y="9922"/>
                </a:cubicBezTo>
                <a:cubicBezTo>
                  <a:pt x="13369" y="9989"/>
                  <a:pt x="13354" y="10020"/>
                  <a:pt x="13345" y="10096"/>
                </a:cubicBezTo>
                <a:cubicBezTo>
                  <a:pt x="13428" y="10066"/>
                  <a:pt x="13510" y="10022"/>
                  <a:pt x="13593" y="9996"/>
                </a:cubicBezTo>
                <a:cubicBezTo>
                  <a:pt x="13713" y="9966"/>
                  <a:pt x="13765" y="9948"/>
                  <a:pt x="13841" y="9897"/>
                </a:cubicBezTo>
              </a:path>
              <a:path w="8782" h="2432">
                <a:moveTo>
                  <a:pt x="19199" y="8979"/>
                </a:moveTo>
                <a:cubicBezTo>
                  <a:pt x="19126" y="8967"/>
                  <a:pt x="19075" y="8929"/>
                  <a:pt x="19025" y="9029"/>
                </a:cubicBezTo>
                <a:cubicBezTo>
                  <a:pt x="18960" y="9157"/>
                  <a:pt x="18908" y="9370"/>
                  <a:pt x="18876" y="9500"/>
                </a:cubicBezTo>
                <a:cubicBezTo>
                  <a:pt x="18826" y="9703"/>
                  <a:pt x="18788" y="9915"/>
                  <a:pt x="18752" y="10120"/>
                </a:cubicBezTo>
                <a:cubicBezTo>
                  <a:pt x="18712" y="10349"/>
                  <a:pt x="18723" y="10627"/>
                  <a:pt x="18827" y="10840"/>
                </a:cubicBezTo>
                <a:cubicBezTo>
                  <a:pt x="18900" y="10989"/>
                  <a:pt x="19085" y="11113"/>
                  <a:pt x="19248" y="11137"/>
                </a:cubicBezTo>
                <a:cubicBezTo>
                  <a:pt x="19281" y="11137"/>
                  <a:pt x="19315" y="11137"/>
                  <a:pt x="19348" y="11137"/>
                </a:cubicBezTo>
              </a:path>
              <a:path w="8782" h="2432">
                <a:moveTo>
                  <a:pt x="20141" y="9103"/>
                </a:moveTo>
                <a:cubicBezTo>
                  <a:pt x="20216" y="9085"/>
                  <a:pt x="20278" y="9061"/>
                  <a:pt x="20365" y="9103"/>
                </a:cubicBezTo>
                <a:cubicBezTo>
                  <a:pt x="20518" y="9177"/>
                  <a:pt x="20622" y="9329"/>
                  <a:pt x="20687" y="9475"/>
                </a:cubicBezTo>
                <a:cubicBezTo>
                  <a:pt x="20754" y="9626"/>
                  <a:pt x="20783" y="9783"/>
                  <a:pt x="20786" y="9947"/>
                </a:cubicBezTo>
                <a:cubicBezTo>
                  <a:pt x="20790" y="10143"/>
                  <a:pt x="20765" y="10264"/>
                  <a:pt x="20712" y="10443"/>
                </a:cubicBezTo>
                <a:cubicBezTo>
                  <a:pt x="20669" y="10590"/>
                  <a:pt x="20601" y="10773"/>
                  <a:pt x="20489" y="10889"/>
                </a:cubicBezTo>
                <a:cubicBezTo>
                  <a:pt x="20449" y="10930"/>
                  <a:pt x="20404" y="10942"/>
                  <a:pt x="20365" y="10964"/>
                </a:cubicBezTo>
              </a:path>
              <a:path w="8782" h="2432">
                <a:moveTo>
                  <a:pt x="20811" y="9327"/>
                </a:moveTo>
                <a:cubicBezTo>
                  <a:pt x="20897" y="9269"/>
                  <a:pt x="21003" y="9261"/>
                  <a:pt x="21109" y="9277"/>
                </a:cubicBezTo>
                <a:cubicBezTo>
                  <a:pt x="21199" y="9291"/>
                  <a:pt x="21295" y="9307"/>
                  <a:pt x="21382" y="9327"/>
                </a:cubicBezTo>
                <a:cubicBezTo>
                  <a:pt x="21442" y="9341"/>
                  <a:pt x="21536" y="9411"/>
                  <a:pt x="21555" y="9475"/>
                </a:cubicBezTo>
                <a:cubicBezTo>
                  <a:pt x="21575" y="9543"/>
                  <a:pt x="21504" y="9660"/>
                  <a:pt x="21456" y="9699"/>
                </a:cubicBezTo>
                <a:cubicBezTo>
                  <a:pt x="21365" y="9773"/>
                  <a:pt x="21239" y="9824"/>
                  <a:pt x="21134" y="9872"/>
                </a:cubicBezTo>
                <a:cubicBezTo>
                  <a:pt x="21084" y="9895"/>
                  <a:pt x="21034" y="9922"/>
                  <a:pt x="20985" y="9947"/>
                </a:cubicBezTo>
                <a:cubicBezTo>
                  <a:pt x="21074" y="10050"/>
                  <a:pt x="21125" y="10021"/>
                  <a:pt x="21258" y="10046"/>
                </a:cubicBezTo>
                <a:cubicBezTo>
                  <a:pt x="21423" y="10077"/>
                  <a:pt x="21593" y="10118"/>
                  <a:pt x="21754" y="10170"/>
                </a:cubicBezTo>
                <a:cubicBezTo>
                  <a:pt x="21779" y="10178"/>
                  <a:pt x="21803" y="10187"/>
                  <a:pt x="21828" y="101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Ink 12"/>
          <p:cNvSpPr/>
          <p:nvPr/>
        </p:nvSpPr>
        <p:spPr>
          <a:xfrm>
            <a:off x="6161040" y="4125960"/>
            <a:ext cx="1322280" cy="473040"/>
          </a:xfrm>
          <a:custGeom>
            <a:avLst/>
            <a:gdLst/>
            <a:ahLst/>
            <a:rect l="l" t="t" r="r" b="b"/>
            <a:pathLst>
              <a:path w="3672" h="1315">
                <a:moveTo>
                  <a:pt x="17264" y="11609"/>
                </a:moveTo>
                <a:cubicBezTo>
                  <a:pt x="17251" y="11654"/>
                  <a:pt x="17157" y="11737"/>
                  <a:pt x="17214" y="11708"/>
                </a:cubicBezTo>
                <a:cubicBezTo>
                  <a:pt x="17253" y="11684"/>
                  <a:pt x="17295" y="11653"/>
                  <a:pt x="17338" y="11633"/>
                </a:cubicBezTo>
                <a:cubicBezTo>
                  <a:pt x="17411" y="11599"/>
                  <a:pt x="17511" y="11587"/>
                  <a:pt x="17587" y="11584"/>
                </a:cubicBezTo>
                <a:cubicBezTo>
                  <a:pt x="17686" y="11580"/>
                  <a:pt x="17813" y="11581"/>
                  <a:pt x="17909" y="11559"/>
                </a:cubicBezTo>
                <a:cubicBezTo>
                  <a:pt x="17995" y="11539"/>
                  <a:pt x="18033" y="11544"/>
                  <a:pt x="18107" y="11559"/>
                </a:cubicBezTo>
                <a:cubicBezTo>
                  <a:pt x="18124" y="11559"/>
                  <a:pt x="18140" y="11559"/>
                  <a:pt x="18157" y="11559"/>
                </a:cubicBezTo>
                <a:cubicBezTo>
                  <a:pt x="18084" y="11632"/>
                  <a:pt x="18019" y="11698"/>
                  <a:pt x="17934" y="11757"/>
                </a:cubicBezTo>
                <a:cubicBezTo>
                  <a:pt x="17810" y="11843"/>
                  <a:pt x="17703" y="11937"/>
                  <a:pt x="17587" y="12030"/>
                </a:cubicBezTo>
                <a:cubicBezTo>
                  <a:pt x="17470" y="12124"/>
                  <a:pt x="17365" y="12220"/>
                  <a:pt x="17264" y="12328"/>
                </a:cubicBezTo>
                <a:cubicBezTo>
                  <a:pt x="17180" y="12419"/>
                  <a:pt x="17127" y="12434"/>
                  <a:pt x="17115" y="12551"/>
                </a:cubicBezTo>
                <a:cubicBezTo>
                  <a:pt x="17207" y="12613"/>
                  <a:pt x="17272" y="12601"/>
                  <a:pt x="17388" y="12601"/>
                </a:cubicBezTo>
                <a:cubicBezTo>
                  <a:pt x="17649" y="12601"/>
                  <a:pt x="17967" y="12654"/>
                  <a:pt x="18207" y="12551"/>
                </a:cubicBezTo>
              </a:path>
              <a:path w="3672" h="1315">
                <a:moveTo>
                  <a:pt x="18331" y="11757"/>
                </a:moveTo>
                <a:cubicBezTo>
                  <a:pt x="18420" y="11791"/>
                  <a:pt x="18506" y="11782"/>
                  <a:pt x="18604" y="11782"/>
                </a:cubicBezTo>
                <a:cubicBezTo>
                  <a:pt x="18664" y="11782"/>
                  <a:pt x="18718" y="11800"/>
                  <a:pt x="18777" y="11807"/>
                </a:cubicBezTo>
              </a:path>
              <a:path w="3672" h="1315">
                <a:moveTo>
                  <a:pt x="18355" y="12080"/>
                </a:moveTo>
                <a:cubicBezTo>
                  <a:pt x="18430" y="12135"/>
                  <a:pt x="18481" y="12150"/>
                  <a:pt x="18579" y="12154"/>
                </a:cubicBezTo>
                <a:cubicBezTo>
                  <a:pt x="18697" y="12159"/>
                  <a:pt x="18787" y="12135"/>
                  <a:pt x="18901" y="12105"/>
                </a:cubicBezTo>
              </a:path>
              <a:path w="3672" h="1315">
                <a:moveTo>
                  <a:pt x="19348" y="11609"/>
                </a:moveTo>
                <a:cubicBezTo>
                  <a:pt x="19325" y="11773"/>
                  <a:pt x="19282" y="11963"/>
                  <a:pt x="19298" y="12129"/>
                </a:cubicBezTo>
                <a:cubicBezTo>
                  <a:pt x="19314" y="12291"/>
                  <a:pt x="19316" y="12466"/>
                  <a:pt x="19348" y="12626"/>
                </a:cubicBezTo>
                <a:cubicBezTo>
                  <a:pt x="19358" y="12679"/>
                  <a:pt x="19387" y="12723"/>
                  <a:pt x="19397" y="12774"/>
                </a:cubicBezTo>
              </a:path>
              <a:path w="3672" h="1315">
                <a:moveTo>
                  <a:pt x="19670" y="11609"/>
                </a:moveTo>
                <a:cubicBezTo>
                  <a:pt x="19769" y="11516"/>
                  <a:pt x="19811" y="11475"/>
                  <a:pt x="19943" y="11460"/>
                </a:cubicBezTo>
                <a:cubicBezTo>
                  <a:pt x="20041" y="11449"/>
                  <a:pt x="20195" y="11511"/>
                  <a:pt x="20265" y="11584"/>
                </a:cubicBezTo>
                <a:cubicBezTo>
                  <a:pt x="20342" y="11664"/>
                  <a:pt x="20358" y="11774"/>
                  <a:pt x="20340" y="11881"/>
                </a:cubicBezTo>
                <a:cubicBezTo>
                  <a:pt x="20314" y="12035"/>
                  <a:pt x="20230" y="12133"/>
                  <a:pt x="20141" y="12254"/>
                </a:cubicBezTo>
                <a:cubicBezTo>
                  <a:pt x="20064" y="12358"/>
                  <a:pt x="19977" y="12414"/>
                  <a:pt x="19869" y="12477"/>
                </a:cubicBezTo>
                <a:cubicBezTo>
                  <a:pt x="19798" y="12518"/>
                  <a:pt x="19744" y="12564"/>
                  <a:pt x="19670" y="12601"/>
                </a:cubicBezTo>
                <a:cubicBezTo>
                  <a:pt x="19755" y="12638"/>
                  <a:pt x="19892" y="12641"/>
                  <a:pt x="19993" y="12626"/>
                </a:cubicBezTo>
                <a:cubicBezTo>
                  <a:pt x="20131" y="12606"/>
                  <a:pt x="20272" y="12584"/>
                  <a:pt x="20414" y="12601"/>
                </a:cubicBezTo>
                <a:cubicBezTo>
                  <a:pt x="20523" y="12614"/>
                  <a:pt x="20629" y="12644"/>
                  <a:pt x="20737" y="12650"/>
                </a:cubicBezTo>
                <a:cubicBezTo>
                  <a:pt x="20753" y="12650"/>
                  <a:pt x="20770" y="12650"/>
                  <a:pt x="20786" y="1265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Ink 13"/>
          <p:cNvSpPr/>
          <p:nvPr/>
        </p:nvSpPr>
        <p:spPr>
          <a:xfrm>
            <a:off x="6392880" y="4714920"/>
            <a:ext cx="1332000" cy="401760"/>
          </a:xfrm>
          <a:custGeom>
            <a:avLst/>
            <a:gdLst/>
            <a:ahLst/>
            <a:rect l="l" t="t" r="r" b="b"/>
            <a:pathLst>
              <a:path w="3697" h="1117">
                <a:moveTo>
                  <a:pt x="18306" y="13543"/>
                </a:moveTo>
                <a:cubicBezTo>
                  <a:pt x="18258" y="13489"/>
                  <a:pt x="18220" y="13399"/>
                  <a:pt x="18132" y="13419"/>
                </a:cubicBezTo>
                <a:cubicBezTo>
                  <a:pt x="18082" y="13430"/>
                  <a:pt x="17987" y="13550"/>
                  <a:pt x="17959" y="13593"/>
                </a:cubicBezTo>
                <a:cubicBezTo>
                  <a:pt x="17879" y="13717"/>
                  <a:pt x="17792" y="13898"/>
                  <a:pt x="17760" y="14039"/>
                </a:cubicBezTo>
                <a:cubicBezTo>
                  <a:pt x="17734" y="14154"/>
                  <a:pt x="17780" y="14207"/>
                  <a:pt x="17884" y="14213"/>
                </a:cubicBezTo>
                <a:cubicBezTo>
                  <a:pt x="18007" y="14220"/>
                  <a:pt x="18064" y="14154"/>
                  <a:pt x="18157" y="14089"/>
                </a:cubicBezTo>
                <a:cubicBezTo>
                  <a:pt x="18265" y="14014"/>
                  <a:pt x="18380" y="13854"/>
                  <a:pt x="18405" y="13717"/>
                </a:cubicBezTo>
                <a:cubicBezTo>
                  <a:pt x="18415" y="13665"/>
                  <a:pt x="18405" y="13596"/>
                  <a:pt x="18405" y="13543"/>
                </a:cubicBezTo>
                <a:cubicBezTo>
                  <a:pt x="18258" y="13561"/>
                  <a:pt x="18284" y="13657"/>
                  <a:pt x="18281" y="13791"/>
                </a:cubicBezTo>
                <a:cubicBezTo>
                  <a:pt x="18278" y="13899"/>
                  <a:pt x="18313" y="13970"/>
                  <a:pt x="18355" y="14064"/>
                </a:cubicBezTo>
                <a:cubicBezTo>
                  <a:pt x="18385" y="14131"/>
                  <a:pt x="18444" y="14215"/>
                  <a:pt x="18529" y="14188"/>
                </a:cubicBezTo>
                <a:cubicBezTo>
                  <a:pt x="18628" y="14157"/>
                  <a:pt x="18702" y="13974"/>
                  <a:pt x="18728" y="13891"/>
                </a:cubicBezTo>
                <a:cubicBezTo>
                  <a:pt x="18746" y="13833"/>
                  <a:pt x="18791" y="13679"/>
                  <a:pt x="18777" y="13618"/>
                </a:cubicBezTo>
                <a:cubicBezTo>
                  <a:pt x="18755" y="13574"/>
                  <a:pt x="18752" y="13563"/>
                  <a:pt x="18728" y="13543"/>
                </a:cubicBezTo>
                <a:cubicBezTo>
                  <a:pt x="18766" y="13620"/>
                  <a:pt x="18763" y="13662"/>
                  <a:pt x="18777" y="13742"/>
                </a:cubicBezTo>
                <a:cubicBezTo>
                  <a:pt x="18796" y="13848"/>
                  <a:pt x="18814" y="13892"/>
                  <a:pt x="18777" y="13990"/>
                </a:cubicBezTo>
                <a:cubicBezTo>
                  <a:pt x="18806" y="13902"/>
                  <a:pt x="18826" y="13810"/>
                  <a:pt x="18852" y="13717"/>
                </a:cubicBezTo>
                <a:cubicBezTo>
                  <a:pt x="18877" y="13627"/>
                  <a:pt x="18898" y="13499"/>
                  <a:pt x="18951" y="13419"/>
                </a:cubicBezTo>
                <a:cubicBezTo>
                  <a:pt x="18976" y="13395"/>
                  <a:pt x="18984" y="13387"/>
                  <a:pt x="19000" y="13370"/>
                </a:cubicBezTo>
                <a:cubicBezTo>
                  <a:pt x="19031" y="13442"/>
                  <a:pt x="19033" y="13492"/>
                  <a:pt x="19050" y="13568"/>
                </a:cubicBezTo>
                <a:cubicBezTo>
                  <a:pt x="19069" y="13656"/>
                  <a:pt x="19074" y="13756"/>
                  <a:pt x="19100" y="13841"/>
                </a:cubicBezTo>
                <a:cubicBezTo>
                  <a:pt x="19123" y="13889"/>
                  <a:pt x="19131" y="13904"/>
                  <a:pt x="19124" y="13940"/>
                </a:cubicBezTo>
                <a:cubicBezTo>
                  <a:pt x="19141" y="13805"/>
                  <a:pt x="19168" y="13669"/>
                  <a:pt x="19224" y="13543"/>
                </a:cubicBezTo>
                <a:cubicBezTo>
                  <a:pt x="19261" y="13459"/>
                  <a:pt x="19317" y="13415"/>
                  <a:pt x="19397" y="13395"/>
                </a:cubicBezTo>
                <a:cubicBezTo>
                  <a:pt x="19435" y="13452"/>
                  <a:pt x="19464" y="13495"/>
                  <a:pt x="19472" y="13568"/>
                </a:cubicBezTo>
                <a:cubicBezTo>
                  <a:pt x="19486" y="13699"/>
                  <a:pt x="19443" y="13842"/>
                  <a:pt x="19496" y="13965"/>
                </a:cubicBezTo>
                <a:cubicBezTo>
                  <a:pt x="19513" y="13998"/>
                  <a:pt x="19529" y="14031"/>
                  <a:pt x="19546" y="14064"/>
                </a:cubicBezTo>
              </a:path>
              <a:path w="3697" h="1117">
                <a:moveTo>
                  <a:pt x="19670" y="13171"/>
                </a:moveTo>
                <a:cubicBezTo>
                  <a:pt x="19675" y="13251"/>
                  <a:pt x="19677" y="13413"/>
                  <a:pt x="19695" y="13519"/>
                </a:cubicBezTo>
                <a:cubicBezTo>
                  <a:pt x="19717" y="13651"/>
                  <a:pt x="19756" y="13781"/>
                  <a:pt x="19769" y="13915"/>
                </a:cubicBezTo>
                <a:cubicBezTo>
                  <a:pt x="19769" y="13940"/>
                  <a:pt x="19769" y="13965"/>
                  <a:pt x="19769" y="13990"/>
                </a:cubicBezTo>
                <a:cubicBezTo>
                  <a:pt x="19769" y="14149"/>
                  <a:pt x="19751" y="14058"/>
                  <a:pt x="19769" y="13965"/>
                </a:cubicBezTo>
                <a:cubicBezTo>
                  <a:pt x="19805" y="13779"/>
                  <a:pt x="19852" y="13695"/>
                  <a:pt x="19943" y="13543"/>
                </a:cubicBezTo>
                <a:cubicBezTo>
                  <a:pt x="19995" y="13457"/>
                  <a:pt x="19983" y="13450"/>
                  <a:pt x="20067" y="13419"/>
                </a:cubicBezTo>
                <a:cubicBezTo>
                  <a:pt x="20118" y="13571"/>
                  <a:pt x="20106" y="13603"/>
                  <a:pt x="20092" y="13767"/>
                </a:cubicBezTo>
                <a:cubicBezTo>
                  <a:pt x="20086" y="13831"/>
                  <a:pt x="20046" y="13940"/>
                  <a:pt x="19993" y="13990"/>
                </a:cubicBezTo>
                <a:cubicBezTo>
                  <a:pt x="19907" y="14071"/>
                  <a:pt x="19823" y="13997"/>
                  <a:pt x="19745" y="13965"/>
                </a:cubicBezTo>
                <a:cubicBezTo>
                  <a:pt x="19697" y="13945"/>
                  <a:pt x="19682" y="13922"/>
                  <a:pt x="19645" y="13891"/>
                </a:cubicBezTo>
                <a:cubicBezTo>
                  <a:pt x="19746" y="13802"/>
                  <a:pt x="19745" y="13827"/>
                  <a:pt x="19869" y="13841"/>
                </a:cubicBezTo>
                <a:cubicBezTo>
                  <a:pt x="19946" y="13850"/>
                  <a:pt x="20068" y="13879"/>
                  <a:pt x="20141" y="13866"/>
                </a:cubicBezTo>
                <a:cubicBezTo>
                  <a:pt x="20232" y="13849"/>
                  <a:pt x="20361" y="13855"/>
                  <a:pt x="20439" y="13791"/>
                </a:cubicBezTo>
                <a:cubicBezTo>
                  <a:pt x="20512" y="13730"/>
                  <a:pt x="20584" y="13663"/>
                  <a:pt x="20513" y="13568"/>
                </a:cubicBezTo>
                <a:cubicBezTo>
                  <a:pt x="20453" y="13488"/>
                  <a:pt x="20375" y="13421"/>
                  <a:pt x="20290" y="13395"/>
                </a:cubicBezTo>
                <a:cubicBezTo>
                  <a:pt x="20265" y="13387"/>
                  <a:pt x="20241" y="13378"/>
                  <a:pt x="20216" y="13370"/>
                </a:cubicBezTo>
                <a:cubicBezTo>
                  <a:pt x="20155" y="13430"/>
                  <a:pt x="20119" y="13439"/>
                  <a:pt x="20141" y="13543"/>
                </a:cubicBezTo>
                <a:cubicBezTo>
                  <a:pt x="20167" y="13670"/>
                  <a:pt x="20228" y="13750"/>
                  <a:pt x="20315" y="13841"/>
                </a:cubicBezTo>
                <a:cubicBezTo>
                  <a:pt x="20387" y="13916"/>
                  <a:pt x="20457" y="13973"/>
                  <a:pt x="20563" y="13990"/>
                </a:cubicBezTo>
                <a:cubicBezTo>
                  <a:pt x="20704" y="14013"/>
                  <a:pt x="20807" y="13880"/>
                  <a:pt x="20861" y="13767"/>
                </a:cubicBezTo>
                <a:cubicBezTo>
                  <a:pt x="20911" y="13664"/>
                  <a:pt x="20910" y="13555"/>
                  <a:pt x="20910" y="13444"/>
                </a:cubicBezTo>
                <a:cubicBezTo>
                  <a:pt x="20871" y="13357"/>
                  <a:pt x="20810" y="13170"/>
                  <a:pt x="20910" y="13469"/>
                </a:cubicBezTo>
                <a:cubicBezTo>
                  <a:pt x="20954" y="13601"/>
                  <a:pt x="20955" y="13733"/>
                  <a:pt x="20985" y="13866"/>
                </a:cubicBezTo>
                <a:cubicBezTo>
                  <a:pt x="21010" y="13977"/>
                  <a:pt x="21013" y="14038"/>
                  <a:pt x="20985" y="14139"/>
                </a:cubicBezTo>
                <a:cubicBezTo>
                  <a:pt x="20910" y="13990"/>
                  <a:pt x="20938" y="13837"/>
                  <a:pt x="20960" y="13667"/>
                </a:cubicBezTo>
                <a:cubicBezTo>
                  <a:pt x="20979" y="13525"/>
                  <a:pt x="21068" y="13341"/>
                  <a:pt x="21134" y="13221"/>
                </a:cubicBezTo>
                <a:cubicBezTo>
                  <a:pt x="21175" y="13146"/>
                  <a:pt x="21278" y="13101"/>
                  <a:pt x="21357" y="13097"/>
                </a:cubicBezTo>
                <a:cubicBezTo>
                  <a:pt x="21481" y="13090"/>
                  <a:pt x="21435" y="13163"/>
                  <a:pt x="21431" y="13221"/>
                </a:cubicBezTo>
                <a:cubicBezTo>
                  <a:pt x="21431" y="13229"/>
                  <a:pt x="21431" y="13238"/>
                  <a:pt x="21431" y="132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Ink 14"/>
          <p:cNvSpPr/>
          <p:nvPr/>
        </p:nvSpPr>
        <p:spPr>
          <a:xfrm>
            <a:off x="3062160" y="2276640"/>
            <a:ext cx="420840" cy="304560"/>
          </a:xfrm>
          <a:custGeom>
            <a:avLst/>
            <a:gdLst/>
            <a:ahLst/>
            <a:rect l="l" t="t" r="r" b="b"/>
            <a:pathLst>
              <a:path w="1167" h="845">
                <a:moveTo>
                  <a:pt x="8682" y="6325"/>
                </a:moveTo>
                <a:cubicBezTo>
                  <a:pt x="8742" y="6387"/>
                  <a:pt x="8764" y="6401"/>
                  <a:pt x="8781" y="6499"/>
                </a:cubicBezTo>
                <a:cubicBezTo>
                  <a:pt x="8802" y="6618"/>
                  <a:pt x="8743" y="6755"/>
                  <a:pt x="8731" y="6871"/>
                </a:cubicBezTo>
                <a:cubicBezTo>
                  <a:pt x="8720" y="6972"/>
                  <a:pt x="8693" y="7069"/>
                  <a:pt x="8682" y="7169"/>
                </a:cubicBezTo>
              </a:path>
              <a:path w="1167" h="845">
                <a:moveTo>
                  <a:pt x="8508" y="6772"/>
                </a:moveTo>
                <a:cubicBezTo>
                  <a:pt x="8617" y="6772"/>
                  <a:pt x="8699" y="6783"/>
                  <a:pt x="8806" y="6796"/>
                </a:cubicBezTo>
                <a:cubicBezTo>
                  <a:pt x="8898" y="6807"/>
                  <a:pt x="8987" y="6844"/>
                  <a:pt x="9079" y="6846"/>
                </a:cubicBezTo>
                <a:cubicBezTo>
                  <a:pt x="9128" y="6846"/>
                  <a:pt x="9178" y="6846"/>
                  <a:pt x="9227" y="6846"/>
                </a:cubicBezTo>
              </a:path>
              <a:path w="1167" h="845">
                <a:moveTo>
                  <a:pt x="9674" y="6400"/>
                </a:moveTo>
                <a:cubicBezTo>
                  <a:pt x="9612" y="6375"/>
                  <a:pt x="9551" y="6412"/>
                  <a:pt x="9500" y="6474"/>
                </a:cubicBezTo>
                <a:cubicBezTo>
                  <a:pt x="9424" y="6567"/>
                  <a:pt x="9435" y="6675"/>
                  <a:pt x="9376" y="6772"/>
                </a:cubicBezTo>
                <a:cubicBezTo>
                  <a:pt x="9340" y="6832"/>
                  <a:pt x="9296" y="6913"/>
                  <a:pt x="9327" y="6995"/>
                </a:cubicBezTo>
                <a:cubicBezTo>
                  <a:pt x="9355" y="7070"/>
                  <a:pt x="9444" y="7066"/>
                  <a:pt x="9500" y="7045"/>
                </a:cubicBezTo>
                <a:cubicBezTo>
                  <a:pt x="9561" y="7023"/>
                  <a:pt x="9604" y="6989"/>
                  <a:pt x="9649" y="6945"/>
                </a:cubicBezTo>
                <a:cubicBezTo>
                  <a:pt x="9685" y="6910"/>
                  <a:pt x="9684" y="6838"/>
                  <a:pt x="9624" y="6821"/>
                </a:cubicBezTo>
                <a:cubicBezTo>
                  <a:pt x="9555" y="6801"/>
                  <a:pt x="9447" y="6821"/>
                  <a:pt x="9376" y="682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Ink 15"/>
          <p:cNvSpPr/>
          <p:nvPr/>
        </p:nvSpPr>
        <p:spPr>
          <a:xfrm>
            <a:off x="1374840" y="3027240"/>
            <a:ext cx="1206360" cy="1598760"/>
          </a:xfrm>
          <a:custGeom>
            <a:avLst/>
            <a:gdLst/>
            <a:ahLst/>
            <a:rect l="l" t="t" r="r" b="b"/>
            <a:pathLst>
              <a:path w="3350" h="4441">
                <a:moveTo>
                  <a:pt x="5507" y="8756"/>
                </a:moveTo>
                <a:cubicBezTo>
                  <a:pt x="5689" y="8715"/>
                  <a:pt x="5871" y="8674"/>
                  <a:pt x="6052" y="8632"/>
                </a:cubicBezTo>
                <a:cubicBezTo>
                  <a:pt x="6243" y="8588"/>
                  <a:pt x="6432" y="8568"/>
                  <a:pt x="6623" y="8533"/>
                </a:cubicBezTo>
                <a:cubicBezTo>
                  <a:pt x="6754" y="8509"/>
                  <a:pt x="6890" y="8449"/>
                  <a:pt x="7020" y="8434"/>
                </a:cubicBezTo>
                <a:cubicBezTo>
                  <a:pt x="7105" y="8434"/>
                  <a:pt x="7125" y="8440"/>
                  <a:pt x="7169" y="8409"/>
                </a:cubicBezTo>
              </a:path>
              <a:path w="3350" h="4441">
                <a:moveTo>
                  <a:pt x="6325" y="8905"/>
                </a:moveTo>
                <a:cubicBezTo>
                  <a:pt x="6424" y="8895"/>
                  <a:pt x="6632" y="8856"/>
                  <a:pt x="6747" y="8880"/>
                </a:cubicBezTo>
                <a:cubicBezTo>
                  <a:pt x="6763" y="8888"/>
                  <a:pt x="6780" y="8897"/>
                  <a:pt x="6796" y="8905"/>
                </a:cubicBezTo>
                <a:cubicBezTo>
                  <a:pt x="6816" y="8945"/>
                  <a:pt x="6774" y="9038"/>
                  <a:pt x="6722" y="9079"/>
                </a:cubicBezTo>
                <a:cubicBezTo>
                  <a:pt x="6626" y="9153"/>
                  <a:pt x="6500" y="9198"/>
                  <a:pt x="6424" y="9302"/>
                </a:cubicBezTo>
                <a:cubicBezTo>
                  <a:pt x="6348" y="9406"/>
                  <a:pt x="6308" y="9560"/>
                  <a:pt x="6474" y="9624"/>
                </a:cubicBezTo>
                <a:cubicBezTo>
                  <a:pt x="6566" y="9660"/>
                  <a:pt x="6677" y="9635"/>
                  <a:pt x="6772" y="9674"/>
                </a:cubicBezTo>
                <a:cubicBezTo>
                  <a:pt x="6812" y="9694"/>
                  <a:pt x="6818" y="9703"/>
                  <a:pt x="6846" y="9699"/>
                </a:cubicBezTo>
              </a:path>
              <a:path w="3350" h="4441">
                <a:moveTo>
                  <a:pt x="3820" y="10368"/>
                </a:moveTo>
                <a:cubicBezTo>
                  <a:pt x="3820" y="10554"/>
                  <a:pt x="3821" y="10707"/>
                  <a:pt x="3870" y="10889"/>
                </a:cubicBezTo>
                <a:cubicBezTo>
                  <a:pt x="3883" y="10938"/>
                  <a:pt x="3910" y="11091"/>
                  <a:pt x="3969" y="11112"/>
                </a:cubicBezTo>
                <a:cubicBezTo>
                  <a:pt x="4100" y="11158"/>
                  <a:pt x="4117" y="11020"/>
                  <a:pt x="4142" y="10939"/>
                </a:cubicBezTo>
                <a:cubicBezTo>
                  <a:pt x="4179" y="10819"/>
                  <a:pt x="4220" y="10707"/>
                  <a:pt x="4266" y="10592"/>
                </a:cubicBezTo>
                <a:cubicBezTo>
                  <a:pt x="4299" y="10509"/>
                  <a:pt x="4331" y="10426"/>
                  <a:pt x="4366" y="10344"/>
                </a:cubicBezTo>
              </a:path>
              <a:path w="3350" h="4441">
                <a:moveTo>
                  <a:pt x="4738" y="10244"/>
                </a:moveTo>
                <a:cubicBezTo>
                  <a:pt x="4853" y="10227"/>
                  <a:pt x="4946" y="10220"/>
                  <a:pt x="5060" y="10220"/>
                </a:cubicBezTo>
                <a:cubicBezTo>
                  <a:pt x="5168" y="10220"/>
                  <a:pt x="5176" y="10220"/>
                  <a:pt x="5234" y="10220"/>
                </a:cubicBezTo>
              </a:path>
              <a:path w="3350" h="4441">
                <a:moveTo>
                  <a:pt x="4887" y="10740"/>
                </a:moveTo>
                <a:cubicBezTo>
                  <a:pt x="5032" y="10756"/>
                  <a:pt x="5164" y="10765"/>
                  <a:pt x="5308" y="10765"/>
                </a:cubicBezTo>
                <a:cubicBezTo>
                  <a:pt x="5406" y="10765"/>
                  <a:pt x="5424" y="10758"/>
                  <a:pt x="5482" y="10691"/>
                </a:cubicBezTo>
              </a:path>
              <a:path w="3350" h="4441">
                <a:moveTo>
                  <a:pt x="5854" y="10145"/>
                </a:moveTo>
                <a:cubicBezTo>
                  <a:pt x="5875" y="10314"/>
                  <a:pt x="5879" y="10470"/>
                  <a:pt x="5879" y="10641"/>
                </a:cubicBezTo>
                <a:cubicBezTo>
                  <a:pt x="5879" y="10754"/>
                  <a:pt x="5866" y="10843"/>
                  <a:pt x="5928" y="10939"/>
                </a:cubicBezTo>
              </a:path>
              <a:path w="3350" h="4441">
                <a:moveTo>
                  <a:pt x="6028" y="10170"/>
                </a:moveTo>
                <a:cubicBezTo>
                  <a:pt x="6035" y="10103"/>
                  <a:pt x="6040" y="10037"/>
                  <a:pt x="6127" y="10021"/>
                </a:cubicBezTo>
                <a:cubicBezTo>
                  <a:pt x="6205" y="10007"/>
                  <a:pt x="6297" y="10000"/>
                  <a:pt x="6375" y="9996"/>
                </a:cubicBezTo>
                <a:cubicBezTo>
                  <a:pt x="6456" y="9992"/>
                  <a:pt x="6567" y="10041"/>
                  <a:pt x="6598" y="10120"/>
                </a:cubicBezTo>
                <a:cubicBezTo>
                  <a:pt x="6628" y="10196"/>
                  <a:pt x="6510" y="10314"/>
                  <a:pt x="6474" y="10368"/>
                </a:cubicBezTo>
                <a:cubicBezTo>
                  <a:pt x="6413" y="10460"/>
                  <a:pt x="6333" y="10587"/>
                  <a:pt x="6300" y="10691"/>
                </a:cubicBezTo>
                <a:cubicBezTo>
                  <a:pt x="6277" y="10763"/>
                  <a:pt x="6314" y="10849"/>
                  <a:pt x="6375" y="10889"/>
                </a:cubicBezTo>
                <a:cubicBezTo>
                  <a:pt x="6466" y="10950"/>
                  <a:pt x="6595" y="11000"/>
                  <a:pt x="6697" y="11038"/>
                </a:cubicBezTo>
                <a:cubicBezTo>
                  <a:pt x="6779" y="11068"/>
                  <a:pt x="6831" y="11107"/>
                  <a:pt x="6896" y="11162"/>
                </a:cubicBezTo>
                <a:cubicBezTo>
                  <a:pt x="6904" y="11170"/>
                  <a:pt x="6913" y="11179"/>
                  <a:pt x="6921" y="11187"/>
                </a:cubicBezTo>
              </a:path>
              <a:path w="3350" h="4441">
                <a:moveTo>
                  <a:pt x="4291" y="11956"/>
                </a:moveTo>
                <a:cubicBezTo>
                  <a:pt x="4304" y="12072"/>
                  <a:pt x="4331" y="12185"/>
                  <a:pt x="4341" y="12303"/>
                </a:cubicBezTo>
                <a:cubicBezTo>
                  <a:pt x="4347" y="12374"/>
                  <a:pt x="4350" y="12471"/>
                  <a:pt x="4390" y="12526"/>
                </a:cubicBezTo>
                <a:cubicBezTo>
                  <a:pt x="4418" y="12554"/>
                  <a:pt x="4432" y="12563"/>
                  <a:pt x="4465" y="12551"/>
                </a:cubicBezTo>
                <a:cubicBezTo>
                  <a:pt x="4513" y="12479"/>
                  <a:pt x="4503" y="12434"/>
                  <a:pt x="4514" y="12353"/>
                </a:cubicBezTo>
                <a:cubicBezTo>
                  <a:pt x="4528" y="12248"/>
                  <a:pt x="4549" y="12035"/>
                  <a:pt x="4638" y="11956"/>
                </a:cubicBezTo>
                <a:cubicBezTo>
                  <a:pt x="4646" y="11956"/>
                  <a:pt x="4655" y="11956"/>
                  <a:pt x="4663" y="11956"/>
                </a:cubicBezTo>
              </a:path>
              <a:path w="3350" h="4441">
                <a:moveTo>
                  <a:pt x="4762" y="12129"/>
                </a:moveTo>
                <a:cubicBezTo>
                  <a:pt x="4768" y="12218"/>
                  <a:pt x="4779" y="12275"/>
                  <a:pt x="4762" y="12353"/>
                </a:cubicBezTo>
              </a:path>
              <a:path w="3350" h="4441">
                <a:moveTo>
                  <a:pt x="4936" y="11832"/>
                </a:moveTo>
                <a:cubicBezTo>
                  <a:pt x="4928" y="11824"/>
                  <a:pt x="4919" y="11815"/>
                  <a:pt x="4911" y="11807"/>
                </a:cubicBezTo>
              </a:path>
              <a:path w="3350" h="4441">
                <a:moveTo>
                  <a:pt x="5110" y="12105"/>
                </a:moveTo>
                <a:cubicBezTo>
                  <a:pt x="5080" y="12052"/>
                  <a:pt x="5039" y="11981"/>
                  <a:pt x="4961" y="12005"/>
                </a:cubicBezTo>
                <a:cubicBezTo>
                  <a:pt x="4891" y="12027"/>
                  <a:pt x="4911" y="12129"/>
                  <a:pt x="4911" y="12179"/>
                </a:cubicBezTo>
                <a:cubicBezTo>
                  <a:pt x="4911" y="12196"/>
                  <a:pt x="4911" y="12212"/>
                  <a:pt x="4911" y="12229"/>
                </a:cubicBezTo>
                <a:cubicBezTo>
                  <a:pt x="4957" y="12247"/>
                  <a:pt x="5013" y="12242"/>
                  <a:pt x="5060" y="12204"/>
                </a:cubicBezTo>
                <a:cubicBezTo>
                  <a:pt x="5107" y="12166"/>
                  <a:pt x="5125" y="12103"/>
                  <a:pt x="5159" y="12055"/>
                </a:cubicBezTo>
                <a:cubicBezTo>
                  <a:pt x="5224" y="12152"/>
                  <a:pt x="5196" y="12173"/>
                  <a:pt x="5184" y="12278"/>
                </a:cubicBezTo>
                <a:cubicBezTo>
                  <a:pt x="5175" y="12360"/>
                  <a:pt x="5167" y="12476"/>
                  <a:pt x="5135" y="12551"/>
                </a:cubicBezTo>
                <a:cubicBezTo>
                  <a:pt x="5105" y="12581"/>
                  <a:pt x="5094" y="12595"/>
                  <a:pt x="5085" y="12626"/>
                </a:cubicBezTo>
                <a:cubicBezTo>
                  <a:pt x="4994" y="12596"/>
                  <a:pt x="4924" y="12544"/>
                  <a:pt x="4961" y="12427"/>
                </a:cubicBezTo>
                <a:cubicBezTo>
                  <a:pt x="4969" y="12419"/>
                  <a:pt x="4978" y="12410"/>
                  <a:pt x="4986" y="12402"/>
                </a:cubicBezTo>
              </a:path>
              <a:path w="3350" h="4441">
                <a:moveTo>
                  <a:pt x="5457" y="11981"/>
                </a:moveTo>
                <a:cubicBezTo>
                  <a:pt x="5428" y="11894"/>
                  <a:pt x="5360" y="11925"/>
                  <a:pt x="5308" y="12005"/>
                </a:cubicBezTo>
                <a:cubicBezTo>
                  <a:pt x="5275" y="12056"/>
                  <a:pt x="5283" y="12097"/>
                  <a:pt x="5283" y="12154"/>
                </a:cubicBezTo>
                <a:cubicBezTo>
                  <a:pt x="5317" y="12111"/>
                  <a:pt x="5344" y="12070"/>
                  <a:pt x="5383" y="12030"/>
                </a:cubicBezTo>
                <a:cubicBezTo>
                  <a:pt x="5391" y="12022"/>
                  <a:pt x="5399" y="12013"/>
                  <a:pt x="5407" y="12005"/>
                </a:cubicBezTo>
                <a:cubicBezTo>
                  <a:pt x="5443" y="12078"/>
                  <a:pt x="5470" y="12151"/>
                  <a:pt x="5482" y="12229"/>
                </a:cubicBezTo>
                <a:cubicBezTo>
                  <a:pt x="5502" y="12355"/>
                  <a:pt x="5548" y="12276"/>
                  <a:pt x="5606" y="12204"/>
                </a:cubicBezTo>
              </a:path>
              <a:path w="3350" h="4441">
                <a:moveTo>
                  <a:pt x="5655" y="12030"/>
                </a:moveTo>
                <a:cubicBezTo>
                  <a:pt x="5680" y="12144"/>
                  <a:pt x="5669" y="12157"/>
                  <a:pt x="5655" y="12254"/>
                </a:cubicBezTo>
                <a:cubicBezTo>
                  <a:pt x="5693" y="12191"/>
                  <a:pt x="5673" y="12058"/>
                  <a:pt x="5730" y="12005"/>
                </a:cubicBezTo>
                <a:cubicBezTo>
                  <a:pt x="5771" y="12005"/>
                  <a:pt x="5779" y="12005"/>
                  <a:pt x="5804" y="12005"/>
                </a:cubicBezTo>
              </a:path>
              <a:path w="3350" h="4441">
                <a:moveTo>
                  <a:pt x="5928" y="12080"/>
                </a:moveTo>
                <a:cubicBezTo>
                  <a:pt x="5844" y="12092"/>
                  <a:pt x="5843" y="12127"/>
                  <a:pt x="5804" y="12204"/>
                </a:cubicBezTo>
                <a:cubicBezTo>
                  <a:pt x="5878" y="12195"/>
                  <a:pt x="5932" y="12162"/>
                  <a:pt x="5978" y="12105"/>
                </a:cubicBezTo>
                <a:cubicBezTo>
                  <a:pt x="6030" y="12041"/>
                  <a:pt x="6028" y="11958"/>
                  <a:pt x="6028" y="11881"/>
                </a:cubicBezTo>
                <a:cubicBezTo>
                  <a:pt x="6028" y="11815"/>
                  <a:pt x="6028" y="11749"/>
                  <a:pt x="6028" y="11683"/>
                </a:cubicBezTo>
              </a:path>
              <a:path w="3350" h="4441">
                <a:moveTo>
                  <a:pt x="6127" y="11832"/>
                </a:moveTo>
                <a:cubicBezTo>
                  <a:pt x="6165" y="11925"/>
                  <a:pt x="6225" y="12038"/>
                  <a:pt x="6251" y="12129"/>
                </a:cubicBezTo>
                <a:cubicBezTo>
                  <a:pt x="6285" y="12246"/>
                  <a:pt x="6366" y="12144"/>
                  <a:pt x="6424" y="12080"/>
                </a:cubicBezTo>
              </a:path>
              <a:path w="3350" h="4441">
                <a:moveTo>
                  <a:pt x="6524" y="11981"/>
                </a:moveTo>
                <a:cubicBezTo>
                  <a:pt x="6492" y="12059"/>
                  <a:pt x="6423" y="12149"/>
                  <a:pt x="6375" y="12229"/>
                </a:cubicBezTo>
                <a:cubicBezTo>
                  <a:pt x="6286" y="12376"/>
                  <a:pt x="6232" y="12540"/>
                  <a:pt x="6127" y="12675"/>
                </a:cubicBezTo>
                <a:cubicBezTo>
                  <a:pt x="6078" y="12738"/>
                  <a:pt x="6009" y="12793"/>
                  <a:pt x="5953" y="1284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istributive Equ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eorgia"/>
              </a:rPr>
              <a:t>3(2a + 5) = 57</a:t>
            </a:r>
            <a:endParaRPr b="0" lang="en-US" sz="6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Ink 4"/>
          <p:cNvSpPr/>
          <p:nvPr/>
        </p:nvSpPr>
        <p:spPr>
          <a:xfrm>
            <a:off x="857160" y="2554200"/>
            <a:ext cx="2322720" cy="919080"/>
          </a:xfrm>
          <a:custGeom>
            <a:avLst/>
            <a:gdLst/>
            <a:ahLst/>
            <a:rect l="l" t="t" r="r" b="b"/>
            <a:pathLst>
              <a:path w="6450" h="2556">
                <a:moveTo>
                  <a:pt x="2778" y="7541"/>
                </a:moveTo>
                <a:cubicBezTo>
                  <a:pt x="2757" y="7520"/>
                  <a:pt x="2696" y="7425"/>
                  <a:pt x="2679" y="7417"/>
                </a:cubicBezTo>
                <a:cubicBezTo>
                  <a:pt x="2639" y="7397"/>
                  <a:pt x="2503" y="7426"/>
                  <a:pt x="2480" y="7466"/>
                </a:cubicBezTo>
                <a:cubicBezTo>
                  <a:pt x="2463" y="7496"/>
                  <a:pt x="2413" y="7626"/>
                  <a:pt x="2406" y="7665"/>
                </a:cubicBezTo>
                <a:cubicBezTo>
                  <a:pt x="2387" y="7772"/>
                  <a:pt x="2381" y="7876"/>
                  <a:pt x="2381" y="7987"/>
                </a:cubicBezTo>
                <a:cubicBezTo>
                  <a:pt x="2381" y="8101"/>
                  <a:pt x="2410" y="8177"/>
                  <a:pt x="2456" y="8285"/>
                </a:cubicBezTo>
                <a:cubicBezTo>
                  <a:pt x="2483" y="8347"/>
                  <a:pt x="2545" y="8378"/>
                  <a:pt x="2604" y="8409"/>
                </a:cubicBezTo>
                <a:cubicBezTo>
                  <a:pt x="2679" y="8449"/>
                  <a:pt x="2734" y="8432"/>
                  <a:pt x="2803" y="8384"/>
                </a:cubicBezTo>
                <a:cubicBezTo>
                  <a:pt x="2863" y="8342"/>
                  <a:pt x="2874" y="8251"/>
                  <a:pt x="2877" y="8186"/>
                </a:cubicBezTo>
                <a:cubicBezTo>
                  <a:pt x="2881" y="8083"/>
                  <a:pt x="2900" y="7933"/>
                  <a:pt x="2853" y="7838"/>
                </a:cubicBezTo>
                <a:cubicBezTo>
                  <a:pt x="2845" y="7830"/>
                  <a:pt x="2836" y="7821"/>
                  <a:pt x="2828" y="7813"/>
                </a:cubicBezTo>
                <a:cubicBezTo>
                  <a:pt x="2775" y="7845"/>
                  <a:pt x="2734" y="7846"/>
                  <a:pt x="2704" y="7913"/>
                </a:cubicBezTo>
                <a:cubicBezTo>
                  <a:pt x="2666" y="7997"/>
                  <a:pt x="2653" y="8051"/>
                  <a:pt x="2629" y="8136"/>
                </a:cubicBezTo>
                <a:cubicBezTo>
                  <a:pt x="2610" y="8201"/>
                  <a:pt x="2598" y="8248"/>
                  <a:pt x="2629" y="8310"/>
                </a:cubicBezTo>
                <a:cubicBezTo>
                  <a:pt x="2654" y="8334"/>
                  <a:pt x="2663" y="8342"/>
                  <a:pt x="2679" y="8359"/>
                </a:cubicBezTo>
              </a:path>
              <a:path w="6450" h="2556">
                <a:moveTo>
                  <a:pt x="3621" y="7689"/>
                </a:moveTo>
                <a:cubicBezTo>
                  <a:pt x="3591" y="7636"/>
                  <a:pt x="3509" y="7553"/>
                  <a:pt x="3448" y="7565"/>
                </a:cubicBezTo>
                <a:cubicBezTo>
                  <a:pt x="3353" y="7584"/>
                  <a:pt x="3297" y="7702"/>
                  <a:pt x="3249" y="7764"/>
                </a:cubicBezTo>
                <a:cubicBezTo>
                  <a:pt x="3196" y="7833"/>
                  <a:pt x="3144" y="7923"/>
                  <a:pt x="3125" y="8012"/>
                </a:cubicBezTo>
                <a:cubicBezTo>
                  <a:pt x="3111" y="8079"/>
                  <a:pt x="3171" y="8153"/>
                  <a:pt x="3200" y="8210"/>
                </a:cubicBezTo>
                <a:cubicBezTo>
                  <a:pt x="3228" y="8265"/>
                  <a:pt x="3281" y="8318"/>
                  <a:pt x="3349" y="8310"/>
                </a:cubicBezTo>
                <a:cubicBezTo>
                  <a:pt x="3397" y="8305"/>
                  <a:pt x="3441" y="8242"/>
                  <a:pt x="3473" y="8210"/>
                </a:cubicBezTo>
                <a:cubicBezTo>
                  <a:pt x="3553" y="8130"/>
                  <a:pt x="3569" y="8044"/>
                  <a:pt x="3597" y="7938"/>
                </a:cubicBezTo>
                <a:cubicBezTo>
                  <a:pt x="3620" y="7851"/>
                  <a:pt x="3621" y="7778"/>
                  <a:pt x="3621" y="7689"/>
                </a:cubicBezTo>
                <a:cubicBezTo>
                  <a:pt x="3642" y="7789"/>
                  <a:pt x="3636" y="7892"/>
                  <a:pt x="3671" y="7987"/>
                </a:cubicBezTo>
                <a:cubicBezTo>
                  <a:pt x="3707" y="8085"/>
                  <a:pt x="3764" y="8149"/>
                  <a:pt x="3820" y="8235"/>
                </a:cubicBezTo>
                <a:cubicBezTo>
                  <a:pt x="3848" y="8279"/>
                  <a:pt x="3928" y="8331"/>
                  <a:pt x="3994" y="8310"/>
                </a:cubicBezTo>
                <a:cubicBezTo>
                  <a:pt x="4041" y="8295"/>
                  <a:pt x="4112" y="8213"/>
                  <a:pt x="4142" y="8186"/>
                </a:cubicBezTo>
              </a:path>
              <a:path w="6450" h="2556">
                <a:moveTo>
                  <a:pt x="4490" y="7441"/>
                </a:moveTo>
                <a:cubicBezTo>
                  <a:pt x="4523" y="7509"/>
                  <a:pt x="4514" y="7584"/>
                  <a:pt x="4514" y="7665"/>
                </a:cubicBezTo>
                <a:cubicBezTo>
                  <a:pt x="4514" y="7778"/>
                  <a:pt x="4548" y="7881"/>
                  <a:pt x="4564" y="7987"/>
                </a:cubicBezTo>
                <a:cubicBezTo>
                  <a:pt x="4574" y="8051"/>
                  <a:pt x="4575" y="8087"/>
                  <a:pt x="4589" y="8086"/>
                </a:cubicBezTo>
              </a:path>
              <a:path w="6450" h="2556">
                <a:moveTo>
                  <a:pt x="4142" y="7764"/>
                </a:moveTo>
                <a:cubicBezTo>
                  <a:pt x="4229" y="7735"/>
                  <a:pt x="4321" y="7717"/>
                  <a:pt x="4415" y="7714"/>
                </a:cubicBezTo>
                <a:cubicBezTo>
                  <a:pt x="4537" y="7710"/>
                  <a:pt x="4674" y="7698"/>
                  <a:pt x="4787" y="7739"/>
                </a:cubicBezTo>
                <a:cubicBezTo>
                  <a:pt x="4837" y="7764"/>
                  <a:pt x="4854" y="7772"/>
                  <a:pt x="4887" y="7789"/>
                </a:cubicBezTo>
              </a:path>
              <a:path w="6450" h="2556">
                <a:moveTo>
                  <a:pt x="5308" y="7169"/>
                </a:moveTo>
                <a:cubicBezTo>
                  <a:pt x="5308" y="7332"/>
                  <a:pt x="5315" y="8191"/>
                  <a:pt x="5333" y="8186"/>
                </a:cubicBezTo>
              </a:path>
              <a:path w="6450" h="2556">
                <a:moveTo>
                  <a:pt x="5879" y="7268"/>
                </a:moveTo>
                <a:cubicBezTo>
                  <a:pt x="5839" y="7212"/>
                  <a:pt x="5780" y="7161"/>
                  <a:pt x="5705" y="7144"/>
                </a:cubicBezTo>
                <a:cubicBezTo>
                  <a:pt x="5641" y="7130"/>
                  <a:pt x="5569" y="7209"/>
                  <a:pt x="5556" y="7268"/>
                </a:cubicBezTo>
                <a:cubicBezTo>
                  <a:pt x="5538" y="7350"/>
                  <a:pt x="5531" y="7430"/>
                  <a:pt x="5531" y="7516"/>
                </a:cubicBezTo>
                <a:cubicBezTo>
                  <a:pt x="5531" y="7567"/>
                  <a:pt x="5532" y="7586"/>
                  <a:pt x="5556" y="7615"/>
                </a:cubicBezTo>
                <a:cubicBezTo>
                  <a:pt x="5637" y="7605"/>
                  <a:pt x="5675" y="7554"/>
                  <a:pt x="5755" y="7541"/>
                </a:cubicBezTo>
                <a:cubicBezTo>
                  <a:pt x="5840" y="7528"/>
                  <a:pt x="5975" y="7600"/>
                  <a:pt x="6028" y="7665"/>
                </a:cubicBezTo>
                <a:cubicBezTo>
                  <a:pt x="6072" y="7719"/>
                  <a:pt x="6134" y="7865"/>
                  <a:pt x="6127" y="7938"/>
                </a:cubicBezTo>
                <a:cubicBezTo>
                  <a:pt x="6121" y="7997"/>
                  <a:pt x="6020" y="8066"/>
                  <a:pt x="5978" y="8086"/>
                </a:cubicBezTo>
                <a:cubicBezTo>
                  <a:pt x="5885" y="8131"/>
                  <a:pt x="5839" y="8104"/>
                  <a:pt x="5755" y="8062"/>
                </a:cubicBezTo>
                <a:cubicBezTo>
                  <a:pt x="5697" y="8033"/>
                  <a:pt x="5639" y="7961"/>
                  <a:pt x="5655" y="7888"/>
                </a:cubicBezTo>
                <a:cubicBezTo>
                  <a:pt x="5680" y="7838"/>
                  <a:pt x="5688" y="7822"/>
                  <a:pt x="5705" y="7789"/>
                </a:cubicBezTo>
              </a:path>
              <a:path w="6450" h="2556">
                <a:moveTo>
                  <a:pt x="6350" y="7417"/>
                </a:moveTo>
                <a:cubicBezTo>
                  <a:pt x="6429" y="7391"/>
                  <a:pt x="6513" y="7371"/>
                  <a:pt x="6598" y="7367"/>
                </a:cubicBezTo>
                <a:cubicBezTo>
                  <a:pt x="6671" y="7363"/>
                  <a:pt x="6737" y="7369"/>
                  <a:pt x="6796" y="7392"/>
                </a:cubicBezTo>
              </a:path>
              <a:path w="6450" h="2556">
                <a:moveTo>
                  <a:pt x="6375" y="7714"/>
                </a:moveTo>
                <a:cubicBezTo>
                  <a:pt x="6481" y="7820"/>
                  <a:pt x="6617" y="7789"/>
                  <a:pt x="6772" y="7789"/>
                </a:cubicBezTo>
                <a:cubicBezTo>
                  <a:pt x="6868" y="7789"/>
                  <a:pt x="6911" y="7803"/>
                  <a:pt x="6995" y="7813"/>
                </a:cubicBezTo>
              </a:path>
              <a:path w="6450" h="2556">
                <a:moveTo>
                  <a:pt x="7913" y="7144"/>
                </a:moveTo>
                <a:cubicBezTo>
                  <a:pt x="7836" y="7115"/>
                  <a:pt x="7773" y="7119"/>
                  <a:pt x="7689" y="7119"/>
                </a:cubicBezTo>
                <a:cubicBezTo>
                  <a:pt x="7598" y="7119"/>
                  <a:pt x="7469" y="7088"/>
                  <a:pt x="7392" y="7094"/>
                </a:cubicBezTo>
                <a:cubicBezTo>
                  <a:pt x="7308" y="7101"/>
                  <a:pt x="7258" y="7166"/>
                  <a:pt x="7243" y="7243"/>
                </a:cubicBezTo>
                <a:cubicBezTo>
                  <a:pt x="7226" y="7328"/>
                  <a:pt x="7257" y="7411"/>
                  <a:pt x="7268" y="7491"/>
                </a:cubicBezTo>
                <a:cubicBezTo>
                  <a:pt x="7277" y="7554"/>
                  <a:pt x="7268" y="7625"/>
                  <a:pt x="7268" y="7689"/>
                </a:cubicBezTo>
                <a:cubicBezTo>
                  <a:pt x="7315" y="7643"/>
                  <a:pt x="7330" y="7594"/>
                  <a:pt x="7367" y="7541"/>
                </a:cubicBezTo>
                <a:cubicBezTo>
                  <a:pt x="7394" y="7502"/>
                  <a:pt x="7519" y="7483"/>
                  <a:pt x="7565" y="7491"/>
                </a:cubicBezTo>
                <a:cubicBezTo>
                  <a:pt x="7699" y="7513"/>
                  <a:pt x="7740" y="7586"/>
                  <a:pt x="7838" y="7665"/>
                </a:cubicBezTo>
                <a:cubicBezTo>
                  <a:pt x="7933" y="7741"/>
                  <a:pt x="7956" y="7817"/>
                  <a:pt x="7962" y="7938"/>
                </a:cubicBezTo>
                <a:cubicBezTo>
                  <a:pt x="7966" y="8029"/>
                  <a:pt x="7899" y="8127"/>
                  <a:pt x="7813" y="8161"/>
                </a:cubicBezTo>
                <a:cubicBezTo>
                  <a:pt x="7702" y="8204"/>
                  <a:pt x="7576" y="8195"/>
                  <a:pt x="7466" y="8161"/>
                </a:cubicBezTo>
                <a:cubicBezTo>
                  <a:pt x="7379" y="8134"/>
                  <a:pt x="7363" y="8109"/>
                  <a:pt x="7317" y="8037"/>
                </a:cubicBezTo>
              </a:path>
              <a:path w="6450" h="2556">
                <a:moveTo>
                  <a:pt x="8062" y="7218"/>
                </a:moveTo>
                <a:cubicBezTo>
                  <a:pt x="8144" y="7208"/>
                  <a:pt x="8230" y="7177"/>
                  <a:pt x="8310" y="7169"/>
                </a:cubicBezTo>
                <a:cubicBezTo>
                  <a:pt x="8417" y="7159"/>
                  <a:pt x="8526" y="7149"/>
                  <a:pt x="8632" y="7144"/>
                </a:cubicBezTo>
                <a:cubicBezTo>
                  <a:pt x="8687" y="7141"/>
                  <a:pt x="8736" y="7169"/>
                  <a:pt x="8781" y="7193"/>
                </a:cubicBezTo>
                <a:cubicBezTo>
                  <a:pt x="8860" y="7235"/>
                  <a:pt x="8840" y="7382"/>
                  <a:pt x="8830" y="7466"/>
                </a:cubicBezTo>
                <a:cubicBezTo>
                  <a:pt x="8813" y="7605"/>
                  <a:pt x="8764" y="7752"/>
                  <a:pt x="8731" y="7888"/>
                </a:cubicBezTo>
                <a:cubicBezTo>
                  <a:pt x="8706" y="7991"/>
                  <a:pt x="8706" y="8081"/>
                  <a:pt x="8706" y="8186"/>
                </a:cubicBezTo>
                <a:cubicBezTo>
                  <a:pt x="8706" y="8232"/>
                  <a:pt x="8717" y="8247"/>
                  <a:pt x="8731" y="8285"/>
                </a:cubicBezTo>
              </a:path>
              <a:path w="6450" h="2556">
                <a:moveTo>
                  <a:pt x="5457" y="8954"/>
                </a:moveTo>
                <a:cubicBezTo>
                  <a:pt x="5538" y="8954"/>
                  <a:pt x="5606" y="8939"/>
                  <a:pt x="5680" y="8930"/>
                </a:cubicBezTo>
                <a:cubicBezTo>
                  <a:pt x="5798" y="8915"/>
                  <a:pt x="5909" y="8870"/>
                  <a:pt x="6028" y="8855"/>
                </a:cubicBezTo>
                <a:cubicBezTo>
                  <a:pt x="6111" y="8855"/>
                  <a:pt x="6145" y="8853"/>
                  <a:pt x="6201" y="8830"/>
                </a:cubicBezTo>
              </a:path>
              <a:path w="6450" h="2556">
                <a:moveTo>
                  <a:pt x="7193" y="8434"/>
                </a:moveTo>
                <a:cubicBezTo>
                  <a:pt x="7220" y="8531"/>
                  <a:pt x="7218" y="8604"/>
                  <a:pt x="7218" y="8706"/>
                </a:cubicBezTo>
                <a:cubicBezTo>
                  <a:pt x="7218" y="8843"/>
                  <a:pt x="7213" y="8973"/>
                  <a:pt x="7193" y="9103"/>
                </a:cubicBezTo>
                <a:cubicBezTo>
                  <a:pt x="7189" y="9127"/>
                  <a:pt x="7213" y="9277"/>
                  <a:pt x="7243" y="9277"/>
                </a:cubicBezTo>
                <a:cubicBezTo>
                  <a:pt x="7260" y="9269"/>
                  <a:pt x="7276" y="9260"/>
                  <a:pt x="7293" y="9252"/>
                </a:cubicBezTo>
              </a:path>
              <a:path w="6450" h="2556">
                <a:moveTo>
                  <a:pt x="8285" y="8607"/>
                </a:moveTo>
                <a:cubicBezTo>
                  <a:pt x="8370" y="8542"/>
                  <a:pt x="8217" y="8574"/>
                  <a:pt x="8136" y="8558"/>
                </a:cubicBezTo>
                <a:cubicBezTo>
                  <a:pt x="8076" y="8546"/>
                  <a:pt x="7954" y="8507"/>
                  <a:pt x="7888" y="8533"/>
                </a:cubicBezTo>
                <a:cubicBezTo>
                  <a:pt x="7848" y="8548"/>
                  <a:pt x="7803" y="8622"/>
                  <a:pt x="7789" y="8657"/>
                </a:cubicBezTo>
                <a:cubicBezTo>
                  <a:pt x="7769" y="8707"/>
                  <a:pt x="7732" y="8859"/>
                  <a:pt x="7739" y="8905"/>
                </a:cubicBezTo>
                <a:cubicBezTo>
                  <a:pt x="7753" y="9002"/>
                  <a:pt x="7869" y="8979"/>
                  <a:pt x="7938" y="8979"/>
                </a:cubicBezTo>
                <a:cubicBezTo>
                  <a:pt x="8042" y="8979"/>
                  <a:pt x="8166" y="8969"/>
                  <a:pt x="8260" y="9029"/>
                </a:cubicBezTo>
                <a:cubicBezTo>
                  <a:pt x="8341" y="9081"/>
                  <a:pt x="8434" y="9187"/>
                  <a:pt x="8458" y="9277"/>
                </a:cubicBezTo>
                <a:cubicBezTo>
                  <a:pt x="8493" y="9406"/>
                  <a:pt x="8416" y="9429"/>
                  <a:pt x="8334" y="9500"/>
                </a:cubicBezTo>
                <a:cubicBezTo>
                  <a:pt x="8245" y="9576"/>
                  <a:pt x="8139" y="9653"/>
                  <a:pt x="8012" y="9649"/>
                </a:cubicBezTo>
                <a:cubicBezTo>
                  <a:pt x="7874" y="9614"/>
                  <a:pt x="7800" y="9606"/>
                  <a:pt x="7689" y="962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Ink 5"/>
          <p:cNvSpPr/>
          <p:nvPr/>
        </p:nvSpPr>
        <p:spPr>
          <a:xfrm>
            <a:off x="1411200" y="3394080"/>
            <a:ext cx="1677960" cy="500040"/>
          </a:xfrm>
          <a:custGeom>
            <a:avLst/>
            <a:gdLst/>
            <a:ahLst/>
            <a:rect l="l" t="t" r="r" b="b"/>
            <a:pathLst>
              <a:path w="4664" h="1390">
                <a:moveTo>
                  <a:pt x="6176" y="9599"/>
                </a:moveTo>
                <a:cubicBezTo>
                  <a:pt x="6255" y="9652"/>
                  <a:pt x="6280" y="9627"/>
                  <a:pt x="6375" y="9649"/>
                </a:cubicBezTo>
                <a:cubicBezTo>
                  <a:pt x="6498" y="9677"/>
                  <a:pt x="6642" y="9690"/>
                  <a:pt x="6772" y="9699"/>
                </a:cubicBezTo>
                <a:cubicBezTo>
                  <a:pt x="7035" y="9718"/>
                  <a:pt x="7301" y="9723"/>
                  <a:pt x="7565" y="9723"/>
                </a:cubicBezTo>
                <a:cubicBezTo>
                  <a:pt x="7759" y="9723"/>
                  <a:pt x="7945" y="9711"/>
                  <a:pt x="8136" y="9699"/>
                </a:cubicBezTo>
                <a:cubicBezTo>
                  <a:pt x="8245" y="9692"/>
                  <a:pt x="8401" y="9701"/>
                  <a:pt x="8508" y="9723"/>
                </a:cubicBezTo>
                <a:cubicBezTo>
                  <a:pt x="8533" y="9731"/>
                  <a:pt x="8557" y="9740"/>
                  <a:pt x="8582" y="9748"/>
                </a:cubicBezTo>
              </a:path>
              <a:path w="4664" h="1390">
                <a:moveTo>
                  <a:pt x="8012" y="10071"/>
                </a:moveTo>
                <a:cubicBezTo>
                  <a:pt x="7995" y="10071"/>
                  <a:pt x="7979" y="10071"/>
                  <a:pt x="7962" y="10071"/>
                </a:cubicBezTo>
                <a:cubicBezTo>
                  <a:pt x="8003" y="10030"/>
                  <a:pt x="8062" y="9972"/>
                  <a:pt x="8111" y="9947"/>
                </a:cubicBezTo>
                <a:cubicBezTo>
                  <a:pt x="8166" y="9918"/>
                  <a:pt x="8322" y="9898"/>
                  <a:pt x="8384" y="9922"/>
                </a:cubicBezTo>
                <a:cubicBezTo>
                  <a:pt x="8435" y="9942"/>
                  <a:pt x="8519" y="10012"/>
                  <a:pt x="8533" y="10071"/>
                </a:cubicBezTo>
                <a:cubicBezTo>
                  <a:pt x="8552" y="10151"/>
                  <a:pt x="8507" y="10212"/>
                  <a:pt x="8458" y="10269"/>
                </a:cubicBezTo>
                <a:cubicBezTo>
                  <a:pt x="8362" y="10380"/>
                  <a:pt x="8221" y="10470"/>
                  <a:pt x="8111" y="10567"/>
                </a:cubicBezTo>
                <a:cubicBezTo>
                  <a:pt x="8060" y="10612"/>
                  <a:pt x="8028" y="10665"/>
                  <a:pt x="7987" y="10716"/>
                </a:cubicBezTo>
                <a:cubicBezTo>
                  <a:pt x="8022" y="10750"/>
                  <a:pt x="8069" y="10784"/>
                  <a:pt x="8111" y="10790"/>
                </a:cubicBezTo>
                <a:cubicBezTo>
                  <a:pt x="8199" y="10803"/>
                  <a:pt x="8296" y="10812"/>
                  <a:pt x="8384" y="10815"/>
                </a:cubicBezTo>
                <a:cubicBezTo>
                  <a:pt x="8467" y="10815"/>
                  <a:pt x="8500" y="10815"/>
                  <a:pt x="8558" y="10815"/>
                </a:cubicBezTo>
              </a:path>
              <a:path w="4664" h="1390">
                <a:moveTo>
                  <a:pt x="7392" y="9823"/>
                </a:moveTo>
                <a:cubicBezTo>
                  <a:pt x="7338" y="9875"/>
                  <a:pt x="7280" y="9903"/>
                  <a:pt x="7218" y="9947"/>
                </a:cubicBezTo>
                <a:cubicBezTo>
                  <a:pt x="7121" y="10016"/>
                  <a:pt x="7039" y="10102"/>
                  <a:pt x="6945" y="10170"/>
                </a:cubicBezTo>
                <a:cubicBezTo>
                  <a:pt x="6907" y="10198"/>
                  <a:pt x="6880" y="10211"/>
                  <a:pt x="6846" y="10244"/>
                </a:cubicBezTo>
                <a:cubicBezTo>
                  <a:pt x="6951" y="10297"/>
                  <a:pt x="7029" y="10305"/>
                  <a:pt x="7144" y="10319"/>
                </a:cubicBezTo>
                <a:cubicBezTo>
                  <a:pt x="7224" y="10328"/>
                  <a:pt x="7428" y="10388"/>
                  <a:pt x="7516" y="10368"/>
                </a:cubicBezTo>
                <a:cubicBezTo>
                  <a:pt x="7572" y="10355"/>
                  <a:pt x="7565" y="10283"/>
                  <a:pt x="7565" y="10244"/>
                </a:cubicBezTo>
              </a:path>
              <a:path w="4664" h="1390">
                <a:moveTo>
                  <a:pt x="7293" y="9773"/>
                </a:moveTo>
                <a:cubicBezTo>
                  <a:pt x="7319" y="9882"/>
                  <a:pt x="7323" y="9987"/>
                  <a:pt x="7342" y="10096"/>
                </a:cubicBezTo>
                <a:cubicBezTo>
                  <a:pt x="7360" y="10201"/>
                  <a:pt x="7367" y="10285"/>
                  <a:pt x="7367" y="10393"/>
                </a:cubicBezTo>
                <a:cubicBezTo>
                  <a:pt x="7367" y="10477"/>
                  <a:pt x="7388" y="10537"/>
                  <a:pt x="7392" y="10616"/>
                </a:cubicBezTo>
                <a:cubicBezTo>
                  <a:pt x="7392" y="10658"/>
                  <a:pt x="7400" y="10674"/>
                  <a:pt x="7367" y="10666"/>
                </a:cubicBezTo>
              </a:path>
              <a:path w="4664" h="1390">
                <a:moveTo>
                  <a:pt x="5407" y="9897"/>
                </a:moveTo>
                <a:cubicBezTo>
                  <a:pt x="5481" y="9853"/>
                  <a:pt x="5587" y="9850"/>
                  <a:pt x="5680" y="9847"/>
                </a:cubicBezTo>
                <a:cubicBezTo>
                  <a:pt x="5762" y="9844"/>
                  <a:pt x="5846" y="9847"/>
                  <a:pt x="5928" y="9847"/>
                </a:cubicBezTo>
              </a:path>
              <a:path w="4664" h="1390">
                <a:moveTo>
                  <a:pt x="5457" y="10319"/>
                </a:moveTo>
                <a:cubicBezTo>
                  <a:pt x="5566" y="10343"/>
                  <a:pt x="5667" y="10344"/>
                  <a:pt x="5779" y="10344"/>
                </a:cubicBezTo>
                <a:cubicBezTo>
                  <a:pt x="5858" y="10344"/>
                  <a:pt x="5926" y="10328"/>
                  <a:pt x="6003" y="10319"/>
                </a:cubicBezTo>
              </a:path>
              <a:path w="4664" h="1390">
                <a:moveTo>
                  <a:pt x="4217" y="9426"/>
                </a:moveTo>
                <a:cubicBezTo>
                  <a:pt x="4126" y="9462"/>
                  <a:pt x="4065" y="9504"/>
                  <a:pt x="4018" y="9599"/>
                </a:cubicBezTo>
                <a:cubicBezTo>
                  <a:pt x="3965" y="9707"/>
                  <a:pt x="3930" y="9879"/>
                  <a:pt x="3919" y="9996"/>
                </a:cubicBezTo>
                <a:cubicBezTo>
                  <a:pt x="3912" y="10069"/>
                  <a:pt x="3924" y="10206"/>
                  <a:pt x="3969" y="10269"/>
                </a:cubicBezTo>
                <a:cubicBezTo>
                  <a:pt x="4041" y="10369"/>
                  <a:pt x="4136" y="10320"/>
                  <a:pt x="4217" y="10269"/>
                </a:cubicBezTo>
                <a:cubicBezTo>
                  <a:pt x="4346" y="10188"/>
                  <a:pt x="4338" y="10187"/>
                  <a:pt x="4390" y="10046"/>
                </a:cubicBezTo>
                <a:cubicBezTo>
                  <a:pt x="4422" y="9960"/>
                  <a:pt x="4422" y="9907"/>
                  <a:pt x="4390" y="9823"/>
                </a:cubicBezTo>
                <a:cubicBezTo>
                  <a:pt x="4294" y="9862"/>
                  <a:pt x="4206" y="9934"/>
                  <a:pt x="4167" y="10046"/>
                </a:cubicBezTo>
                <a:cubicBezTo>
                  <a:pt x="4141" y="10120"/>
                  <a:pt x="4082" y="10226"/>
                  <a:pt x="4118" y="10294"/>
                </a:cubicBezTo>
                <a:cubicBezTo>
                  <a:pt x="4140" y="10317"/>
                  <a:pt x="4145" y="10325"/>
                  <a:pt x="4167" y="10319"/>
                </a:cubicBezTo>
              </a:path>
              <a:path w="4664" h="1390">
                <a:moveTo>
                  <a:pt x="4887" y="9798"/>
                </a:moveTo>
                <a:cubicBezTo>
                  <a:pt x="4835" y="9746"/>
                  <a:pt x="4798" y="9677"/>
                  <a:pt x="4713" y="9699"/>
                </a:cubicBezTo>
                <a:cubicBezTo>
                  <a:pt x="4659" y="9713"/>
                  <a:pt x="4546" y="9823"/>
                  <a:pt x="4514" y="9872"/>
                </a:cubicBezTo>
                <a:cubicBezTo>
                  <a:pt x="4483" y="9919"/>
                  <a:pt x="4386" y="10122"/>
                  <a:pt x="4390" y="10170"/>
                </a:cubicBezTo>
                <a:cubicBezTo>
                  <a:pt x="4395" y="10225"/>
                  <a:pt x="4504" y="10242"/>
                  <a:pt x="4539" y="10244"/>
                </a:cubicBezTo>
                <a:cubicBezTo>
                  <a:pt x="4647" y="10250"/>
                  <a:pt x="4714" y="10189"/>
                  <a:pt x="4787" y="10120"/>
                </a:cubicBezTo>
                <a:cubicBezTo>
                  <a:pt x="4865" y="10047"/>
                  <a:pt x="4858" y="9990"/>
                  <a:pt x="4887" y="9897"/>
                </a:cubicBezTo>
                <a:cubicBezTo>
                  <a:pt x="4910" y="9849"/>
                  <a:pt x="4918" y="9834"/>
                  <a:pt x="4911" y="9798"/>
                </a:cubicBezTo>
                <a:cubicBezTo>
                  <a:pt x="4870" y="9923"/>
                  <a:pt x="4883" y="10063"/>
                  <a:pt x="4911" y="10195"/>
                </a:cubicBezTo>
                <a:cubicBezTo>
                  <a:pt x="4930" y="10284"/>
                  <a:pt x="5024" y="10357"/>
                  <a:pt x="5085" y="1041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Ink 6"/>
          <p:cNvSpPr/>
          <p:nvPr/>
        </p:nvSpPr>
        <p:spPr>
          <a:xfrm>
            <a:off x="1598760" y="3875040"/>
            <a:ext cx="911160" cy="349200"/>
          </a:xfrm>
          <a:custGeom>
            <a:avLst/>
            <a:gdLst/>
            <a:ahLst/>
            <a:rect l="l" t="t" r="r" b="b"/>
            <a:pathLst>
              <a:path w="2531" h="969">
                <a:moveTo>
                  <a:pt x="5085" y="11311"/>
                </a:moveTo>
                <a:cubicBezTo>
                  <a:pt x="5085" y="11258"/>
                  <a:pt x="5098" y="11089"/>
                  <a:pt x="5060" y="11038"/>
                </a:cubicBezTo>
                <a:cubicBezTo>
                  <a:pt x="4980" y="10932"/>
                  <a:pt x="4864" y="10899"/>
                  <a:pt x="4738" y="10964"/>
                </a:cubicBezTo>
                <a:cubicBezTo>
                  <a:pt x="4615" y="11028"/>
                  <a:pt x="4539" y="11139"/>
                  <a:pt x="4490" y="11261"/>
                </a:cubicBezTo>
                <a:cubicBezTo>
                  <a:pt x="4460" y="11334"/>
                  <a:pt x="4421" y="11437"/>
                  <a:pt x="4465" y="11509"/>
                </a:cubicBezTo>
                <a:cubicBezTo>
                  <a:pt x="4512" y="11586"/>
                  <a:pt x="4564" y="11607"/>
                  <a:pt x="4638" y="11584"/>
                </a:cubicBezTo>
                <a:cubicBezTo>
                  <a:pt x="4747" y="11551"/>
                  <a:pt x="4829" y="11460"/>
                  <a:pt x="4887" y="11361"/>
                </a:cubicBezTo>
                <a:cubicBezTo>
                  <a:pt x="4936" y="11278"/>
                  <a:pt x="4936" y="11159"/>
                  <a:pt x="5011" y="11088"/>
                </a:cubicBezTo>
                <a:cubicBezTo>
                  <a:pt x="5027" y="11080"/>
                  <a:pt x="5044" y="11071"/>
                  <a:pt x="5060" y="11063"/>
                </a:cubicBezTo>
                <a:cubicBezTo>
                  <a:pt x="5069" y="11173"/>
                  <a:pt x="5085" y="11272"/>
                  <a:pt x="5085" y="11385"/>
                </a:cubicBezTo>
                <a:cubicBezTo>
                  <a:pt x="5085" y="11437"/>
                  <a:pt x="5045" y="11665"/>
                  <a:pt x="5135" y="11658"/>
                </a:cubicBezTo>
                <a:cubicBezTo>
                  <a:pt x="5151" y="11650"/>
                  <a:pt x="5168" y="11641"/>
                  <a:pt x="5184" y="11633"/>
                </a:cubicBezTo>
              </a:path>
              <a:path w="2531" h="969">
                <a:moveTo>
                  <a:pt x="5432" y="10964"/>
                </a:moveTo>
                <a:cubicBezTo>
                  <a:pt x="5629" y="10906"/>
                  <a:pt x="5700" y="10898"/>
                  <a:pt x="5904" y="10914"/>
                </a:cubicBezTo>
              </a:path>
              <a:path w="2531" h="969">
                <a:moveTo>
                  <a:pt x="5507" y="11311"/>
                </a:moveTo>
                <a:cubicBezTo>
                  <a:pt x="5569" y="11349"/>
                  <a:pt x="5651" y="11359"/>
                  <a:pt x="5730" y="11361"/>
                </a:cubicBezTo>
                <a:cubicBezTo>
                  <a:pt x="5804" y="11363"/>
                  <a:pt x="5879" y="11361"/>
                  <a:pt x="5953" y="11361"/>
                </a:cubicBezTo>
              </a:path>
              <a:path w="2531" h="969">
                <a:moveTo>
                  <a:pt x="6102" y="10864"/>
                </a:moveTo>
                <a:cubicBezTo>
                  <a:pt x="6187" y="10864"/>
                  <a:pt x="6270" y="10859"/>
                  <a:pt x="6350" y="10840"/>
                </a:cubicBezTo>
                <a:cubicBezTo>
                  <a:pt x="6466" y="10813"/>
                  <a:pt x="6578" y="10777"/>
                  <a:pt x="6697" y="10765"/>
                </a:cubicBezTo>
                <a:cubicBezTo>
                  <a:pt x="6757" y="10759"/>
                  <a:pt x="6894" y="10748"/>
                  <a:pt x="6945" y="10790"/>
                </a:cubicBezTo>
                <a:cubicBezTo>
                  <a:pt x="6993" y="10829"/>
                  <a:pt x="6978" y="10987"/>
                  <a:pt x="6970" y="11038"/>
                </a:cubicBezTo>
                <a:cubicBezTo>
                  <a:pt x="6948" y="11179"/>
                  <a:pt x="6944" y="11323"/>
                  <a:pt x="6896" y="11460"/>
                </a:cubicBezTo>
                <a:cubicBezTo>
                  <a:pt x="6873" y="11525"/>
                  <a:pt x="6845" y="11637"/>
                  <a:pt x="6871" y="11708"/>
                </a:cubicBezTo>
                <a:cubicBezTo>
                  <a:pt x="6894" y="11731"/>
                  <a:pt x="6898" y="11739"/>
                  <a:pt x="6921" y="1173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Ink 7"/>
          <p:cNvSpPr/>
          <p:nvPr/>
        </p:nvSpPr>
        <p:spPr>
          <a:xfrm>
            <a:off x="1303200" y="4375080"/>
            <a:ext cx="554040" cy="662040"/>
          </a:xfrm>
          <a:custGeom>
            <a:avLst/>
            <a:gdLst/>
            <a:ahLst/>
            <a:rect l="l" t="t" r="r" b="b"/>
            <a:pathLst>
              <a:path w="1539" h="1837">
                <a:moveTo>
                  <a:pt x="4217" y="12799"/>
                </a:moveTo>
                <a:cubicBezTo>
                  <a:pt x="4283" y="12704"/>
                  <a:pt x="4291" y="12684"/>
                  <a:pt x="4316" y="12576"/>
                </a:cubicBezTo>
                <a:cubicBezTo>
                  <a:pt x="4341" y="12503"/>
                  <a:pt x="4349" y="12479"/>
                  <a:pt x="4341" y="12427"/>
                </a:cubicBezTo>
              </a:path>
              <a:path w="1539" h="1837">
                <a:moveTo>
                  <a:pt x="4118" y="12204"/>
                </a:moveTo>
                <a:cubicBezTo>
                  <a:pt x="3976" y="12233"/>
                  <a:pt x="3881" y="12247"/>
                  <a:pt x="3795" y="12378"/>
                </a:cubicBezTo>
                <a:cubicBezTo>
                  <a:pt x="3698" y="12527"/>
                  <a:pt x="3630" y="12614"/>
                  <a:pt x="3621" y="12799"/>
                </a:cubicBezTo>
                <a:cubicBezTo>
                  <a:pt x="3615" y="12922"/>
                  <a:pt x="3606" y="13107"/>
                  <a:pt x="3746" y="13171"/>
                </a:cubicBezTo>
                <a:cubicBezTo>
                  <a:pt x="3833" y="13211"/>
                  <a:pt x="3960" y="13088"/>
                  <a:pt x="3994" y="13022"/>
                </a:cubicBezTo>
                <a:cubicBezTo>
                  <a:pt x="4052" y="12910"/>
                  <a:pt x="4107" y="12828"/>
                  <a:pt x="4142" y="12700"/>
                </a:cubicBezTo>
                <a:cubicBezTo>
                  <a:pt x="4172" y="12590"/>
                  <a:pt x="4168" y="12484"/>
                  <a:pt x="4192" y="12378"/>
                </a:cubicBezTo>
                <a:cubicBezTo>
                  <a:pt x="4200" y="12361"/>
                  <a:pt x="4209" y="12345"/>
                  <a:pt x="4217" y="12328"/>
                </a:cubicBezTo>
                <a:cubicBezTo>
                  <a:pt x="4244" y="12444"/>
                  <a:pt x="4264" y="12557"/>
                  <a:pt x="4291" y="12675"/>
                </a:cubicBezTo>
                <a:cubicBezTo>
                  <a:pt x="4329" y="12842"/>
                  <a:pt x="4344" y="13004"/>
                  <a:pt x="4366" y="13171"/>
                </a:cubicBezTo>
                <a:cubicBezTo>
                  <a:pt x="4395" y="13396"/>
                  <a:pt x="4402" y="13593"/>
                  <a:pt x="4341" y="13816"/>
                </a:cubicBezTo>
                <a:cubicBezTo>
                  <a:pt x="4317" y="13903"/>
                  <a:pt x="4251" y="13981"/>
                  <a:pt x="4167" y="13990"/>
                </a:cubicBezTo>
                <a:cubicBezTo>
                  <a:pt x="4062" y="14002"/>
                  <a:pt x="3995" y="13985"/>
                  <a:pt x="3919" y="13915"/>
                </a:cubicBezTo>
                <a:cubicBezTo>
                  <a:pt x="3824" y="13828"/>
                  <a:pt x="3781" y="13791"/>
                  <a:pt x="3770" y="13667"/>
                </a:cubicBezTo>
              </a:path>
              <a:path w="1539" h="1837">
                <a:moveTo>
                  <a:pt x="4738" y="12675"/>
                </a:moveTo>
                <a:cubicBezTo>
                  <a:pt x="4738" y="12845"/>
                  <a:pt x="4731" y="13006"/>
                  <a:pt x="4713" y="13171"/>
                </a:cubicBezTo>
                <a:cubicBezTo>
                  <a:pt x="4706" y="13235"/>
                  <a:pt x="4713" y="13305"/>
                  <a:pt x="4713" y="13370"/>
                </a:cubicBezTo>
              </a:path>
              <a:path w="1539" h="1837">
                <a:moveTo>
                  <a:pt x="4688" y="12179"/>
                </a:moveTo>
                <a:cubicBezTo>
                  <a:pt x="4716" y="12236"/>
                  <a:pt x="4727" y="12259"/>
                  <a:pt x="4738" y="12303"/>
                </a:cubicBezTo>
              </a:path>
              <a:path w="1539" h="1837">
                <a:moveTo>
                  <a:pt x="5135" y="12154"/>
                </a:moveTo>
                <a:cubicBezTo>
                  <a:pt x="5153" y="12276"/>
                  <a:pt x="5135" y="12397"/>
                  <a:pt x="5135" y="12526"/>
                </a:cubicBezTo>
                <a:cubicBezTo>
                  <a:pt x="5135" y="12694"/>
                  <a:pt x="5110" y="12853"/>
                  <a:pt x="5110" y="13022"/>
                </a:cubicBezTo>
                <a:cubicBezTo>
                  <a:pt x="5110" y="13125"/>
                  <a:pt x="5075" y="13370"/>
                  <a:pt x="5135" y="1346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Ink 8"/>
          <p:cNvSpPr/>
          <p:nvPr/>
        </p:nvSpPr>
        <p:spPr>
          <a:xfrm>
            <a:off x="2000160" y="4375080"/>
            <a:ext cx="36720" cy="447840"/>
          </a:xfrm>
          <a:custGeom>
            <a:avLst/>
            <a:gdLst/>
            <a:ahLst/>
            <a:rect l="l" t="t" r="r" b="b"/>
            <a:pathLst>
              <a:path w="100" h="1242">
                <a:moveTo>
                  <a:pt x="5556" y="12154"/>
                </a:moveTo>
                <a:cubicBezTo>
                  <a:pt x="5590" y="12391"/>
                  <a:pt x="5606" y="12608"/>
                  <a:pt x="5606" y="12849"/>
                </a:cubicBezTo>
                <a:cubicBezTo>
                  <a:pt x="5606" y="12994"/>
                  <a:pt x="5625" y="13128"/>
                  <a:pt x="5631" y="13271"/>
                </a:cubicBezTo>
                <a:cubicBezTo>
                  <a:pt x="5632" y="13299"/>
                  <a:pt x="5624" y="13434"/>
                  <a:pt x="5655" y="1337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Ink 9"/>
          <p:cNvSpPr/>
          <p:nvPr/>
        </p:nvSpPr>
        <p:spPr>
          <a:xfrm>
            <a:off x="2160720" y="4402080"/>
            <a:ext cx="714240" cy="420840"/>
          </a:xfrm>
          <a:custGeom>
            <a:avLst/>
            <a:gdLst/>
            <a:ahLst/>
            <a:rect l="l" t="t" r="r" b="b"/>
            <a:pathLst>
              <a:path w="1985" h="1167">
                <a:moveTo>
                  <a:pt x="6028" y="12526"/>
                </a:moveTo>
                <a:cubicBezTo>
                  <a:pt x="6047" y="12719"/>
                  <a:pt x="6052" y="12903"/>
                  <a:pt x="6052" y="13097"/>
                </a:cubicBezTo>
                <a:cubicBezTo>
                  <a:pt x="6052" y="13200"/>
                  <a:pt x="6077" y="13292"/>
                  <a:pt x="6077" y="13395"/>
                </a:cubicBezTo>
              </a:path>
              <a:path w="1985" h="1167">
                <a:moveTo>
                  <a:pt x="6003" y="12229"/>
                </a:moveTo>
                <a:cubicBezTo>
                  <a:pt x="6025" y="12290"/>
                  <a:pt x="6048" y="12344"/>
                  <a:pt x="6077" y="12402"/>
                </a:cubicBezTo>
              </a:path>
              <a:path w="1985" h="1167">
                <a:moveTo>
                  <a:pt x="6821" y="12700"/>
                </a:moveTo>
                <a:cubicBezTo>
                  <a:pt x="6821" y="12562"/>
                  <a:pt x="6857" y="12489"/>
                  <a:pt x="6772" y="12402"/>
                </a:cubicBezTo>
                <a:cubicBezTo>
                  <a:pt x="6631" y="12461"/>
                  <a:pt x="6590" y="12527"/>
                  <a:pt x="6499" y="12650"/>
                </a:cubicBezTo>
                <a:cubicBezTo>
                  <a:pt x="6412" y="12767"/>
                  <a:pt x="6294" y="12967"/>
                  <a:pt x="6325" y="13122"/>
                </a:cubicBezTo>
                <a:cubicBezTo>
                  <a:pt x="6350" y="13171"/>
                  <a:pt x="6359" y="13188"/>
                  <a:pt x="6375" y="13221"/>
                </a:cubicBezTo>
                <a:cubicBezTo>
                  <a:pt x="6471" y="13199"/>
                  <a:pt x="6556" y="13148"/>
                  <a:pt x="6598" y="13047"/>
                </a:cubicBezTo>
                <a:cubicBezTo>
                  <a:pt x="6658" y="12904"/>
                  <a:pt x="6697" y="12747"/>
                  <a:pt x="6747" y="12601"/>
                </a:cubicBezTo>
                <a:cubicBezTo>
                  <a:pt x="6763" y="12560"/>
                  <a:pt x="6780" y="12518"/>
                  <a:pt x="6796" y="12477"/>
                </a:cubicBezTo>
                <a:cubicBezTo>
                  <a:pt x="6763" y="12587"/>
                  <a:pt x="6716" y="12735"/>
                  <a:pt x="6722" y="12849"/>
                </a:cubicBezTo>
                <a:cubicBezTo>
                  <a:pt x="6730" y="12994"/>
                  <a:pt x="6779" y="13164"/>
                  <a:pt x="6896" y="13246"/>
                </a:cubicBezTo>
                <a:cubicBezTo>
                  <a:pt x="6972" y="13299"/>
                  <a:pt x="7035" y="13274"/>
                  <a:pt x="7094" y="13221"/>
                </a:cubicBezTo>
                <a:cubicBezTo>
                  <a:pt x="7211" y="13116"/>
                  <a:pt x="7247" y="12969"/>
                  <a:pt x="7293" y="12824"/>
                </a:cubicBezTo>
              </a:path>
              <a:path w="1985" h="1167">
                <a:moveTo>
                  <a:pt x="7367" y="12502"/>
                </a:moveTo>
                <a:cubicBezTo>
                  <a:pt x="7329" y="12576"/>
                  <a:pt x="7319" y="12683"/>
                  <a:pt x="7317" y="12774"/>
                </a:cubicBezTo>
                <a:cubicBezTo>
                  <a:pt x="7313" y="12927"/>
                  <a:pt x="7325" y="13073"/>
                  <a:pt x="7342" y="13221"/>
                </a:cubicBezTo>
                <a:cubicBezTo>
                  <a:pt x="7379" y="13239"/>
                  <a:pt x="7356" y="13053"/>
                  <a:pt x="7342" y="12923"/>
                </a:cubicBezTo>
                <a:cubicBezTo>
                  <a:pt x="7325" y="12766"/>
                  <a:pt x="7309" y="12557"/>
                  <a:pt x="7367" y="12402"/>
                </a:cubicBezTo>
                <a:cubicBezTo>
                  <a:pt x="7425" y="12247"/>
                  <a:pt x="7532" y="12296"/>
                  <a:pt x="7615" y="12353"/>
                </a:cubicBezTo>
                <a:cubicBezTo>
                  <a:pt x="7730" y="12432"/>
                  <a:pt x="7764" y="12638"/>
                  <a:pt x="7813" y="12774"/>
                </a:cubicBezTo>
                <a:cubicBezTo>
                  <a:pt x="7862" y="12909"/>
                  <a:pt x="7869" y="13071"/>
                  <a:pt x="7938" y="13196"/>
                </a:cubicBezTo>
                <a:cubicBezTo>
                  <a:pt x="7954" y="13221"/>
                  <a:pt x="7971" y="13246"/>
                  <a:pt x="7987" y="132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68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68" fill="hold"/>
                                        <p:tgtEl>
                                          <p:spTgt spid="6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68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68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ike Terms Equ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eorgia"/>
              </a:rPr>
              <a:t>4b + 6b = 70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2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eorgia"/>
              </a:rPr>
              <a:t>9c + 3 – 5c + 8 = 51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Ink 4"/>
          <p:cNvSpPr/>
          <p:nvPr/>
        </p:nvSpPr>
        <p:spPr>
          <a:xfrm>
            <a:off x="1446120" y="2320920"/>
            <a:ext cx="1455840" cy="733320"/>
          </a:xfrm>
          <a:custGeom>
            <a:avLst/>
            <a:gdLst/>
            <a:ahLst/>
            <a:rect l="l" t="t" r="r" b="b"/>
            <a:pathLst>
              <a:path w="4045" h="2035">
                <a:moveTo>
                  <a:pt x="4018" y="6499"/>
                </a:moveTo>
                <a:cubicBezTo>
                  <a:pt x="4026" y="6482"/>
                  <a:pt x="4035" y="6466"/>
                  <a:pt x="4043" y="6449"/>
                </a:cubicBezTo>
                <a:cubicBezTo>
                  <a:pt x="4079" y="6485"/>
                  <a:pt x="4109" y="6529"/>
                  <a:pt x="4118" y="6573"/>
                </a:cubicBezTo>
                <a:cubicBezTo>
                  <a:pt x="4133" y="6647"/>
                  <a:pt x="4134" y="6746"/>
                  <a:pt x="4142" y="6821"/>
                </a:cubicBezTo>
                <a:cubicBezTo>
                  <a:pt x="4161" y="6991"/>
                  <a:pt x="4142" y="7171"/>
                  <a:pt x="4142" y="7342"/>
                </a:cubicBezTo>
              </a:path>
              <a:path w="4045" h="2035">
                <a:moveTo>
                  <a:pt x="4465" y="6598"/>
                </a:moveTo>
                <a:cubicBezTo>
                  <a:pt x="4465" y="6694"/>
                  <a:pt x="4463" y="6805"/>
                  <a:pt x="4440" y="6896"/>
                </a:cubicBezTo>
                <a:cubicBezTo>
                  <a:pt x="4419" y="6979"/>
                  <a:pt x="4377" y="7079"/>
                  <a:pt x="4390" y="7169"/>
                </a:cubicBezTo>
                <a:cubicBezTo>
                  <a:pt x="4407" y="7284"/>
                  <a:pt x="4437" y="7303"/>
                  <a:pt x="4514" y="7342"/>
                </a:cubicBezTo>
                <a:cubicBezTo>
                  <a:pt x="4564" y="7368"/>
                  <a:pt x="4688" y="7313"/>
                  <a:pt x="4738" y="7268"/>
                </a:cubicBezTo>
                <a:cubicBezTo>
                  <a:pt x="4777" y="7233"/>
                  <a:pt x="4804" y="7117"/>
                  <a:pt x="4812" y="7069"/>
                </a:cubicBezTo>
                <a:cubicBezTo>
                  <a:pt x="4826" y="6984"/>
                  <a:pt x="4836" y="6906"/>
                  <a:pt x="4812" y="6821"/>
                </a:cubicBezTo>
                <a:cubicBezTo>
                  <a:pt x="4793" y="6754"/>
                  <a:pt x="4773" y="6707"/>
                  <a:pt x="4738" y="6648"/>
                </a:cubicBezTo>
                <a:cubicBezTo>
                  <a:pt x="4712" y="6605"/>
                  <a:pt x="4648" y="6559"/>
                  <a:pt x="4589" y="6573"/>
                </a:cubicBezTo>
                <a:cubicBezTo>
                  <a:pt x="4545" y="6595"/>
                  <a:pt x="4533" y="6598"/>
                  <a:pt x="4514" y="6623"/>
                </a:cubicBezTo>
              </a:path>
              <a:path w="4045" h="2035">
                <a:moveTo>
                  <a:pt x="5110" y="6548"/>
                </a:moveTo>
                <a:cubicBezTo>
                  <a:pt x="5105" y="6666"/>
                  <a:pt x="5069" y="6802"/>
                  <a:pt x="5085" y="6921"/>
                </a:cubicBezTo>
                <a:cubicBezTo>
                  <a:pt x="5098" y="7015"/>
                  <a:pt x="5130" y="7102"/>
                  <a:pt x="5135" y="7193"/>
                </a:cubicBezTo>
                <a:cubicBezTo>
                  <a:pt x="5135" y="7245"/>
                  <a:pt x="5136" y="7263"/>
                  <a:pt x="5159" y="7293"/>
                </a:cubicBezTo>
                <a:cubicBezTo>
                  <a:pt x="5189" y="7226"/>
                  <a:pt x="5222" y="7178"/>
                  <a:pt x="5259" y="7119"/>
                </a:cubicBezTo>
                <a:cubicBezTo>
                  <a:pt x="5287" y="7074"/>
                  <a:pt x="5297" y="6998"/>
                  <a:pt x="5333" y="6970"/>
                </a:cubicBezTo>
                <a:cubicBezTo>
                  <a:pt x="5392" y="6925"/>
                  <a:pt x="5456" y="6906"/>
                  <a:pt x="5531" y="6921"/>
                </a:cubicBezTo>
                <a:cubicBezTo>
                  <a:pt x="5627" y="6940"/>
                  <a:pt x="5663" y="7012"/>
                  <a:pt x="5680" y="7094"/>
                </a:cubicBezTo>
                <a:cubicBezTo>
                  <a:pt x="5690" y="7142"/>
                  <a:pt x="5651" y="7244"/>
                  <a:pt x="5606" y="7268"/>
                </a:cubicBezTo>
                <a:cubicBezTo>
                  <a:pt x="5516" y="7315"/>
                  <a:pt x="5406" y="7293"/>
                  <a:pt x="5308" y="7293"/>
                </a:cubicBezTo>
                <a:cubicBezTo>
                  <a:pt x="5257" y="7293"/>
                  <a:pt x="5239" y="7294"/>
                  <a:pt x="5209" y="7317"/>
                </a:cubicBezTo>
              </a:path>
              <a:path w="4045" h="2035">
                <a:moveTo>
                  <a:pt x="6176" y="6896"/>
                </a:moveTo>
                <a:cubicBezTo>
                  <a:pt x="6251" y="6896"/>
                  <a:pt x="6325" y="6896"/>
                  <a:pt x="6400" y="6896"/>
                </a:cubicBezTo>
              </a:path>
              <a:path w="4045" h="2035">
                <a:moveTo>
                  <a:pt x="6276" y="7069"/>
                </a:moveTo>
                <a:cubicBezTo>
                  <a:pt x="6367" y="7069"/>
                  <a:pt x="6457" y="7069"/>
                  <a:pt x="6548" y="7069"/>
                </a:cubicBezTo>
              </a:path>
              <a:path w="4045" h="2035">
                <a:moveTo>
                  <a:pt x="6672" y="6623"/>
                </a:moveTo>
                <a:cubicBezTo>
                  <a:pt x="6774" y="6605"/>
                  <a:pt x="6869" y="6577"/>
                  <a:pt x="6970" y="6573"/>
                </a:cubicBezTo>
                <a:cubicBezTo>
                  <a:pt x="6995" y="6573"/>
                  <a:pt x="7020" y="6573"/>
                  <a:pt x="7045" y="6573"/>
                </a:cubicBezTo>
              </a:path>
              <a:path w="4045" h="2035">
                <a:moveTo>
                  <a:pt x="7169" y="6548"/>
                </a:moveTo>
                <a:cubicBezTo>
                  <a:pt x="7160" y="6612"/>
                  <a:pt x="7142" y="6657"/>
                  <a:pt x="7119" y="6722"/>
                </a:cubicBezTo>
                <a:cubicBezTo>
                  <a:pt x="7092" y="6799"/>
                  <a:pt x="7072" y="6891"/>
                  <a:pt x="7069" y="6970"/>
                </a:cubicBezTo>
                <a:cubicBezTo>
                  <a:pt x="7066" y="7049"/>
                  <a:pt x="7033" y="7256"/>
                  <a:pt x="7094" y="7317"/>
                </a:cubicBezTo>
                <a:cubicBezTo>
                  <a:pt x="7102" y="7317"/>
                  <a:pt x="7111" y="7317"/>
                  <a:pt x="7119" y="7317"/>
                </a:cubicBezTo>
              </a:path>
              <a:path w="4045" h="2035">
                <a:moveTo>
                  <a:pt x="7541" y="6772"/>
                </a:moveTo>
                <a:cubicBezTo>
                  <a:pt x="7523" y="6898"/>
                  <a:pt x="7491" y="7001"/>
                  <a:pt x="7466" y="7119"/>
                </a:cubicBezTo>
                <a:cubicBezTo>
                  <a:pt x="7443" y="7229"/>
                  <a:pt x="7496" y="7298"/>
                  <a:pt x="7565" y="7367"/>
                </a:cubicBezTo>
                <a:cubicBezTo>
                  <a:pt x="7619" y="7422"/>
                  <a:pt x="7660" y="7437"/>
                  <a:pt x="7739" y="7441"/>
                </a:cubicBezTo>
                <a:cubicBezTo>
                  <a:pt x="7820" y="7445"/>
                  <a:pt x="7881" y="7395"/>
                  <a:pt x="7938" y="7342"/>
                </a:cubicBezTo>
                <a:cubicBezTo>
                  <a:pt x="7989" y="7294"/>
                  <a:pt x="8046" y="7191"/>
                  <a:pt x="8062" y="7119"/>
                </a:cubicBezTo>
                <a:cubicBezTo>
                  <a:pt x="8080" y="7039"/>
                  <a:pt x="8051" y="6890"/>
                  <a:pt x="8012" y="6821"/>
                </a:cubicBezTo>
                <a:cubicBezTo>
                  <a:pt x="7988" y="6778"/>
                  <a:pt x="7910" y="6674"/>
                  <a:pt x="7863" y="6648"/>
                </a:cubicBezTo>
                <a:cubicBezTo>
                  <a:pt x="7800" y="6614"/>
                  <a:pt x="7704" y="6584"/>
                  <a:pt x="7640" y="6623"/>
                </a:cubicBezTo>
                <a:cubicBezTo>
                  <a:pt x="7598" y="6664"/>
                  <a:pt x="7590" y="6672"/>
                  <a:pt x="7565" y="6697"/>
                </a:cubicBezTo>
              </a:path>
              <a:path w="4045" h="2035">
                <a:moveTo>
                  <a:pt x="4068" y="7491"/>
                </a:moveTo>
                <a:cubicBezTo>
                  <a:pt x="4182" y="7491"/>
                  <a:pt x="4278" y="7514"/>
                  <a:pt x="4390" y="7516"/>
                </a:cubicBezTo>
                <a:cubicBezTo>
                  <a:pt x="4584" y="7520"/>
                  <a:pt x="4769" y="7530"/>
                  <a:pt x="4961" y="7541"/>
                </a:cubicBezTo>
                <a:cubicBezTo>
                  <a:pt x="5118" y="7550"/>
                  <a:pt x="5276" y="7560"/>
                  <a:pt x="5432" y="7565"/>
                </a:cubicBezTo>
                <a:cubicBezTo>
                  <a:pt x="5507" y="7565"/>
                  <a:pt x="5531" y="7565"/>
                  <a:pt x="5581" y="7565"/>
                </a:cubicBezTo>
              </a:path>
              <a:path w="4045" h="2035">
                <a:moveTo>
                  <a:pt x="4738" y="7714"/>
                </a:moveTo>
                <a:cubicBezTo>
                  <a:pt x="4742" y="7831"/>
                  <a:pt x="4736" y="7969"/>
                  <a:pt x="4762" y="8086"/>
                </a:cubicBezTo>
                <a:cubicBezTo>
                  <a:pt x="4782" y="8176"/>
                  <a:pt x="4787" y="8241"/>
                  <a:pt x="4787" y="8334"/>
                </a:cubicBezTo>
                <a:cubicBezTo>
                  <a:pt x="4787" y="8383"/>
                  <a:pt x="4787" y="8483"/>
                  <a:pt x="4787" y="8434"/>
                </a:cubicBezTo>
              </a:path>
              <a:path w="4045" h="2035">
                <a:moveTo>
                  <a:pt x="5060" y="7938"/>
                </a:moveTo>
                <a:cubicBezTo>
                  <a:pt x="5013" y="8056"/>
                  <a:pt x="5001" y="8121"/>
                  <a:pt x="5011" y="8235"/>
                </a:cubicBezTo>
                <a:cubicBezTo>
                  <a:pt x="5020" y="8342"/>
                  <a:pt x="5031" y="8369"/>
                  <a:pt x="5110" y="8434"/>
                </a:cubicBezTo>
                <a:cubicBezTo>
                  <a:pt x="5153" y="8469"/>
                  <a:pt x="5194" y="8511"/>
                  <a:pt x="5259" y="8483"/>
                </a:cubicBezTo>
                <a:cubicBezTo>
                  <a:pt x="5339" y="8449"/>
                  <a:pt x="5403" y="8359"/>
                  <a:pt x="5432" y="8285"/>
                </a:cubicBezTo>
                <a:cubicBezTo>
                  <a:pt x="5464" y="8206"/>
                  <a:pt x="5476" y="8113"/>
                  <a:pt x="5432" y="8037"/>
                </a:cubicBezTo>
                <a:cubicBezTo>
                  <a:pt x="5405" y="7990"/>
                  <a:pt x="5325" y="7969"/>
                  <a:pt x="5283" y="7938"/>
                </a:cubicBezTo>
                <a:cubicBezTo>
                  <a:pt x="5246" y="7910"/>
                  <a:pt x="5202" y="7899"/>
                  <a:pt x="5159" y="788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Ink 5"/>
          <p:cNvSpPr/>
          <p:nvPr/>
        </p:nvSpPr>
        <p:spPr>
          <a:xfrm>
            <a:off x="2143080" y="2714760"/>
            <a:ext cx="758880" cy="750600"/>
          </a:xfrm>
          <a:custGeom>
            <a:avLst/>
            <a:gdLst/>
            <a:ahLst/>
            <a:rect l="l" t="t" r="r" b="b"/>
            <a:pathLst>
              <a:path w="2110" h="2084">
                <a:moveTo>
                  <a:pt x="6821" y="7565"/>
                </a:moveTo>
                <a:cubicBezTo>
                  <a:pt x="7008" y="7565"/>
                  <a:pt x="7183" y="7570"/>
                  <a:pt x="7367" y="7590"/>
                </a:cubicBezTo>
                <a:cubicBezTo>
                  <a:pt x="7477" y="7602"/>
                  <a:pt x="7581" y="7570"/>
                  <a:pt x="7689" y="7565"/>
                </a:cubicBezTo>
                <a:cubicBezTo>
                  <a:pt x="7730" y="7565"/>
                  <a:pt x="7747" y="7574"/>
                  <a:pt x="7739" y="7541"/>
                </a:cubicBezTo>
              </a:path>
              <a:path w="2110" h="2084">
                <a:moveTo>
                  <a:pt x="7218" y="7689"/>
                </a:moveTo>
                <a:cubicBezTo>
                  <a:pt x="7218" y="7835"/>
                  <a:pt x="7230" y="7967"/>
                  <a:pt x="7243" y="8111"/>
                </a:cubicBezTo>
                <a:cubicBezTo>
                  <a:pt x="7251" y="8198"/>
                  <a:pt x="7218" y="8500"/>
                  <a:pt x="7268" y="8483"/>
                </a:cubicBezTo>
              </a:path>
              <a:path w="2110" h="2084">
                <a:moveTo>
                  <a:pt x="7615" y="8012"/>
                </a:moveTo>
                <a:cubicBezTo>
                  <a:pt x="7557" y="8127"/>
                  <a:pt x="7546" y="8201"/>
                  <a:pt x="7541" y="8334"/>
                </a:cubicBezTo>
                <a:cubicBezTo>
                  <a:pt x="7539" y="8385"/>
                  <a:pt x="7570" y="8451"/>
                  <a:pt x="7615" y="8483"/>
                </a:cubicBezTo>
                <a:cubicBezTo>
                  <a:pt x="7699" y="8542"/>
                  <a:pt x="7815" y="8484"/>
                  <a:pt x="7888" y="8434"/>
                </a:cubicBezTo>
                <a:cubicBezTo>
                  <a:pt x="7961" y="8385"/>
                  <a:pt x="8006" y="8263"/>
                  <a:pt x="8037" y="8186"/>
                </a:cubicBezTo>
                <a:cubicBezTo>
                  <a:pt x="8103" y="8022"/>
                  <a:pt x="8010" y="7867"/>
                  <a:pt x="7838" y="7813"/>
                </a:cubicBezTo>
                <a:cubicBezTo>
                  <a:pt x="7754" y="7787"/>
                  <a:pt x="7647" y="7801"/>
                  <a:pt x="7565" y="7813"/>
                </a:cubicBezTo>
              </a:path>
              <a:path w="2110" h="2084">
                <a:moveTo>
                  <a:pt x="5953" y="8756"/>
                </a:moveTo>
                <a:cubicBezTo>
                  <a:pt x="5983" y="8806"/>
                  <a:pt x="5999" y="8866"/>
                  <a:pt x="6003" y="8930"/>
                </a:cubicBezTo>
                <a:cubicBezTo>
                  <a:pt x="6009" y="9028"/>
                  <a:pt x="5991" y="9110"/>
                  <a:pt x="5978" y="9203"/>
                </a:cubicBezTo>
                <a:cubicBezTo>
                  <a:pt x="5959" y="9338"/>
                  <a:pt x="5978" y="9487"/>
                  <a:pt x="5978" y="9624"/>
                </a:cubicBezTo>
                <a:cubicBezTo>
                  <a:pt x="6008" y="9575"/>
                  <a:pt x="6040" y="9489"/>
                  <a:pt x="6052" y="9426"/>
                </a:cubicBezTo>
                <a:cubicBezTo>
                  <a:pt x="6067" y="9345"/>
                  <a:pt x="6053" y="9342"/>
                  <a:pt x="6102" y="9277"/>
                </a:cubicBezTo>
                <a:cubicBezTo>
                  <a:pt x="6146" y="9218"/>
                  <a:pt x="6184" y="9132"/>
                  <a:pt x="6276" y="9153"/>
                </a:cubicBezTo>
                <a:cubicBezTo>
                  <a:pt x="6334" y="9166"/>
                  <a:pt x="6373" y="9231"/>
                  <a:pt x="6400" y="9277"/>
                </a:cubicBezTo>
                <a:cubicBezTo>
                  <a:pt x="6434" y="9335"/>
                  <a:pt x="6439" y="9458"/>
                  <a:pt x="6424" y="9525"/>
                </a:cubicBezTo>
                <a:cubicBezTo>
                  <a:pt x="6406" y="9602"/>
                  <a:pt x="6344" y="9620"/>
                  <a:pt x="6276" y="9624"/>
                </a:cubicBezTo>
                <a:cubicBezTo>
                  <a:pt x="6203" y="9628"/>
                  <a:pt x="6143" y="9628"/>
                  <a:pt x="6077" y="9599"/>
                </a:cubicBezTo>
                <a:cubicBezTo>
                  <a:pt x="6037" y="9579"/>
                  <a:pt x="6030" y="9571"/>
                  <a:pt x="6003" y="9575"/>
                </a:cubicBezTo>
              </a:path>
              <a:path w="2110" h="2084">
                <a:moveTo>
                  <a:pt x="6697" y="9252"/>
                </a:moveTo>
                <a:cubicBezTo>
                  <a:pt x="6805" y="9252"/>
                  <a:pt x="6912" y="9252"/>
                  <a:pt x="7020" y="9252"/>
                </a:cubicBezTo>
              </a:path>
              <a:path w="2110" h="2084">
                <a:moveTo>
                  <a:pt x="6821" y="9426"/>
                </a:moveTo>
                <a:cubicBezTo>
                  <a:pt x="6879" y="9434"/>
                  <a:pt x="6937" y="9443"/>
                  <a:pt x="6995" y="9451"/>
                </a:cubicBezTo>
              </a:path>
              <a:path w="2110" h="2084">
                <a:moveTo>
                  <a:pt x="7243" y="8979"/>
                </a:moveTo>
                <a:cubicBezTo>
                  <a:pt x="7339" y="8960"/>
                  <a:pt x="7419" y="8954"/>
                  <a:pt x="7516" y="8954"/>
                </a:cubicBezTo>
                <a:cubicBezTo>
                  <a:pt x="7590" y="8954"/>
                  <a:pt x="7665" y="8954"/>
                  <a:pt x="7739" y="8954"/>
                </a:cubicBezTo>
                <a:cubicBezTo>
                  <a:pt x="7709" y="9004"/>
                  <a:pt x="7692" y="9065"/>
                  <a:pt x="7689" y="9128"/>
                </a:cubicBezTo>
                <a:cubicBezTo>
                  <a:pt x="7685" y="9208"/>
                  <a:pt x="7674" y="9277"/>
                  <a:pt x="7665" y="9351"/>
                </a:cubicBezTo>
                <a:cubicBezTo>
                  <a:pt x="7655" y="9428"/>
                  <a:pt x="7677" y="9488"/>
                  <a:pt x="7689" y="9550"/>
                </a:cubicBezTo>
                <a:cubicBezTo>
                  <a:pt x="7689" y="9566"/>
                  <a:pt x="7689" y="9583"/>
                  <a:pt x="7689" y="959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Ink 6"/>
          <p:cNvSpPr/>
          <p:nvPr/>
        </p:nvSpPr>
        <p:spPr>
          <a:xfrm>
            <a:off x="1401840" y="4249800"/>
            <a:ext cx="2598840" cy="528480"/>
          </a:xfrm>
          <a:custGeom>
            <a:avLst/>
            <a:gdLst/>
            <a:ahLst/>
            <a:rect l="l" t="t" r="r" b="b"/>
            <a:pathLst>
              <a:path w="7219" h="1465">
                <a:moveTo>
                  <a:pt x="4564" y="12005"/>
                </a:moveTo>
                <a:cubicBezTo>
                  <a:pt x="4572" y="11997"/>
                  <a:pt x="4581" y="11989"/>
                  <a:pt x="4589" y="11981"/>
                </a:cubicBezTo>
                <a:cubicBezTo>
                  <a:pt x="4525" y="11917"/>
                  <a:pt x="4502" y="11944"/>
                  <a:pt x="4415" y="11981"/>
                </a:cubicBezTo>
                <a:cubicBezTo>
                  <a:pt x="4314" y="12024"/>
                  <a:pt x="4230" y="12065"/>
                  <a:pt x="4142" y="12129"/>
                </a:cubicBezTo>
                <a:cubicBezTo>
                  <a:pt x="4056" y="12191"/>
                  <a:pt x="3934" y="12214"/>
                  <a:pt x="3894" y="12328"/>
                </a:cubicBezTo>
                <a:cubicBezTo>
                  <a:pt x="3894" y="12345"/>
                  <a:pt x="3894" y="12361"/>
                  <a:pt x="3894" y="12378"/>
                </a:cubicBezTo>
                <a:cubicBezTo>
                  <a:pt x="3980" y="12386"/>
                  <a:pt x="4049" y="12402"/>
                  <a:pt x="4142" y="12402"/>
                </a:cubicBezTo>
                <a:cubicBezTo>
                  <a:pt x="4295" y="12402"/>
                  <a:pt x="4744" y="12467"/>
                  <a:pt x="4837" y="12378"/>
                </a:cubicBezTo>
              </a:path>
              <a:path w="7219" h="1465">
                <a:moveTo>
                  <a:pt x="4539" y="11807"/>
                </a:moveTo>
                <a:cubicBezTo>
                  <a:pt x="4585" y="11876"/>
                  <a:pt x="4606" y="11971"/>
                  <a:pt x="4614" y="12055"/>
                </a:cubicBezTo>
                <a:cubicBezTo>
                  <a:pt x="4627" y="12193"/>
                  <a:pt x="4634" y="12338"/>
                  <a:pt x="4638" y="12477"/>
                </a:cubicBezTo>
                <a:cubicBezTo>
                  <a:pt x="4643" y="12673"/>
                  <a:pt x="4594" y="12914"/>
                  <a:pt x="4663" y="13097"/>
                </a:cubicBezTo>
              </a:path>
              <a:path w="7219" h="1465">
                <a:moveTo>
                  <a:pt x="5631" y="12179"/>
                </a:moveTo>
                <a:cubicBezTo>
                  <a:pt x="5560" y="12093"/>
                  <a:pt x="5484" y="12140"/>
                  <a:pt x="5407" y="12229"/>
                </a:cubicBezTo>
                <a:cubicBezTo>
                  <a:pt x="5322" y="12327"/>
                  <a:pt x="5283" y="12437"/>
                  <a:pt x="5234" y="12551"/>
                </a:cubicBezTo>
                <a:cubicBezTo>
                  <a:pt x="5189" y="12656"/>
                  <a:pt x="5115" y="12802"/>
                  <a:pt x="5159" y="12923"/>
                </a:cubicBezTo>
                <a:cubicBezTo>
                  <a:pt x="5195" y="13022"/>
                  <a:pt x="5265" y="13089"/>
                  <a:pt x="5358" y="13122"/>
                </a:cubicBezTo>
                <a:cubicBezTo>
                  <a:pt x="5508" y="13175"/>
                  <a:pt x="5551" y="13173"/>
                  <a:pt x="5705" y="13122"/>
                </a:cubicBezTo>
                <a:cubicBezTo>
                  <a:pt x="5767" y="13101"/>
                  <a:pt x="5805" y="13086"/>
                  <a:pt x="5854" y="13047"/>
                </a:cubicBezTo>
              </a:path>
              <a:path w="7219" h="1465">
                <a:moveTo>
                  <a:pt x="6548" y="12129"/>
                </a:moveTo>
                <a:cubicBezTo>
                  <a:pt x="6548" y="12241"/>
                  <a:pt x="6534" y="12344"/>
                  <a:pt x="6524" y="12452"/>
                </a:cubicBezTo>
                <a:cubicBezTo>
                  <a:pt x="6509" y="12608"/>
                  <a:pt x="6481" y="12767"/>
                  <a:pt x="6474" y="12923"/>
                </a:cubicBezTo>
                <a:cubicBezTo>
                  <a:pt x="6472" y="12971"/>
                  <a:pt x="6472" y="13086"/>
                  <a:pt x="6499" y="13122"/>
                </a:cubicBezTo>
                <a:cubicBezTo>
                  <a:pt x="6507" y="13122"/>
                  <a:pt x="6516" y="13122"/>
                  <a:pt x="6524" y="13122"/>
                </a:cubicBezTo>
              </a:path>
              <a:path w="7219" h="1465">
                <a:moveTo>
                  <a:pt x="6127" y="12551"/>
                </a:moveTo>
                <a:cubicBezTo>
                  <a:pt x="6222" y="12525"/>
                  <a:pt x="6328" y="12510"/>
                  <a:pt x="6424" y="12502"/>
                </a:cubicBezTo>
                <a:cubicBezTo>
                  <a:pt x="6595" y="12487"/>
                  <a:pt x="6773" y="12502"/>
                  <a:pt x="6945" y="12502"/>
                </a:cubicBezTo>
              </a:path>
              <a:path w="7219" h="1465">
                <a:moveTo>
                  <a:pt x="7417" y="11931"/>
                </a:moveTo>
                <a:cubicBezTo>
                  <a:pt x="7427" y="12014"/>
                  <a:pt x="7458" y="12095"/>
                  <a:pt x="7466" y="12179"/>
                </a:cubicBezTo>
                <a:cubicBezTo>
                  <a:pt x="7486" y="12393"/>
                  <a:pt x="7524" y="12610"/>
                  <a:pt x="7541" y="12824"/>
                </a:cubicBezTo>
                <a:cubicBezTo>
                  <a:pt x="7551" y="12957"/>
                  <a:pt x="7559" y="13090"/>
                  <a:pt x="7565" y="13221"/>
                </a:cubicBezTo>
                <a:cubicBezTo>
                  <a:pt x="7569" y="13312"/>
                  <a:pt x="7581" y="13258"/>
                  <a:pt x="7590" y="13221"/>
                </a:cubicBezTo>
              </a:path>
              <a:path w="7219" h="1465">
                <a:moveTo>
                  <a:pt x="7863" y="11981"/>
                </a:moveTo>
                <a:cubicBezTo>
                  <a:pt x="7997" y="12113"/>
                  <a:pt x="8064" y="12176"/>
                  <a:pt x="8111" y="12353"/>
                </a:cubicBezTo>
                <a:cubicBezTo>
                  <a:pt x="8154" y="12516"/>
                  <a:pt x="8143" y="12660"/>
                  <a:pt x="8161" y="12824"/>
                </a:cubicBezTo>
                <a:cubicBezTo>
                  <a:pt x="8170" y="12905"/>
                  <a:pt x="8189" y="13037"/>
                  <a:pt x="8260" y="13072"/>
                </a:cubicBezTo>
              </a:path>
              <a:path w="7219" h="1465">
                <a:moveTo>
                  <a:pt x="8954" y="12055"/>
                </a:moveTo>
                <a:cubicBezTo>
                  <a:pt x="9099" y="12032"/>
                  <a:pt x="9229" y="12030"/>
                  <a:pt x="9376" y="12030"/>
                </a:cubicBezTo>
                <a:cubicBezTo>
                  <a:pt x="9481" y="12030"/>
                  <a:pt x="9557" y="12059"/>
                  <a:pt x="9649" y="12105"/>
                </a:cubicBezTo>
              </a:path>
              <a:path w="7219" h="1465">
                <a:moveTo>
                  <a:pt x="8855" y="12675"/>
                </a:moveTo>
                <a:cubicBezTo>
                  <a:pt x="9027" y="12723"/>
                  <a:pt x="9151" y="12750"/>
                  <a:pt x="9327" y="12750"/>
                </a:cubicBezTo>
                <a:cubicBezTo>
                  <a:pt x="9418" y="12750"/>
                  <a:pt x="9442" y="12750"/>
                  <a:pt x="9500" y="12750"/>
                </a:cubicBezTo>
              </a:path>
              <a:path w="7219" h="1465">
                <a:moveTo>
                  <a:pt x="10468" y="11906"/>
                </a:moveTo>
                <a:cubicBezTo>
                  <a:pt x="10375" y="11892"/>
                  <a:pt x="10243" y="11862"/>
                  <a:pt x="10145" y="11881"/>
                </a:cubicBezTo>
                <a:cubicBezTo>
                  <a:pt x="10084" y="11893"/>
                  <a:pt x="10008" y="11962"/>
                  <a:pt x="9996" y="12030"/>
                </a:cubicBezTo>
                <a:cubicBezTo>
                  <a:pt x="9981" y="12111"/>
                  <a:pt x="9971" y="12194"/>
                  <a:pt x="9971" y="12278"/>
                </a:cubicBezTo>
                <a:cubicBezTo>
                  <a:pt x="9971" y="12355"/>
                  <a:pt x="10012" y="12388"/>
                  <a:pt x="10046" y="12452"/>
                </a:cubicBezTo>
                <a:cubicBezTo>
                  <a:pt x="10075" y="12507"/>
                  <a:pt x="10138" y="12550"/>
                  <a:pt x="10195" y="12576"/>
                </a:cubicBezTo>
                <a:cubicBezTo>
                  <a:pt x="10313" y="12629"/>
                  <a:pt x="10397" y="12665"/>
                  <a:pt x="10468" y="12774"/>
                </a:cubicBezTo>
                <a:cubicBezTo>
                  <a:pt x="10532" y="12873"/>
                  <a:pt x="10532" y="12960"/>
                  <a:pt x="10492" y="13072"/>
                </a:cubicBezTo>
                <a:cubicBezTo>
                  <a:pt x="10461" y="13158"/>
                  <a:pt x="10349" y="13173"/>
                  <a:pt x="10269" y="13196"/>
                </a:cubicBezTo>
                <a:cubicBezTo>
                  <a:pt x="10143" y="13232"/>
                  <a:pt x="10038" y="13224"/>
                  <a:pt x="9922" y="13146"/>
                </a:cubicBezTo>
                <a:cubicBezTo>
                  <a:pt x="9825" y="13080"/>
                  <a:pt x="9875" y="12942"/>
                  <a:pt x="9897" y="12849"/>
                </a:cubicBezTo>
              </a:path>
              <a:path w="7219" h="1465">
                <a:moveTo>
                  <a:pt x="11013" y="11906"/>
                </a:moveTo>
                <a:cubicBezTo>
                  <a:pt x="11081" y="12012"/>
                  <a:pt x="11088" y="12053"/>
                  <a:pt x="11088" y="12179"/>
                </a:cubicBezTo>
                <a:cubicBezTo>
                  <a:pt x="11088" y="12381"/>
                  <a:pt x="11080" y="12577"/>
                  <a:pt x="11063" y="12774"/>
                </a:cubicBezTo>
                <a:cubicBezTo>
                  <a:pt x="11055" y="12863"/>
                  <a:pt x="11061" y="12965"/>
                  <a:pt x="11088" y="13047"/>
                </a:cubicBezTo>
                <a:cubicBezTo>
                  <a:pt x="11108" y="13088"/>
                  <a:pt x="11116" y="13094"/>
                  <a:pt x="11112" y="1312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Ink 7"/>
          <p:cNvSpPr/>
          <p:nvPr/>
        </p:nvSpPr>
        <p:spPr>
          <a:xfrm>
            <a:off x="2108160" y="4741920"/>
            <a:ext cx="1909800" cy="1054080"/>
          </a:xfrm>
          <a:custGeom>
            <a:avLst/>
            <a:gdLst/>
            <a:ahLst/>
            <a:rect l="l" t="t" r="r" b="b"/>
            <a:pathLst>
              <a:path w="5309" h="2928">
                <a:moveTo>
                  <a:pt x="8235" y="13444"/>
                </a:moveTo>
                <a:cubicBezTo>
                  <a:pt x="8301" y="13391"/>
                  <a:pt x="8377" y="13372"/>
                  <a:pt x="8458" y="13345"/>
                </a:cubicBezTo>
                <a:cubicBezTo>
                  <a:pt x="8552" y="13313"/>
                  <a:pt x="8658" y="13299"/>
                  <a:pt x="8756" y="13295"/>
                </a:cubicBezTo>
                <a:cubicBezTo>
                  <a:pt x="8781" y="13295"/>
                  <a:pt x="8805" y="13295"/>
                  <a:pt x="8830" y="13295"/>
                </a:cubicBezTo>
              </a:path>
              <a:path w="5309" h="2928">
                <a:moveTo>
                  <a:pt x="9922" y="13171"/>
                </a:moveTo>
                <a:cubicBezTo>
                  <a:pt x="9898" y="13304"/>
                  <a:pt x="9881" y="13437"/>
                  <a:pt x="9847" y="13568"/>
                </a:cubicBezTo>
                <a:cubicBezTo>
                  <a:pt x="9830" y="13633"/>
                  <a:pt x="9789" y="13781"/>
                  <a:pt x="9798" y="13841"/>
                </a:cubicBezTo>
                <a:cubicBezTo>
                  <a:pt x="9802" y="13869"/>
                  <a:pt x="9833" y="13905"/>
                  <a:pt x="9847" y="13915"/>
                </a:cubicBezTo>
              </a:path>
              <a:path w="5309" h="2928">
                <a:moveTo>
                  <a:pt x="10443" y="13246"/>
                </a:moveTo>
                <a:cubicBezTo>
                  <a:pt x="10582" y="13182"/>
                  <a:pt x="10541" y="13203"/>
                  <a:pt x="10567" y="13320"/>
                </a:cubicBezTo>
                <a:cubicBezTo>
                  <a:pt x="10597" y="13459"/>
                  <a:pt x="10637" y="13599"/>
                  <a:pt x="10641" y="13742"/>
                </a:cubicBezTo>
                <a:cubicBezTo>
                  <a:pt x="10644" y="13840"/>
                  <a:pt x="10666" y="13916"/>
                  <a:pt x="10666" y="14015"/>
                </a:cubicBezTo>
                <a:cubicBezTo>
                  <a:pt x="10666" y="14023"/>
                  <a:pt x="10666" y="14031"/>
                  <a:pt x="10666" y="14039"/>
                </a:cubicBezTo>
              </a:path>
              <a:path w="5309" h="2928">
                <a:moveTo>
                  <a:pt x="9029" y="13990"/>
                </a:moveTo>
                <a:cubicBezTo>
                  <a:pt x="9119" y="14035"/>
                  <a:pt x="9244" y="14015"/>
                  <a:pt x="9351" y="14015"/>
                </a:cubicBezTo>
                <a:cubicBezTo>
                  <a:pt x="9492" y="14015"/>
                  <a:pt x="9630" y="13990"/>
                  <a:pt x="9773" y="13990"/>
                </a:cubicBezTo>
                <a:cubicBezTo>
                  <a:pt x="9939" y="13990"/>
                  <a:pt x="10102" y="13944"/>
                  <a:pt x="10269" y="13965"/>
                </a:cubicBezTo>
                <a:cubicBezTo>
                  <a:pt x="10432" y="13986"/>
                  <a:pt x="10602" y="13985"/>
                  <a:pt x="10765" y="14015"/>
                </a:cubicBezTo>
                <a:cubicBezTo>
                  <a:pt x="10838" y="14039"/>
                  <a:pt x="10862" y="14047"/>
                  <a:pt x="10914" y="14039"/>
                </a:cubicBezTo>
              </a:path>
              <a:path w="5309" h="2928">
                <a:moveTo>
                  <a:pt x="10939" y="14263"/>
                </a:moveTo>
                <a:cubicBezTo>
                  <a:pt x="10870" y="14235"/>
                  <a:pt x="10803" y="14280"/>
                  <a:pt x="10740" y="14337"/>
                </a:cubicBezTo>
                <a:cubicBezTo>
                  <a:pt x="10654" y="14414"/>
                  <a:pt x="10555" y="14485"/>
                  <a:pt x="10492" y="14585"/>
                </a:cubicBezTo>
                <a:cubicBezTo>
                  <a:pt x="10431" y="14682"/>
                  <a:pt x="10363" y="14852"/>
                  <a:pt x="10443" y="14957"/>
                </a:cubicBezTo>
                <a:cubicBezTo>
                  <a:pt x="10480" y="15005"/>
                  <a:pt x="10612" y="15040"/>
                  <a:pt x="10666" y="15032"/>
                </a:cubicBezTo>
                <a:cubicBezTo>
                  <a:pt x="10761" y="15017"/>
                  <a:pt x="10870" y="14972"/>
                  <a:pt x="10939" y="14908"/>
                </a:cubicBezTo>
                <a:cubicBezTo>
                  <a:pt x="11050" y="14806"/>
                  <a:pt x="11137" y="14661"/>
                  <a:pt x="11162" y="14511"/>
                </a:cubicBezTo>
                <a:cubicBezTo>
                  <a:pt x="11174" y="14438"/>
                  <a:pt x="11132" y="14257"/>
                  <a:pt x="11063" y="14213"/>
                </a:cubicBezTo>
                <a:cubicBezTo>
                  <a:pt x="10955" y="14144"/>
                  <a:pt x="10786" y="14163"/>
                  <a:pt x="10666" y="14163"/>
                </a:cubicBezTo>
                <a:cubicBezTo>
                  <a:pt x="10524" y="14163"/>
                  <a:pt x="10428" y="14177"/>
                  <a:pt x="10294" y="14238"/>
                </a:cubicBezTo>
                <a:cubicBezTo>
                  <a:pt x="10277" y="14246"/>
                  <a:pt x="10261" y="14255"/>
                  <a:pt x="10244" y="14263"/>
                </a:cubicBezTo>
              </a:path>
              <a:path w="5309" h="2928">
                <a:moveTo>
                  <a:pt x="9897" y="13965"/>
                </a:moveTo>
                <a:cubicBezTo>
                  <a:pt x="9693" y="14022"/>
                  <a:pt x="9554" y="14059"/>
                  <a:pt x="9376" y="14188"/>
                </a:cubicBezTo>
                <a:cubicBezTo>
                  <a:pt x="9301" y="14245"/>
                  <a:pt x="9289" y="14249"/>
                  <a:pt x="9252" y="14288"/>
                </a:cubicBezTo>
                <a:cubicBezTo>
                  <a:pt x="9273" y="14336"/>
                  <a:pt x="9329" y="14395"/>
                  <a:pt x="9401" y="14412"/>
                </a:cubicBezTo>
                <a:cubicBezTo>
                  <a:pt x="9521" y="14440"/>
                  <a:pt x="9648" y="14472"/>
                  <a:pt x="9773" y="14486"/>
                </a:cubicBezTo>
                <a:cubicBezTo>
                  <a:pt x="9790" y="14486"/>
                  <a:pt x="9806" y="14486"/>
                  <a:pt x="9823" y="14486"/>
                </a:cubicBezTo>
              </a:path>
              <a:path w="5309" h="2928">
                <a:moveTo>
                  <a:pt x="9649" y="13891"/>
                </a:moveTo>
                <a:cubicBezTo>
                  <a:pt x="9649" y="13992"/>
                  <a:pt x="9679" y="14120"/>
                  <a:pt x="9674" y="14213"/>
                </a:cubicBezTo>
                <a:cubicBezTo>
                  <a:pt x="9665" y="14378"/>
                  <a:pt x="9617" y="14544"/>
                  <a:pt x="9599" y="14709"/>
                </a:cubicBezTo>
                <a:cubicBezTo>
                  <a:pt x="9591" y="14782"/>
                  <a:pt x="9599" y="14859"/>
                  <a:pt x="9599" y="14932"/>
                </a:cubicBezTo>
              </a:path>
              <a:path w="5309" h="2928">
                <a:moveTo>
                  <a:pt x="8186" y="14089"/>
                </a:moveTo>
                <a:cubicBezTo>
                  <a:pt x="8302" y="14076"/>
                  <a:pt x="8413" y="14064"/>
                  <a:pt x="8533" y="14064"/>
                </a:cubicBezTo>
                <a:cubicBezTo>
                  <a:pt x="8638" y="14064"/>
                  <a:pt x="8732" y="14057"/>
                  <a:pt x="8830" y="14089"/>
                </a:cubicBezTo>
                <a:cubicBezTo>
                  <a:pt x="8888" y="14108"/>
                  <a:pt x="8895" y="14117"/>
                  <a:pt x="8930" y="14114"/>
                </a:cubicBezTo>
              </a:path>
              <a:path w="5309" h="2928">
                <a:moveTo>
                  <a:pt x="7789" y="14511"/>
                </a:moveTo>
                <a:cubicBezTo>
                  <a:pt x="7890" y="14539"/>
                  <a:pt x="7979" y="14536"/>
                  <a:pt x="8086" y="14536"/>
                </a:cubicBezTo>
                <a:cubicBezTo>
                  <a:pt x="8203" y="14536"/>
                  <a:pt x="8293" y="14526"/>
                  <a:pt x="8409" y="14536"/>
                </a:cubicBezTo>
              </a:path>
              <a:path w="5309" h="2928">
                <a:moveTo>
                  <a:pt x="6623" y="13543"/>
                </a:moveTo>
                <a:cubicBezTo>
                  <a:pt x="6492" y="13574"/>
                  <a:pt x="6326" y="13627"/>
                  <a:pt x="6201" y="13692"/>
                </a:cubicBezTo>
                <a:cubicBezTo>
                  <a:pt x="6114" y="13737"/>
                  <a:pt x="6006" y="13808"/>
                  <a:pt x="5928" y="13866"/>
                </a:cubicBezTo>
                <a:cubicBezTo>
                  <a:pt x="5887" y="13907"/>
                  <a:pt x="5879" y="13915"/>
                  <a:pt x="5854" y="13940"/>
                </a:cubicBezTo>
                <a:cubicBezTo>
                  <a:pt x="5914" y="13976"/>
                  <a:pt x="5959" y="13950"/>
                  <a:pt x="6028" y="13965"/>
                </a:cubicBezTo>
                <a:cubicBezTo>
                  <a:pt x="6156" y="13993"/>
                  <a:pt x="6294" y="14001"/>
                  <a:pt x="6424" y="14015"/>
                </a:cubicBezTo>
                <a:cubicBezTo>
                  <a:pt x="6494" y="14023"/>
                  <a:pt x="6568" y="14023"/>
                  <a:pt x="6623" y="13990"/>
                </a:cubicBezTo>
              </a:path>
              <a:path w="5309" h="2928">
                <a:moveTo>
                  <a:pt x="6449" y="13370"/>
                </a:moveTo>
                <a:cubicBezTo>
                  <a:pt x="6493" y="13526"/>
                  <a:pt x="6537" y="13679"/>
                  <a:pt x="6548" y="13841"/>
                </a:cubicBezTo>
                <a:cubicBezTo>
                  <a:pt x="6561" y="14039"/>
                  <a:pt x="6503" y="14276"/>
                  <a:pt x="6573" y="14461"/>
                </a:cubicBezTo>
              </a:path>
              <a:path w="5309" h="2928">
                <a:moveTo>
                  <a:pt x="7045" y="13816"/>
                </a:moveTo>
                <a:cubicBezTo>
                  <a:pt x="6982" y="13785"/>
                  <a:pt x="6968" y="13840"/>
                  <a:pt x="6921" y="13891"/>
                </a:cubicBezTo>
                <a:cubicBezTo>
                  <a:pt x="6818" y="14004"/>
                  <a:pt x="6742" y="14094"/>
                  <a:pt x="6747" y="14263"/>
                </a:cubicBezTo>
                <a:cubicBezTo>
                  <a:pt x="6750" y="14354"/>
                  <a:pt x="6768" y="14501"/>
                  <a:pt x="6846" y="14560"/>
                </a:cubicBezTo>
                <a:cubicBezTo>
                  <a:pt x="6940" y="14631"/>
                  <a:pt x="7051" y="14660"/>
                  <a:pt x="7169" y="14635"/>
                </a:cubicBezTo>
                <a:cubicBezTo>
                  <a:pt x="7236" y="14612"/>
                  <a:pt x="7254" y="14607"/>
                  <a:pt x="7293" y="14585"/>
                </a:cubicBezTo>
              </a:path>
              <a:path w="5309" h="2928">
                <a:moveTo>
                  <a:pt x="7169" y="15106"/>
                </a:moveTo>
                <a:cubicBezTo>
                  <a:pt x="7104" y="15106"/>
                  <a:pt x="7020" y="15103"/>
                  <a:pt x="6970" y="15156"/>
                </a:cubicBezTo>
                <a:cubicBezTo>
                  <a:pt x="6927" y="15202"/>
                  <a:pt x="6823" y="15270"/>
                  <a:pt x="6796" y="15329"/>
                </a:cubicBezTo>
                <a:cubicBezTo>
                  <a:pt x="6732" y="15469"/>
                  <a:pt x="6706" y="15651"/>
                  <a:pt x="6697" y="15801"/>
                </a:cubicBezTo>
                <a:cubicBezTo>
                  <a:pt x="6693" y="15879"/>
                  <a:pt x="6701" y="15999"/>
                  <a:pt x="6772" y="16049"/>
                </a:cubicBezTo>
                <a:cubicBezTo>
                  <a:pt x="6834" y="16093"/>
                  <a:pt x="6908" y="16123"/>
                  <a:pt x="6970" y="16073"/>
                </a:cubicBezTo>
                <a:cubicBezTo>
                  <a:pt x="7054" y="16006"/>
                  <a:pt x="7113" y="15946"/>
                  <a:pt x="7169" y="15850"/>
                </a:cubicBezTo>
                <a:cubicBezTo>
                  <a:pt x="7177" y="15834"/>
                  <a:pt x="7185" y="15817"/>
                  <a:pt x="7193" y="15801"/>
                </a:cubicBezTo>
              </a:path>
              <a:path w="5309" h="2928">
                <a:moveTo>
                  <a:pt x="7293" y="15131"/>
                </a:moveTo>
                <a:cubicBezTo>
                  <a:pt x="7411" y="15131"/>
                  <a:pt x="7482" y="15099"/>
                  <a:pt x="7590" y="15081"/>
                </a:cubicBezTo>
                <a:cubicBezTo>
                  <a:pt x="7686" y="15065"/>
                  <a:pt x="7797" y="15081"/>
                  <a:pt x="7888" y="15106"/>
                </a:cubicBezTo>
              </a:path>
              <a:path w="5309" h="2928">
                <a:moveTo>
                  <a:pt x="7367" y="15453"/>
                </a:moveTo>
                <a:cubicBezTo>
                  <a:pt x="7472" y="15453"/>
                  <a:pt x="7563" y="15451"/>
                  <a:pt x="7665" y="15429"/>
                </a:cubicBezTo>
                <a:cubicBezTo>
                  <a:pt x="7769" y="15407"/>
                  <a:pt x="7856" y="15420"/>
                  <a:pt x="7938" y="15354"/>
                </a:cubicBezTo>
              </a:path>
              <a:path w="5309" h="2928">
                <a:moveTo>
                  <a:pt x="8359" y="14908"/>
                </a:moveTo>
                <a:cubicBezTo>
                  <a:pt x="8376" y="14908"/>
                  <a:pt x="8392" y="14908"/>
                  <a:pt x="8409" y="14908"/>
                </a:cubicBezTo>
                <a:cubicBezTo>
                  <a:pt x="8409" y="15004"/>
                  <a:pt x="8393" y="15089"/>
                  <a:pt x="8384" y="15180"/>
                </a:cubicBezTo>
                <a:cubicBezTo>
                  <a:pt x="8372" y="15310"/>
                  <a:pt x="8405" y="15426"/>
                  <a:pt x="8409" y="15553"/>
                </a:cubicBezTo>
                <a:cubicBezTo>
                  <a:pt x="8412" y="15646"/>
                  <a:pt x="8420" y="15698"/>
                  <a:pt x="8483" y="15751"/>
                </a:cubicBezTo>
              </a:path>
              <a:path w="5309" h="2928">
                <a:moveTo>
                  <a:pt x="9054" y="14982"/>
                </a:moveTo>
                <a:cubicBezTo>
                  <a:pt x="8989" y="14890"/>
                  <a:pt x="8986" y="14874"/>
                  <a:pt x="8880" y="14908"/>
                </a:cubicBezTo>
                <a:cubicBezTo>
                  <a:pt x="8791" y="14937"/>
                  <a:pt x="8720" y="15057"/>
                  <a:pt x="8682" y="15131"/>
                </a:cubicBezTo>
                <a:cubicBezTo>
                  <a:pt x="8618" y="15255"/>
                  <a:pt x="8621" y="15348"/>
                  <a:pt x="8632" y="15478"/>
                </a:cubicBezTo>
                <a:cubicBezTo>
                  <a:pt x="8641" y="15578"/>
                  <a:pt x="8664" y="15661"/>
                  <a:pt x="8781" y="15677"/>
                </a:cubicBezTo>
                <a:cubicBezTo>
                  <a:pt x="8898" y="15693"/>
                  <a:pt x="9046" y="15679"/>
                  <a:pt x="9153" y="15627"/>
                </a:cubicBezTo>
                <a:cubicBezTo>
                  <a:pt x="9246" y="15582"/>
                  <a:pt x="9354" y="15472"/>
                  <a:pt x="9401" y="15379"/>
                </a:cubicBezTo>
                <a:cubicBezTo>
                  <a:pt x="9441" y="15300"/>
                  <a:pt x="9471" y="15196"/>
                  <a:pt x="9451" y="15106"/>
                </a:cubicBezTo>
                <a:cubicBezTo>
                  <a:pt x="9425" y="14994"/>
                  <a:pt x="9342" y="14922"/>
                  <a:pt x="9252" y="14858"/>
                </a:cubicBezTo>
                <a:cubicBezTo>
                  <a:pt x="9172" y="14802"/>
                  <a:pt x="9084" y="14835"/>
                  <a:pt x="9004" y="14858"/>
                </a:cubicBezTo>
                <a:cubicBezTo>
                  <a:pt x="8880" y="14894"/>
                  <a:pt x="8835" y="14924"/>
                  <a:pt x="8781" y="1503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Ink 8"/>
          <p:cNvSpPr/>
          <p:nvPr/>
        </p:nvSpPr>
        <p:spPr>
          <a:xfrm>
            <a:off x="2152800" y="5626080"/>
            <a:ext cx="1384200" cy="608040"/>
          </a:xfrm>
          <a:custGeom>
            <a:avLst/>
            <a:gdLst/>
            <a:ahLst/>
            <a:rect l="l" t="t" r="r" b="b"/>
            <a:pathLst>
              <a:path w="3846" h="1688">
                <a:moveTo>
                  <a:pt x="6648" y="16148"/>
                </a:moveTo>
                <a:cubicBezTo>
                  <a:pt x="6648" y="16073"/>
                  <a:pt x="6650" y="16032"/>
                  <a:pt x="6598" y="15974"/>
                </a:cubicBezTo>
                <a:cubicBezTo>
                  <a:pt x="6543" y="15912"/>
                  <a:pt x="6434" y="15960"/>
                  <a:pt x="6375" y="15999"/>
                </a:cubicBezTo>
                <a:cubicBezTo>
                  <a:pt x="6292" y="16054"/>
                  <a:pt x="6103" y="16184"/>
                  <a:pt x="6052" y="16272"/>
                </a:cubicBezTo>
                <a:cubicBezTo>
                  <a:pt x="5992" y="16376"/>
                  <a:pt x="5978" y="16501"/>
                  <a:pt x="5978" y="16619"/>
                </a:cubicBezTo>
                <a:cubicBezTo>
                  <a:pt x="5978" y="16709"/>
                  <a:pt x="6020" y="16715"/>
                  <a:pt x="6102" y="16718"/>
                </a:cubicBezTo>
                <a:cubicBezTo>
                  <a:pt x="6236" y="16722"/>
                  <a:pt x="6305" y="16685"/>
                  <a:pt x="6400" y="16594"/>
                </a:cubicBezTo>
                <a:cubicBezTo>
                  <a:pt x="6512" y="16486"/>
                  <a:pt x="6546" y="16399"/>
                  <a:pt x="6623" y="16272"/>
                </a:cubicBezTo>
                <a:cubicBezTo>
                  <a:pt x="6681" y="16175"/>
                  <a:pt x="6697" y="16212"/>
                  <a:pt x="6672" y="16123"/>
                </a:cubicBezTo>
                <a:cubicBezTo>
                  <a:pt x="6577" y="16133"/>
                  <a:pt x="6551" y="16136"/>
                  <a:pt x="6524" y="16222"/>
                </a:cubicBezTo>
                <a:cubicBezTo>
                  <a:pt x="6472" y="16385"/>
                  <a:pt x="6543" y="16519"/>
                  <a:pt x="6598" y="16669"/>
                </a:cubicBezTo>
                <a:cubicBezTo>
                  <a:pt x="6645" y="16797"/>
                  <a:pt x="6667" y="16931"/>
                  <a:pt x="6672" y="17066"/>
                </a:cubicBezTo>
                <a:cubicBezTo>
                  <a:pt x="6676" y="17178"/>
                  <a:pt x="6623" y="17169"/>
                  <a:pt x="6573" y="17239"/>
                </a:cubicBezTo>
                <a:cubicBezTo>
                  <a:pt x="6520" y="17313"/>
                  <a:pt x="6446" y="17334"/>
                  <a:pt x="6350" y="17314"/>
                </a:cubicBezTo>
                <a:cubicBezTo>
                  <a:pt x="6204" y="17283"/>
                  <a:pt x="6122" y="17215"/>
                  <a:pt x="6052" y="17090"/>
                </a:cubicBezTo>
                <a:cubicBezTo>
                  <a:pt x="6044" y="17074"/>
                  <a:pt x="6036" y="17057"/>
                  <a:pt x="6028" y="17041"/>
                </a:cubicBezTo>
              </a:path>
              <a:path w="3846" h="1688">
                <a:moveTo>
                  <a:pt x="6772" y="16272"/>
                </a:moveTo>
                <a:cubicBezTo>
                  <a:pt x="6898" y="16200"/>
                  <a:pt x="6917" y="16206"/>
                  <a:pt x="6970" y="16148"/>
                </a:cubicBezTo>
                <a:cubicBezTo>
                  <a:pt x="6956" y="16229"/>
                  <a:pt x="6928" y="16315"/>
                  <a:pt x="6921" y="16396"/>
                </a:cubicBezTo>
                <a:cubicBezTo>
                  <a:pt x="6911" y="16504"/>
                  <a:pt x="6896" y="16608"/>
                  <a:pt x="6896" y="16718"/>
                </a:cubicBezTo>
                <a:cubicBezTo>
                  <a:pt x="6896" y="16760"/>
                  <a:pt x="6896" y="16835"/>
                  <a:pt x="6896" y="16793"/>
                </a:cubicBezTo>
              </a:path>
              <a:path w="3846" h="1688">
                <a:moveTo>
                  <a:pt x="6995" y="15825"/>
                </a:moveTo>
                <a:cubicBezTo>
                  <a:pt x="6995" y="15833"/>
                  <a:pt x="6995" y="15842"/>
                  <a:pt x="6995" y="15850"/>
                </a:cubicBezTo>
              </a:path>
              <a:path w="3846" h="1688">
                <a:moveTo>
                  <a:pt x="7367" y="15726"/>
                </a:moveTo>
                <a:cubicBezTo>
                  <a:pt x="7428" y="15862"/>
                  <a:pt x="7427" y="15976"/>
                  <a:pt x="7392" y="16123"/>
                </a:cubicBezTo>
                <a:cubicBezTo>
                  <a:pt x="7359" y="16263"/>
                  <a:pt x="7332" y="16425"/>
                  <a:pt x="7317" y="16570"/>
                </a:cubicBezTo>
                <a:cubicBezTo>
                  <a:pt x="7307" y="16664"/>
                  <a:pt x="7296" y="16754"/>
                  <a:pt x="7268" y="16842"/>
                </a:cubicBezTo>
                <a:cubicBezTo>
                  <a:pt x="7268" y="16834"/>
                  <a:pt x="7268" y="16826"/>
                  <a:pt x="7268" y="16818"/>
                </a:cubicBezTo>
              </a:path>
              <a:path w="3846" h="1688">
                <a:moveTo>
                  <a:pt x="7640" y="15776"/>
                </a:moveTo>
                <a:cubicBezTo>
                  <a:pt x="7663" y="15879"/>
                  <a:pt x="7625" y="15962"/>
                  <a:pt x="7615" y="16073"/>
                </a:cubicBezTo>
                <a:cubicBezTo>
                  <a:pt x="7602" y="16229"/>
                  <a:pt x="7584" y="16389"/>
                  <a:pt x="7565" y="16545"/>
                </a:cubicBezTo>
                <a:cubicBezTo>
                  <a:pt x="7564" y="16557"/>
                  <a:pt x="7506" y="16820"/>
                  <a:pt x="7541" y="16842"/>
                </a:cubicBezTo>
                <a:cubicBezTo>
                  <a:pt x="7549" y="16834"/>
                  <a:pt x="7557" y="16826"/>
                  <a:pt x="7565" y="16818"/>
                </a:cubicBezTo>
              </a:path>
              <a:path w="3846" h="1688">
                <a:moveTo>
                  <a:pt x="8037" y="15999"/>
                </a:moveTo>
                <a:cubicBezTo>
                  <a:pt x="8060" y="16147"/>
                  <a:pt x="8050" y="16228"/>
                  <a:pt x="8037" y="16371"/>
                </a:cubicBezTo>
                <a:cubicBezTo>
                  <a:pt x="8032" y="16427"/>
                  <a:pt x="8024" y="16571"/>
                  <a:pt x="7987" y="16619"/>
                </a:cubicBezTo>
                <a:cubicBezTo>
                  <a:pt x="7979" y="16619"/>
                  <a:pt x="7970" y="16619"/>
                  <a:pt x="7962" y="16619"/>
                </a:cubicBezTo>
              </a:path>
              <a:path w="3846" h="1688">
                <a:moveTo>
                  <a:pt x="8086" y="15627"/>
                </a:moveTo>
                <a:cubicBezTo>
                  <a:pt x="8110" y="15675"/>
                  <a:pt x="8118" y="15689"/>
                  <a:pt x="8111" y="15726"/>
                </a:cubicBezTo>
              </a:path>
              <a:path w="3846" h="1688">
                <a:moveTo>
                  <a:pt x="8657" y="16173"/>
                </a:moveTo>
                <a:cubicBezTo>
                  <a:pt x="8681" y="16124"/>
                  <a:pt x="8736" y="16027"/>
                  <a:pt x="8731" y="15974"/>
                </a:cubicBezTo>
                <a:cubicBezTo>
                  <a:pt x="8711" y="15914"/>
                  <a:pt x="8712" y="15900"/>
                  <a:pt x="8682" y="15875"/>
                </a:cubicBezTo>
                <a:cubicBezTo>
                  <a:pt x="8549" y="15892"/>
                  <a:pt x="8456" y="15982"/>
                  <a:pt x="8359" y="16073"/>
                </a:cubicBezTo>
                <a:cubicBezTo>
                  <a:pt x="8277" y="16150"/>
                  <a:pt x="8206" y="16258"/>
                  <a:pt x="8186" y="16371"/>
                </a:cubicBezTo>
                <a:cubicBezTo>
                  <a:pt x="8177" y="16420"/>
                  <a:pt x="8191" y="16555"/>
                  <a:pt x="8260" y="16570"/>
                </a:cubicBezTo>
                <a:cubicBezTo>
                  <a:pt x="8385" y="16597"/>
                  <a:pt x="8432" y="16515"/>
                  <a:pt x="8483" y="16421"/>
                </a:cubicBezTo>
                <a:cubicBezTo>
                  <a:pt x="8547" y="16304"/>
                  <a:pt x="8629" y="16193"/>
                  <a:pt x="8682" y="16073"/>
                </a:cubicBezTo>
                <a:cubicBezTo>
                  <a:pt x="8695" y="16044"/>
                  <a:pt x="8760" y="15890"/>
                  <a:pt x="8682" y="15999"/>
                </a:cubicBezTo>
                <a:cubicBezTo>
                  <a:pt x="8657" y="16108"/>
                  <a:pt x="8636" y="16210"/>
                  <a:pt x="8632" y="16321"/>
                </a:cubicBezTo>
                <a:cubicBezTo>
                  <a:pt x="8629" y="16422"/>
                  <a:pt x="8646" y="16529"/>
                  <a:pt x="8731" y="16594"/>
                </a:cubicBezTo>
                <a:cubicBezTo>
                  <a:pt x="8826" y="16666"/>
                  <a:pt x="8863" y="16627"/>
                  <a:pt x="8954" y="16570"/>
                </a:cubicBezTo>
              </a:path>
              <a:path w="3846" h="1688">
                <a:moveTo>
                  <a:pt x="9252" y="15999"/>
                </a:moveTo>
                <a:cubicBezTo>
                  <a:pt x="9243" y="16101"/>
                  <a:pt x="9213" y="16195"/>
                  <a:pt x="9203" y="16297"/>
                </a:cubicBezTo>
                <a:cubicBezTo>
                  <a:pt x="9194" y="16387"/>
                  <a:pt x="9188" y="16472"/>
                  <a:pt x="9128" y="16545"/>
                </a:cubicBezTo>
                <a:cubicBezTo>
                  <a:pt x="9120" y="16553"/>
                  <a:pt x="9111" y="16562"/>
                  <a:pt x="9103" y="16570"/>
                </a:cubicBezTo>
                <a:cubicBezTo>
                  <a:pt x="9141" y="16404"/>
                  <a:pt x="9189" y="16293"/>
                  <a:pt x="9277" y="16148"/>
                </a:cubicBezTo>
                <a:cubicBezTo>
                  <a:pt x="9368" y="15997"/>
                  <a:pt x="9443" y="15925"/>
                  <a:pt x="9599" y="15850"/>
                </a:cubicBezTo>
                <a:cubicBezTo>
                  <a:pt x="9673" y="15814"/>
                  <a:pt x="9739" y="15850"/>
                  <a:pt x="9773" y="15925"/>
                </a:cubicBezTo>
                <a:cubicBezTo>
                  <a:pt x="9819" y="16025"/>
                  <a:pt x="9823" y="16114"/>
                  <a:pt x="9823" y="16222"/>
                </a:cubicBezTo>
                <a:cubicBezTo>
                  <a:pt x="9823" y="16370"/>
                  <a:pt x="9798" y="16499"/>
                  <a:pt x="9798" y="16644"/>
                </a:cubicBezTo>
                <a:cubicBezTo>
                  <a:pt x="9798" y="16661"/>
                  <a:pt x="9798" y="16677"/>
                  <a:pt x="9798" y="1669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Ink 9"/>
          <p:cNvSpPr/>
          <p:nvPr/>
        </p:nvSpPr>
        <p:spPr>
          <a:xfrm>
            <a:off x="1054080" y="65181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927" y="18107"/>
                </a:moveTo>
                <a:lnTo>
                  <a:pt x="2927" y="18107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7:37:31Z</dcterms:created>
  <dc:creator>jnewman</dc:creator>
  <dc:description/>
  <dc:language>en-US</dc:language>
  <cp:lastModifiedBy>abeason</cp:lastModifiedBy>
  <dcterms:modified xsi:type="dcterms:W3CDTF">2009-09-04T12:23:47Z</dcterms:modified>
  <cp:revision>10</cp:revision>
  <dc:subject/>
  <dc:title>Monday, September 10th</dc:title>
</cp:coreProperties>
</file>